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1A8-F143-4AC5-A9AF-B07DA739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557-87E0-4E03-9F77-5014DCED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C1E-4599-47C0-99F7-54DAF036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3B2-AEA4-4B0C-8DF3-0354B8D8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891-BDC0-4CDE-B97F-DB97C484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76C-E51F-4D2B-869B-DA49221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6E2-89AE-46E1-AC3E-D0360EE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93B-E921-410A-9EDB-972B9193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0E7-05DE-448F-90DE-5B7F40E2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B94-FA50-40B0-BF02-5539B30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010-5126-4D18-B9E2-B0B0B4B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E0E-40F5-4D6C-B622-5DE33C3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93B-258B-469F-8492-650D3FD7E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4440" y="495360"/>
          <a:ext cx="8163000" cy="67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6300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fibonacci(i)=i-ésimo de 0,1,1,2,3,5,8,13,21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(x,y)=x!/(y!(x-y)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Combinaciones(10,2)=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: combinaciones de 10 esferas numeradas 0 a 9 tomados de 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invertir(x): escribe x al re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ej: invertir(12345) escribe 5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&lt;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1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&gt;=1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combinacionesDigitos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y=x+1; y&lt;=9; ++y)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1:case 3:case 5:case 7:case 8:case 10:case 12:return 31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e 2: return bisies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1640"/>
          <a:ext cx="7683480" cy="622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7683480" cy="622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siOno(“acepta a esta mujer como esposa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inverso(1234)=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inverso(“”+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17600"/>
          <a:ext cx="8271000" cy="67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17600"/>
                    <a:ext cx="8271000" cy="67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70080"/>
            <a:ext cx="946800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{System.out.println(x)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System.out.print(x)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terminar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ctura/escritura y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írculo y cuadrado inscrit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=2*r/Math.sqrt(2);//lado 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(2*Math.PI*r+4*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(Math.PI*r*r-a*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5569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orcentajes de enteros a,b,c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 = U.readInt(“a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 = U.readInt(“b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 = U.readInt(“c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a=” + a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b=” + b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c=” + c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predefin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: definición y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 = x/10000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 = x/10000 % 1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 x % 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10000 + m*100 + 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2=U.readInt(“fecha2(DDMMAAAA)?”); U.println(“mayor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ax( aaaammdd(f1), aaaammdd(f2) 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2; double p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p*x; i=i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&gt;=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1/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fin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8-04-02T16:03:02Z</dcterms:modified>
  <cp:revision>41</cp:revision>
  <dc:subject/>
  <dc:title>Diapositiva 1</dc:title>
</cp:coreProperties>
</file>