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0A2-4B65-46D9-A4F5-879952FE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EC0-F475-4534-A5C9-5EFF20A9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CCF-FDB2-4959-ADE1-E07347A2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8C1-BC6C-4E15-B99E-2B23E855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CAE-09B9-44E1-BC29-7C479A3A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F26-6961-4C5F-BA2A-1773CCFA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187-6592-4D88-ADD5-416DBFAB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2D0-CC4E-4747-A641-ABEDACF4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01D-114D-4D60-85CC-95017F1A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3C46-1A08-4E00-B6B5-76B9ADF3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21C-E696-4928-9354-6CA15142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35A-0D3F-47FD-8D67-0D3BCD15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F879-C761-4DA1-A54D-F40BB00A1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urier New"/>
              </a:rPr>
              <a:t>str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4440" y="495360"/>
          <a:ext cx="8163000" cy="67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63000" cy="67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fibonacci(i)=i-ésimo de 0,1,1,2,3,5,8,13,21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=2) return i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mbinaciones(x,y)=x!/(y!(x-y)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//c(x,y)=c(x-1,y)+c(x-1,y-1); c(x,x)=c(x,0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y || 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Combinaciones(10,2)=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j: combinaciones de 10 esferas numeradas 0 a 9 tomados de 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s void recur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invertir(x): escribe x al re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ej: invertir(12345) escribe 5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verti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x&lt;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(x); //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else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(x%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verti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/1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ternativ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verti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(x%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x&gt;=10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verti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/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!=0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+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umero,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void combinacionesDigitos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=0,n=0; x&lt;=9; ++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y=x+1; y&lt;=9; ++y)//int y=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!=y) U.println(++n +”:”+x +“,“+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diasMes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1:case 3:case 5:case 7:case 8:case 10:case 12:return 31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4:case 6:case 9:case 11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turn 3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e 2: return bisiesto(a) ? 29 :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95360" y="431640"/>
          <a:ext cx="7683480" cy="622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31640"/>
                    <a:ext cx="7683480" cy="622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686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Ej: siOno(“acepta a esta mujer como esposa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Ej: inverso(“roma”)=“a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Ej: inverso(1234)=4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teger.parseInt(inverso(“”+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6800" y="417600"/>
          <a:ext cx="8271000" cy="67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17600"/>
                    <a:ext cx="8271000" cy="67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70080"/>
            <a:ext cx="9468000" cy="61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x){System.out.println(x);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System.out.print(x);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ort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xit(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//terminar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ectura/escritura y asig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irc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Círculo y cuadrado inscrit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r=U.readDouble(“radio?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a=2*r/Math.sqrt(2);//lado cuad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perímetro=“ + (2*Math.PI*r+4*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área=“ + (Math.PI*r*r-a*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55692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orcentajes de enteros a,b,c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 = U.readInt(“a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b = U.readInt(“b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c = U.readInt(“c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”a=” + a*factor + ”%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”b=” + b*factor + ”%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”c=” + c*factor + ”%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: operador de resto de div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inverso=”+d3+d2+d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t d=U.readInt(“¿Cuánto dinero necesita?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U.println(d/20000+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e $20.000”);d=d%2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,println(d/10000+” de $10.000”);d=d%1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5000+” de $5.000”);d=d%5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2000+” de $2.000”);d=d%2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1000+” de $1.000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predefin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41360" y="1003320"/>
          <a:ext cx="85662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003320"/>
                    <a:ext cx="85662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: definición y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 = x/100000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 = x/10000 % 10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 x % 1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a*10000 + m*100 + 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void main(String[]args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f1=U.readInt(“fecha1(DDMMAAAA)?”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2=U.readInt(“fecha2(DDMMAAAA)?”); U.println(“mayor=“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th.max( aaaammdd(f1), aaaammdd(f2) 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instrucciones (if-el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4||m==6||m==9||m==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etición instrucciones (wh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tabla celsius - fahren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g&lt;=40)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(double x,int y)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y==0 &amp;&amp; x==0) U.abortar(“0^0 indefinido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i=2; double p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&lt;=Math.abs(y)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=p*x; i=i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y&gt;=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1/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trones para proceso de li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ïnicializar             //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1º                 //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hasta fin         //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               //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sgte               //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                 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finalizar                //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 U.println(“mayor=“+may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8-04-02T16:03:02Z</dcterms:modified>
  <cp:revision>41</cp:revision>
  <dc:subject/>
  <dc:title>Diapositiva 1</dc:title>
</cp:coreProperties>
</file>