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F3C-AD7A-4ACB-9F9D-D3FFB441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731-7976-4916-9B7C-30E9941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E0C-035D-48B3-BEB2-45E5A3DA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7B4-989E-4C7D-A7CD-0437A421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7FA-E5C0-495D-B80D-B8E3D19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7F3-1DB6-448C-B3D7-1A49752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DB3-D5E2-44AB-AF8D-46B3327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08F-3ADD-4ACE-848E-6C6CD75A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4C1-5E1D-455A-9B8C-2F54B8B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692-4F09-42A0-8210-D6A6FFA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8BD-4539-468B-BAF1-1B88A0F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01A-16E4-4309-84BA-855692E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1CB-A1E6-48A2-8BC1-6E6F6FEB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5360" y="419040"/>
          <a:ext cx="848340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4834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331480" cy="58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331480" cy="58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3840" y="444600"/>
          <a:ext cx="8572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44600"/>
                    <a:ext cx="8572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O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)//recu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17680"/>
          <a:ext cx="7759440" cy="67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17680"/>
                    <a:ext cx="7759440" cy="67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8-03-31T15:15:51Z</dcterms:modified>
  <cp:revision>29</cp:revision>
  <dc:subject/>
  <dc:title>Sin título de diapositiva</dc:title>
</cp:coreProperties>
</file>