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AED-A4A9-4EB1-BC97-01794E30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9AD-6E6E-4D57-8BF5-B9B5872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D8D-DF8C-48BE-B577-484E0721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4BB-C74D-4611-8BC8-767EF0D2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323-B8BE-4833-8155-AE6C63E1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89B-BB92-4718-BB54-B7550DB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F2B-0AA1-4248-AE8F-86CED755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972-FDA2-4EF6-AEF5-C8C54C0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21E-C910-4ABD-8D57-DAEDFF4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696-C553-4549-8722-13B8D65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06B-F90E-45C3-8DBD-22E1E2F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EFE-FD98-47A9-A005-39DB192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0A9-ABFE-4213-B008-7FF5544A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5360" y="419040"/>
          <a:ext cx="848340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48340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331480" cy="58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331480" cy="58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3840" y="444600"/>
          <a:ext cx="8572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44600"/>
                    <a:ext cx="8572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O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)//recu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17680"/>
          <a:ext cx="7759440" cy="67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17680"/>
                    <a:ext cx="7759440" cy="67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8-03-31T15:15:51Z</dcterms:modified>
  <cp:revision>29</cp:revision>
  <dc:subject/>
  <dc:title>Sin título de diapositiva</dc:title>
</cp:coreProperties>
</file>