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2F3-E70F-4120-9407-128F928C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1A6-E5F7-4DF4-9045-724B6D82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871-41C9-48C1-9C4F-28C5F735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214-7EDA-4B6B-A57D-5CDAD3AD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4F7-D5CB-4D32-8F16-D3A627F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51E-D401-4ADA-8556-425995E5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297-D14F-4B53-89CB-B99438CB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39A-A7AF-4144-8FE7-A74D1E5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A77-AF9F-4748-8C7E-F98E6D2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F21-232F-4FBD-86B8-1D6E1E57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EDD-15D6-4093-9077-15B669AF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54F-E329-4159-9026-B2C049BA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118-1161-4F95-997F-9E1059C4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5360" y="419040"/>
          <a:ext cx="848340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48340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2960" y="528480"/>
          <a:ext cx="825336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528480"/>
                    <a:ext cx="825336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331480" cy="58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331480" cy="58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3840" y="444600"/>
          <a:ext cx="8572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44600"/>
                    <a:ext cx="8572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O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)//recu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6640" y="806400"/>
          <a:ext cx="754380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06400"/>
                    <a:ext cx="75438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17680"/>
          <a:ext cx="7759440" cy="67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17680"/>
                    <a:ext cx="7759440" cy="67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82640" y="806400"/>
          <a:ext cx="80010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8064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8-03-31T15:15:51Z</dcterms:modified>
  <cp:revision>29</cp:revision>
  <dc:subject/>
  <dc:title>Sin título de diapositiva</dc:title>
</cp:coreProperties>
</file>