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3D2-E772-4A65-BDE9-191D3041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0C5-304E-4C3B-9404-A7E9D758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548-01EB-4920-8F72-FD87AF60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6A0-E76D-42B8-84E4-665CC3B9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F15B-99F3-40B5-A6E5-DB5B999F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78BE-A04E-4F82-9676-CDC1151F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7B76-BCEB-4278-8A78-FF32BB91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1C1-1979-4C8C-88CC-396FE1BA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FC3-4ABA-4A1B-AEB7-6FE6A9CD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2BA-18EB-4FA9-8FDB-37FA2C34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3930-EE07-4D36-B094-F3DC15F6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9A02-8641-49B7-B5BA-2B519B32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4D7D-79D7-4D74-9386-E74A581DD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33320" y="554040"/>
          <a:ext cx="822960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2960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80960" y="469800"/>
          <a:ext cx="849492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9800"/>
                    <a:ext cx="849492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95360"/>
          <a:ext cx="82515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95360"/>
                    <a:ext cx="82515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27000" y="793800"/>
          <a:ext cx="7747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3800"/>
                    <a:ext cx="7747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04720" y="409680"/>
          <a:ext cx="8218440" cy="729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409680"/>
                    <a:ext cx="8218440" cy="729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73200" y="444600"/>
          <a:ext cx="790560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790560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792000"/>
          <a:ext cx="8301240" cy="555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792000"/>
                    <a:ext cx="8301240" cy="55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20840" y="420840"/>
          <a:ext cx="845820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20840"/>
                    <a:ext cx="845820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95360" y="431640"/>
          <a:ext cx="8445600" cy="824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31640"/>
                    <a:ext cx="8445600" cy="824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33320" y="457200"/>
          <a:ext cx="792972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57200"/>
                    <a:ext cx="792972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07960" y="495360"/>
          <a:ext cx="839484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95360"/>
                    <a:ext cx="839484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07960" y="495360"/>
          <a:ext cx="835668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95360"/>
                    <a:ext cx="83566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69800" y="330120"/>
          <a:ext cx="8318520" cy="69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30120"/>
                    <a:ext cx="8318520" cy="69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07960" y="495360"/>
          <a:ext cx="84837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95360"/>
                    <a:ext cx="8483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07960" y="457200"/>
          <a:ext cx="854712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57200"/>
                    <a:ext cx="854712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511200" y="496800"/>
          <a:ext cx="835020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96800"/>
                    <a:ext cx="835020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14520" y="588960"/>
          <a:ext cx="8240400" cy="54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88960"/>
                    <a:ext cx="824040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62040" y="601560"/>
          <a:ext cx="8192880" cy="53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601560"/>
                    <a:ext cx="819288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816120"/>
          <a:ext cx="76564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564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57080" y="685800"/>
          <a:ext cx="7977240" cy="75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685800"/>
                    <a:ext cx="7977240" cy="75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33440" y="480960"/>
          <a:ext cx="8518320" cy="70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80960"/>
                    <a:ext cx="8518320" cy="70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58720" y="482760"/>
          <a:ext cx="815364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482760"/>
                    <a:ext cx="815364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5-03-29T16:14:14Z</cp:lastPrinted>
  <dcterms:modified xsi:type="dcterms:W3CDTF">2008-03-26T11:43:42Z</dcterms:modified>
  <cp:revision>34</cp:revision>
  <dc:subject/>
  <dc:title>Sin título de diapositiva</dc:title>
</cp:coreProperties>
</file>