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E2C-9239-4A52-BBBA-F1AAC51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F5F-8F7A-4872-BB07-6F9E7C1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DF6-6232-4BD2-AA0C-F49A50D5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FA8-E26C-4D5B-9AA6-FFA30528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E8C-8214-4135-AC07-0DD3E8F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CE0-A2A4-4E8F-AA27-98A1072F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6AA-67E4-4642-B0AB-7978E1E7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469-B667-442A-93E3-37B2BD1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32E-E8EA-47D5-B2A3-52BF976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9EB-BAF7-4286-B526-A5B1EA13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561-135D-466B-9644-27A349F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160-227A-4DAF-8971-F04F10B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831-44F8-4761-B59A-E057F656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72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72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056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056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5360" y="431640"/>
          <a:ext cx="8445600" cy="824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8445600" cy="82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7960" y="495360"/>
          <a:ext cx="83948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948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7960" y="495360"/>
          <a:ext cx="835668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56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07960" y="495360"/>
          <a:ext cx="8483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48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07960" y="457200"/>
          <a:ext cx="854712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54712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1200" y="496800"/>
          <a:ext cx="835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35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8-03-26T11:43:42Z</dcterms:modified>
  <cp:revision>34</cp:revision>
  <dc:subject/>
  <dc:title>Sin título de diapositiva</dc:title>
</cp:coreProperties>
</file>