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514-065C-45C0-82D3-48E4EE1A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52B8-7911-4900-B963-CAFF74EF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4DC7-A1C5-49F7-AA7B-861D0B1D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FC8-27C5-45AE-9D60-1CE451EA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E40-C54B-41DA-84CC-D9BAE203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018E-8FB2-4815-8C15-582B2A6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50A-441A-4429-9256-8AB0B0F0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EA9-4A56-4604-95B8-CCD7789B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1F3-D8AF-449C-B669-015AB11B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CF6-942B-4B40-8F7F-4A78CD97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732-A017-4233-B3DA-6517AC8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AC1-3F78-4D6D-923F-BB1D9CE6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CE1C-65E5-41E8-B5E6-5FA413160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04720" y="409680"/>
          <a:ext cx="8218440" cy="729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409680"/>
                    <a:ext cx="8218440" cy="72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73200" y="444600"/>
          <a:ext cx="7905600" cy="620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905600" cy="62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55560" y="792000"/>
          <a:ext cx="8301240" cy="555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792000"/>
                    <a:ext cx="8301240" cy="55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20840" y="420840"/>
          <a:ext cx="845820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20840"/>
                    <a:ext cx="845820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95360" y="431640"/>
          <a:ext cx="8445600" cy="824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31640"/>
                    <a:ext cx="8445600" cy="824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507960" y="495360"/>
          <a:ext cx="839484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9484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07960" y="495360"/>
          <a:ext cx="835668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3566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507960" y="495360"/>
          <a:ext cx="848376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95360"/>
                    <a:ext cx="84837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07960" y="457200"/>
          <a:ext cx="854712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457200"/>
                    <a:ext cx="854712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511200" y="496800"/>
          <a:ext cx="835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96800"/>
                    <a:ext cx="835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5-03-29T16:14:14Z</cp:lastPrinted>
  <dcterms:modified xsi:type="dcterms:W3CDTF">2008-03-26T11:43:42Z</dcterms:modified>
  <cp:revision>34</cp:revision>
  <dc:subject/>
  <dc:title>Sin título de diapositiva</dc:title>
</cp:coreProperties>
</file>