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AF6-3771-47D3-85A6-D17C2D76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8EC-0FE7-4AF0-84B9-B8FC73B6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B0B-B125-4E85-9003-FCCA5855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BC3-F437-4510-BDB8-EEDA574A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6AA-F206-4C01-A7BA-14833552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8AA-2229-48AB-A8DF-2EE226FB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702-4EB5-4F6F-A9DA-A6CCF156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0E4-C29A-4193-88DE-C8B17481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04C-E4BA-4EA6-AA3E-7727B9FA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501-81B7-4E2C-A2CA-FBE5D040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E49-D688-49A3-8FCB-F10C4ADD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ADD-1917-4FEE-B07D-EFD9791B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229C-7B64-46B7-938E-63A7945FC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27000" y="793800"/>
          <a:ext cx="7747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3800"/>
                    <a:ext cx="7747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4720" y="409680"/>
          <a:ext cx="8218440" cy="729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09680"/>
                    <a:ext cx="8218440" cy="72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73200" y="444600"/>
          <a:ext cx="790560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90560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792000"/>
          <a:ext cx="8301240" cy="555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792000"/>
                    <a:ext cx="8301240" cy="55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20840" y="420840"/>
          <a:ext cx="845820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20840"/>
                    <a:ext cx="845820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5360" y="431640"/>
          <a:ext cx="8445600" cy="824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31640"/>
                    <a:ext cx="8445600" cy="824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07960" y="495360"/>
          <a:ext cx="839484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95360"/>
                    <a:ext cx="83948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07960" y="495360"/>
          <a:ext cx="835668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95360"/>
                    <a:ext cx="83566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69800" y="330120"/>
          <a:ext cx="8318520" cy="69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30120"/>
                    <a:ext cx="831852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07960" y="495360"/>
          <a:ext cx="84837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95360"/>
                    <a:ext cx="8483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07960" y="457200"/>
          <a:ext cx="854712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57200"/>
                    <a:ext cx="854712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11200" y="496800"/>
          <a:ext cx="835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96800"/>
                    <a:ext cx="835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58720" y="482760"/>
          <a:ext cx="815364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82760"/>
                    <a:ext cx="81536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3-29T16:14:14Z</cp:lastPrinted>
  <dcterms:modified xsi:type="dcterms:W3CDTF">2008-03-26T11:43:42Z</dcterms:modified>
  <cp:revision>34</cp:revision>
  <dc:subject/>
  <dc:title>Sin título de diapositiva</dc:title>
</cp:coreProperties>
</file>