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BCD1-C595-411C-A6A2-67BAE2F8C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90E3-174F-4375-8943-0D817E31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BDE1-EAF3-409F-8C48-CDB14F6D2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4912-3986-4A82-9686-315DED98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4800-F762-423D-AD82-27AE7618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A5A6-C458-4234-836F-F032BD90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85E6-E0BA-405A-86D1-31D78ED9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FBA6-684F-4668-B73E-E89E39AA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E5AD-D318-4537-BB1D-D5EA98D2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8A09-17CB-47A6-9EA7-C6685DB1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BFF1-323C-4C41-9ACB-FFBE1B3E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36C5-8411-46AF-A9D9-2CB278EF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14F7-243E-4E12-978C-F2F216887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95480" y="601560"/>
          <a:ext cx="7315200" cy="762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5480" y="601560"/>
                    <a:ext cx="7315200" cy="762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93800" y="722160"/>
          <a:ext cx="812160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722160"/>
                    <a:ext cx="81216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66800" y="681120"/>
          <a:ext cx="7991280" cy="707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681120"/>
                    <a:ext cx="7991280" cy="70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43040" y="803160"/>
          <a:ext cx="7904160" cy="52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803160"/>
                    <a:ext cx="790416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30200" y="457200"/>
          <a:ext cx="8686800" cy="625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57200"/>
                    <a:ext cx="8686800" cy="62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96800" y="646200"/>
          <a:ext cx="8472600" cy="680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646200"/>
                    <a:ext cx="8472600" cy="68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11200" y="766800"/>
          <a:ext cx="8458200" cy="668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766800"/>
                    <a:ext cx="8458200" cy="66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50800" y="511200"/>
          <a:ext cx="8337600" cy="681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11200"/>
                    <a:ext cx="8337600" cy="68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50800" y="511200"/>
          <a:ext cx="8096400" cy="66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11200"/>
                    <a:ext cx="8096400" cy="66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étodos (funciones) propuestos (iterativos y/o recursiv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tencia(x,y)  y:en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inario(13) escribe 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verso(123) entrega 321 (fun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inimoComunMultiplo(3,4) entrega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rfecto(6)=true porque 1+2+3=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o(7) entrega true, primo(9)=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osRelativos(4,9)=tru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osRelativos(3,9)=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263600" y="793800"/>
          <a:ext cx="705024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793800"/>
                    <a:ext cx="705024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39680" y="779400"/>
          <a:ext cx="749628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779400"/>
                    <a:ext cx="749628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336680" y="952560"/>
          <a:ext cx="5294160" cy="483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952560"/>
                    <a:ext cx="529416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70040" y="480960"/>
          <a:ext cx="8169120" cy="62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480960"/>
                    <a:ext cx="8169120" cy="62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70040" y="480960"/>
          <a:ext cx="8024760" cy="64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480960"/>
                    <a:ext cx="8024760" cy="64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46280" y="588960"/>
          <a:ext cx="8145360" cy="754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588960"/>
                    <a:ext cx="8145360" cy="75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915840" y="619200"/>
          <a:ext cx="737244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19200"/>
                    <a:ext cx="737244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130400" y="927000"/>
          <a:ext cx="7351560" cy="52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927000"/>
                    <a:ext cx="735156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alvarez</dc:creator>
  <dc:description/>
  <dc:language>en-US</dc:language>
  <cp:lastModifiedBy>jalvarez</cp:lastModifiedBy>
  <cp:lastPrinted>2006-03-22T18:37:38Z</cp:lastPrinted>
  <dcterms:modified xsi:type="dcterms:W3CDTF">2008-03-24T17:56:06Z</dcterms:modified>
  <cp:revision>24</cp:revision>
  <dc:subject/>
  <dc:title>Sin título de diapositiva</dc:title>
</cp:coreProperties>
</file>