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82F-3C30-4033-AB97-3D04424B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19A-C375-4D50-BFED-F19B91CC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1D9-00BD-437F-8EC6-99D90B85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A48-620C-4C69-8FB2-246609BD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1C2-59CD-4BD3-96F2-F8D1232F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9F3-BEEF-4A09-9457-9C9D2B6F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C56-F650-4F6E-92C0-B4678A84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6EA-4D2A-440D-83DA-51E71262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D60-E744-44C7-B73E-4B06D201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CC6-F7BD-4595-BA68-2B6E54A4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BFE-6097-4FF3-8164-AA5103DE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2CB-F1E8-4AE5-A7BA-761977A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8DFE-2F19-4C4E-A3A5-68B26C3A3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86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86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1200" y="766800"/>
          <a:ext cx="8458200" cy="66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766800"/>
                    <a:ext cx="8458200" cy="66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tencia(x,y)  y: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8-03-24T17:56:06Z</dcterms:modified>
  <cp:revision>24</cp:revision>
  <dc:subject/>
  <dc:title>Sin título de diapositiva</dc:title>
</cp:coreProperties>
</file>