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982-84CD-4DC6-BD61-B6102BF0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56B-8CD7-4388-B69F-09B9D0C7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6A3-A3CC-47C0-9D71-45EDCD7E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DCD-5217-4EF7-B488-91FA85C5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C5E-EA15-4AD6-AF5F-CCAF9CCB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806-128E-408F-9D57-81ED9299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D96-7750-41C5-94E9-F8821B27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5FE-E776-43B4-A6C1-482D2995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9B7-A1B0-4DD1-BDC0-835B03D6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3A7-694B-42B6-B98B-DE824FA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8EF-9B2A-4E2B-9BFF-3E50B1B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D94-9E1B-4518-9244-EE6C79A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AF07-F6D0-4FB9-9C30-5F8798205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86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86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1200" y="766800"/>
          <a:ext cx="8458200" cy="66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766800"/>
                    <a:ext cx="8458200" cy="66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tencia(x,y)  y: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8-03-24T17:56:06Z</dcterms:modified>
  <cp:revision>24</cp:revision>
  <dc:subject/>
  <dc:title>Sin título de diapositiva</dc:title>
</cp:coreProperties>
</file>