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A2A6-A6F2-4008-8CD2-F7BA50B03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9E31-45FC-4917-929C-614F0E0E4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B9B0-32EF-44BF-8C21-ABA71BB8A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165C-4B1B-4298-8113-CB2D44A9E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80BE-72F6-48EC-9583-C32390E75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43B5-BE56-4736-9E72-0253A0288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FEC4-92BF-452C-83B1-BC43AE87B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B637-5CF5-46B8-9712-6EF03CA6F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D60D-AF8B-4430-8A74-094F21BA0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7473-C5E6-476D-91DE-B9ED101E2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D337-427C-49B1-8670-D7B773E84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D6DE-E876-47F8-9A44-63DC1818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58B1C-79AC-44DC-A46A-44CDE94C7B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95480" y="601560"/>
          <a:ext cx="7315200" cy="762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5480" y="601560"/>
                    <a:ext cx="7315200" cy="762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93800" y="722160"/>
          <a:ext cx="8121600" cy="617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3800" y="722160"/>
                    <a:ext cx="812160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66800" y="681120"/>
          <a:ext cx="7991280" cy="7075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681120"/>
                    <a:ext cx="7991280" cy="707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743040" y="803160"/>
          <a:ext cx="7904160" cy="524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803160"/>
                    <a:ext cx="7904160" cy="52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30200" y="457200"/>
          <a:ext cx="8686800" cy="625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0200" y="457200"/>
                    <a:ext cx="8686800" cy="62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96800" y="646200"/>
          <a:ext cx="8472600" cy="680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646200"/>
                    <a:ext cx="8472600" cy="68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511200" y="766800"/>
          <a:ext cx="8458200" cy="668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766800"/>
                    <a:ext cx="8458200" cy="668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550800" y="511200"/>
          <a:ext cx="8337600" cy="681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00" y="511200"/>
                    <a:ext cx="8337600" cy="681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550800" y="511200"/>
          <a:ext cx="8096400" cy="66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00" y="511200"/>
                    <a:ext cx="8096400" cy="66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étodos (funciones) propuestos (iterativos y/o recursiv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tencia(x,y)  y:ent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inario(13) escribe 1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verso(123) entrega 321 (fun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inimoComunMultiplo(3,4) entrega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erfecto(6)=true porque 1+2+3=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imo(7) entrega true, primo(9)=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imosRelativos(4,9)=tru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imosRelativos(3,9)=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263600" y="793800"/>
          <a:ext cx="7050240" cy="53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3600" y="793800"/>
                    <a:ext cx="7050240" cy="53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039680" y="779400"/>
          <a:ext cx="7496280" cy="591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9680" y="779400"/>
                    <a:ext cx="7496280" cy="59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336680" y="952560"/>
          <a:ext cx="5294160" cy="483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6680" y="952560"/>
                    <a:ext cx="5294160" cy="48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70040" y="480960"/>
          <a:ext cx="8169120" cy="628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0040" y="480960"/>
                    <a:ext cx="8169120" cy="628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770040" y="480960"/>
          <a:ext cx="8024760" cy="644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0040" y="480960"/>
                    <a:ext cx="8024760" cy="64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46280" y="588960"/>
          <a:ext cx="8145360" cy="754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280" y="588960"/>
                    <a:ext cx="8145360" cy="754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915840" y="619200"/>
          <a:ext cx="7372440" cy="623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619200"/>
                    <a:ext cx="7372440" cy="62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130400" y="927000"/>
          <a:ext cx="7351560" cy="526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0400" y="927000"/>
                    <a:ext cx="7351560" cy="52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2T19:33:58Z</dcterms:created>
  <dc:creator>jalvarez</dc:creator>
  <dc:description/>
  <dc:language>en-US</dc:language>
  <cp:lastModifiedBy>jalvarez</cp:lastModifiedBy>
  <cp:lastPrinted>2006-03-22T18:37:38Z</cp:lastPrinted>
  <dcterms:modified xsi:type="dcterms:W3CDTF">2008-03-24T17:56:06Z</dcterms:modified>
  <cp:revision>24</cp:revision>
  <dc:subject/>
  <dc:title>Sin título de diapositiva</dc:title>
</cp:coreProperties>
</file>