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EE5-884E-4A01-A6DF-08683EE4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305-0295-4AFE-8C19-C93D61E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67E-21E3-468D-B019-3446F92B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D2E-3067-4E2B-B0E2-ADD645B3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340-A64B-4820-B23C-DB5D4066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FF3-7ADD-421D-A9F9-83C39F4D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367-9198-4E70-A441-0FA14801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869-BEB6-439A-AA6F-309FE3F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683-D281-41CD-8FAD-F208FE08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9DC-466A-470C-BA23-73E8034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BD5-933A-45B1-B4F1-C3DD1BF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220-12D1-41A3-8444-7918990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450F-8598-4A09-9724-835FA004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533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1200" y="538200"/>
          <a:ext cx="8269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38200"/>
                    <a:ext cx="8269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9800" y="550800"/>
          <a:ext cx="808200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550800"/>
                    <a:ext cx="808200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4200" y="444600"/>
          <a:ext cx="843120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44600"/>
                    <a:ext cx="843120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476280"/>
          <a:ext cx="7893000" cy="65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93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3200" y="444600"/>
          <a:ext cx="88488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44600"/>
                    <a:ext cx="88488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03200" y="403200"/>
          <a:ext cx="880740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03200"/>
                    <a:ext cx="880740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0200"/>
          <a:ext cx="82296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0200"/>
                    <a:ext cx="82296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8-03-19T14:56:58Z</dcterms:modified>
  <cp:revision>31</cp:revision>
  <dc:subject/>
  <dc:title>Sin título de diapositiva</dc:title>
</cp:coreProperties>
</file>