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E97-32F8-43A2-A63F-24441A9F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CAA-E892-4181-B002-10D0614A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C82F-830A-4B0A-9414-6EC633A8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80A-B653-4370-A0CE-6060BD91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480-9453-472E-9864-E2698D91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6D7-95DC-45C3-B71C-B0470B1F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33A-A527-4D46-A9C7-7D185A94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176-2F8E-4791-A7E1-1F6159B7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B9D-5045-4AE4-A388-077D9D0E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E9D-D91E-45C9-BAF0-1251CA9D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E0D-BDCE-467B-B8F8-881CCB02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9F2-45B0-4E66-A671-C68C268B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0F95-0A3F-4423-A699-BF217F87C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88920" y="766800"/>
          <a:ext cx="7632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766800"/>
                    <a:ext cx="7632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33320" y="554040"/>
          <a:ext cx="8253360" cy="62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53360" cy="62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1200" y="538200"/>
          <a:ext cx="826920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38200"/>
                    <a:ext cx="826920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39800" y="550800"/>
          <a:ext cx="808200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550800"/>
                    <a:ext cx="808200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84200" y="444600"/>
          <a:ext cx="8431200" cy="69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44600"/>
                    <a:ext cx="8431200" cy="69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476280"/>
          <a:ext cx="7893000" cy="65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7893000" cy="65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3200" y="444600"/>
          <a:ext cx="8848800" cy="60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44600"/>
                    <a:ext cx="8848800" cy="60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03200" y="403200"/>
          <a:ext cx="880740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03200"/>
                    <a:ext cx="880740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6800" y="430200"/>
          <a:ext cx="82296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0200"/>
                    <a:ext cx="82296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01560"/>
          <a:ext cx="8193240" cy="55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1560"/>
                    <a:ext cx="819324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7360" y="685800"/>
          <a:ext cx="664236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685800"/>
                    <a:ext cx="664236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08-03-19T14:56:58Z</dcterms:modified>
  <cp:revision>31</cp:revision>
  <dc:subject/>
  <dc:title>Sin título de diapositiva</dc:title>
</cp:coreProperties>
</file>