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77C-FFBF-4597-A754-682F5067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2B9-D442-4177-AD17-1BC02B02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E37-3FD9-4BAB-87A3-3A8C0D0F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913-17C5-4881-9178-1A97E49D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126-DAF5-4832-8FA9-C7EEA2C2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CD4-B112-44CF-B05E-5B120CCE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1E8-4EA5-4598-9249-85225993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3B8-F718-4847-A1CF-36030614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5D2-14AC-4637-8B42-801C54A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8C2-C2D7-42F5-A39A-AC655622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16C-B614-42EB-A396-F04BF9D9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AB7-8EFB-4C19-BD3D-4FF5F016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D8A9-AEB8-4645-B2E2-860DA6CC4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533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1200" y="538200"/>
          <a:ext cx="8269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38200"/>
                    <a:ext cx="8269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9800" y="550800"/>
          <a:ext cx="808200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550800"/>
                    <a:ext cx="808200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4200" y="444600"/>
          <a:ext cx="843120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44600"/>
                    <a:ext cx="843120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476280"/>
          <a:ext cx="7893000" cy="65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93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3200" y="444600"/>
          <a:ext cx="88488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44600"/>
                    <a:ext cx="88488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03200" y="403200"/>
          <a:ext cx="880740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03200"/>
                    <a:ext cx="880740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0200"/>
          <a:ext cx="82296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0200"/>
                    <a:ext cx="82296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8-03-19T14:56:58Z</dcterms:modified>
  <cp:revision>31</cp:revision>
  <dc:subject/>
  <dc:title>Sin título de diapositiva</dc:title>
</cp:coreProperties>
</file>