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4DE8-DC52-4228-A906-A3167F38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E1BE-2F69-47D0-A467-7B8930B2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2F0B-73F5-4702-8B68-19E2C128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D034-F33E-4564-B3AF-259B3040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61E4-5B7D-4558-84C8-F308BDB3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D245-A06B-4942-AEA9-22E880B5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33C-29BC-43A3-8D04-7212736F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4BE0-55D3-4292-9852-598B5338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5DBC-E596-45E8-9D96-D78A175C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B544-C5A8-4D1A-A775-26B8864B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485E-18C5-4C6D-A102-BBEA46E3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33C6-F460-4AC1-A962-DFEB8D59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7C66-6865-43F9-87F2-970D0CDD1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88920" y="766800"/>
          <a:ext cx="7632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766800"/>
                    <a:ext cx="7632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33320" y="554040"/>
          <a:ext cx="8253360" cy="620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53360" cy="62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11200" y="538200"/>
          <a:ext cx="826920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38200"/>
                    <a:ext cx="826920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39800" y="550800"/>
          <a:ext cx="8082000" cy="62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550800"/>
                    <a:ext cx="808200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84200" y="444600"/>
          <a:ext cx="8431200" cy="69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44600"/>
                    <a:ext cx="8431200" cy="69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1280" y="476280"/>
          <a:ext cx="7893000" cy="65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76280"/>
                    <a:ext cx="7893000" cy="65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712800" y="592200"/>
          <a:ext cx="7005600" cy="58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592200"/>
                    <a:ext cx="700560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03200" y="444600"/>
          <a:ext cx="8848800" cy="609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44600"/>
                    <a:ext cx="8848800" cy="60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03200" y="403200"/>
          <a:ext cx="8807400" cy="63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03200"/>
                    <a:ext cx="880740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96800" y="430200"/>
          <a:ext cx="8229600" cy="61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30200"/>
                    <a:ext cx="8229600" cy="61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85800" y="601560"/>
          <a:ext cx="8193240" cy="551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1560"/>
                    <a:ext cx="819324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88920" y="655560"/>
          <a:ext cx="7336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336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30360" y="630360"/>
          <a:ext cx="820260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20260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981080"/>
          <a:ext cx="7918560" cy="414036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2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17680" y="517680"/>
          <a:ext cx="8350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350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11200" y="523800"/>
          <a:ext cx="8350200" cy="58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23800"/>
                    <a:ext cx="8350200" cy="58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287360" y="685800"/>
          <a:ext cx="664236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7360" y="685800"/>
                    <a:ext cx="664236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08-03-19T14:56:58Z</dcterms:modified>
  <cp:revision>31</cp:revision>
  <dc:subject/>
  <dc:title>Sin título de diapositiva</dc:title>
</cp:coreProperties>
</file>