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A9F-7F51-47C7-9AEB-8E8F633F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67F-629F-4395-AECC-89C537E7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5EE-BBB2-4E81-A150-965EBA47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F56-3E28-4FC9-A061-6A9C5DB3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082-ED2E-4311-9FE5-4D5E7B00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1A29-0426-4703-AE32-2202B320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290-B99A-41D5-BD2C-5D61FBD5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17C-8913-4554-A366-833310EA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13C-23CE-4DFC-8297-AF51A765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934-2B73-4264-A9CB-3C46AC7B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542B-B484-4AC4-9A98-11B0EE8E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34D-D972-4693-A7EE-95F0E720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D9CC-16E1-4D41-B570-6F6DFFD89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4600" y="444600"/>
          <a:ext cx="8537400" cy="68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44600"/>
                    <a:ext cx="853740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07960" y="406440"/>
          <a:ext cx="8534520" cy="67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06440"/>
                    <a:ext cx="853452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Escribir los métodos iguales y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lass Programa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iguales(x,y,z): cantidad de números iguales (3,2, o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ej:iguales(1,2,3)=0,iguales(1,2,1)=2, iguales(1,1,1)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[]arg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álogo del programa princip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Tipo de triángulo de lados a,b,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a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b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c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equilátero,isósceles,escaleno,o“no forman triángulo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3 números forman un triángulo si son positivo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uma de 2 cualesquiera de ellos es mayor que el 3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 &amp;&amp; x==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 if(x==y || x==z || y==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2. Con if sin 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 &amp;&amp; x==z) return 3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 || x==z || y==z) return 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lución 3. Con condiciones si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) n=n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z) n=n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y==z) n=n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n==1) return 2; else return 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260280"/>
            <a:ext cx="87138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a&gt;0 &amp;&amp; b&gt;0 &amp;&amp; c&gt;0 &amp; a+b&gt;c &amp;&amp; a+c&gt;b &amp;&amp; b+c&gt;a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a&lt;=0 || b&lt;=0 || c&lt;=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 a+b&lt;=c || a+c&lt;=b || b+c&lt;=a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92200" y="484200"/>
          <a:ext cx="8335800" cy="767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484200"/>
                    <a:ext cx="8335800" cy="76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38080" y="495360"/>
          <a:ext cx="7963200" cy="62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95360"/>
                    <a:ext cx="7963200" cy="62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75560"/>
            <a:ext cx="842472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08-03-17T14:12:55Z</dcterms:modified>
  <cp:revision>28</cp:revision>
  <dc:subject/>
  <dc:title>Sin título de diapositiva</dc:title>
</cp:coreProperties>
</file>