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F3EB-1ED0-470C-8E06-A920643D8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2877-FA43-4287-B817-36EA3EB9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522E-D6B3-4F69-ADA9-85CCE5EAC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6D47-E40C-4A2C-9C5F-5E9DF8590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5832-496E-41AA-92F2-623AAB64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D18D-DD3F-477D-9918-59E05519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41C8-D223-4186-8F84-A5BFED0A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B4A7-D5E8-4E39-87C8-27A04783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AED2-3F20-4F57-86B2-FB5F717A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1910-545E-4BE5-8975-212C84EE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E144-773E-4DC7-97F2-68E8205B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7455-BE21-4EAE-80EB-600A6270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F311-B1C1-4853-930F-AC35B0C37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44600" y="444600"/>
          <a:ext cx="8537400" cy="683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44600"/>
                    <a:ext cx="853740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07960" y="406440"/>
          <a:ext cx="8534520" cy="678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06440"/>
                    <a:ext cx="8534520" cy="67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965160" y="606600"/>
          <a:ext cx="786780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606600"/>
                    <a:ext cx="786780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9647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Escribir los métodos iguales y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lass Programa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//iguales(x,y,z): cantidad de números iguales (3,2, o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//ej:iguales(1,2,3)=0,iguales(1,2,1)=2, iguales(1,1,1)=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iguales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,double y,double z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String[]arg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álogo del programa princip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Tipo de triángulo de lados a,b,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a? 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b? 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c? 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equilátero,isósceles,escaleno,o“no forman triángulo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3 números forman un triángulo si son positivos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suma de 2 cualesquiera de ellos es mayor que el 3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gual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,double y,double z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x==y &amp;&amp; x==z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3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se if(x==y || x==z || y==z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Solución 2. Con if sin 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x==y &amp;&amp; x==z) return 3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x==y || x==z || y==z) return 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olución 3. Con condiciones sim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x==y) n=n+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x==z) n=n+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y==z) n=n+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n==1) return 2; else return 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0920" y="260280"/>
            <a:ext cx="871380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Tipo de triángulo de lados a,b,c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=U.readDouble(“a?”),     b=U.readDouble(“b?”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=U.readDouble(“c?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 a&gt;0 &amp;&amp; b&gt;0 &amp;&amp; c&gt;0 &amp; a+b&gt;c &amp;&amp; a+c&gt;b &amp;&amp; b+c&gt;a 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=iguales(a,b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n == 3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equiláter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if( n == 2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isósceles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escalen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println(“no forman triángu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Tipo de triángulo de lados a,b,c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=U.readDouble(“a?”),     b=U.readDouble(“b?”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=U.readDouble(“c?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 a&lt;=0 || b&lt;=0 || c&lt;=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|| a+b&lt;=c || a+c&lt;=b || b+c&lt;=a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println(“no forman triángu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=iguales(a,b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n == 3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equiláter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if( n == 2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isósceles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escalen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901800" y="698400"/>
          <a:ext cx="7532640" cy="696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698400"/>
                    <a:ext cx="7532640" cy="69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592200" y="484200"/>
          <a:ext cx="8335800" cy="767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484200"/>
                    <a:ext cx="8335800" cy="767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38080" y="495360"/>
          <a:ext cx="7963200" cy="623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95360"/>
                    <a:ext cx="7963200" cy="62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475560"/>
            <a:ext cx="8424720" cy="60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3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nt x, 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058760" y="685800"/>
          <a:ext cx="7759800" cy="688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685800"/>
                    <a:ext cx="7759800" cy="68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058760" y="685800"/>
          <a:ext cx="7759800" cy="688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685800"/>
                    <a:ext cx="7759800" cy="68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914400" y="517680"/>
          <a:ext cx="725472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2547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058760" y="806400"/>
          <a:ext cx="7543800" cy="54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806400"/>
                    <a:ext cx="754380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6-03-17T17:08:51Z</cp:lastPrinted>
  <dcterms:modified xsi:type="dcterms:W3CDTF">2008-03-17T14:12:55Z</dcterms:modified>
  <cp:revision>28</cp:revision>
  <dc:subject/>
  <dc:title>Sin título de diapositiva</dc:title>
</cp:coreProperties>
</file>