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CF6-E0B9-44A3-A17A-E8788A2B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346-D34B-4D3A-BE8B-E2CC017A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DF1-846B-477B-AB08-F5EC613B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207-8CB4-413E-B746-F2C1EB46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197-849B-4C70-8317-D9260D08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E56-EBAD-450B-B5CA-F91C77F2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199-F032-4C0F-924C-5BBE4A8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771-9148-4897-95E4-66C72617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634-0C01-4B0F-8B41-F917BB0D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CAB-C175-41AE-8FEE-EA3FB25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448-665B-4C9E-884B-4FE7B9CF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3AB-A2FF-44EF-AF9C-A70F3778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50EE-1663-4D33-90CA-23978C215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44600"/>
          <a:ext cx="8537400" cy="68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44600"/>
                    <a:ext cx="8537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scribir los métodos iguales y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3 números forman un triángulo si son positiv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de 2 cualesquiera de ellos es mayor que el 3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2. Con if sin 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lución 3. Con condiciones si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260280"/>
            <a:ext cx="87138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 a+b&gt;c &amp;&amp; a+c&gt;b &amp;&amp; b+c&gt;a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2200" y="484200"/>
          <a:ext cx="8335800" cy="76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484200"/>
                    <a:ext cx="8335800" cy="76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495360"/>
          <a:ext cx="796320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95360"/>
                    <a:ext cx="796320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8-03-17T14:12:55Z</dcterms:modified>
  <cp:revision>28</cp:revision>
  <dc:subject/>
  <dc:title>Sin título de diapositiva</dc:title>
</cp:coreProperties>
</file>