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EE3-12F6-4B92-869D-FD2829F0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390-93CB-4784-A1FE-03770A43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33A3-B6A1-4B9A-8AB6-989A4167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819-5C37-4C96-AAB5-BBCF8171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2E6-CC4D-4B58-B1B6-5F8B2F9A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BA4-8D5F-46BC-AEE4-F4BDEE9B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3C1-182D-4E20-80C3-9D5A430A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F0F-1C0A-4D95-A07D-86EC8B5E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920-1E58-407D-ACC2-53F763CB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D3B-F002-4E8B-8679-B1C65CC8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D66-24DD-4644-B95A-D2C0BB3E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409-2887-4BEA-8CF2-FDCCA6A7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B713-E02A-489B-B405-417B4D744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4600" y="444600"/>
          <a:ext cx="8537400" cy="68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44600"/>
                    <a:ext cx="8537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07960" y="406440"/>
          <a:ext cx="8534520" cy="67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06440"/>
                    <a:ext cx="853452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Escribir los métodos iguales y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Programa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iguales(x,y,z): cantidad de números iguales (3,2, o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ej:iguales(1,2,3)=0,iguales(1,2,1)=2, iguales(1,1,1)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álogo del programa princip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Tipo de triángulo de lados a,b,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a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b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c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equilátero,isósceles,escaleno,o“no forman triángulo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3 números forman un triángulo si son positiv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uma de 2 cualesquiera de ellos es mayor que el 3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&amp;&amp; x==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 if(x==y || x==z || y==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2. Con if sin 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&amp;&amp; x==z) return 3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|| x==z || y==z) return 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lución 3. Con condiciones si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z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y==z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n==1) return 2; else return 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260280"/>
            <a:ext cx="87138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a&gt;0 &amp;&amp; b&gt;0 &amp;&amp; c&gt;0 &amp; a+b&gt;c &amp;&amp; a+c&gt;b &amp;&amp; b+c&gt;a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a&lt;=0 || b&lt;=0 || c&lt;=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 a+b&lt;=c || a+c&lt;=b || b+c&lt;=a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92200" y="484200"/>
          <a:ext cx="8335800" cy="767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484200"/>
                    <a:ext cx="8335800" cy="76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38080" y="495360"/>
          <a:ext cx="7963200" cy="62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95360"/>
                    <a:ext cx="7963200" cy="62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8-03-17T14:12:55Z</dcterms:modified>
  <cp:revision>28</cp:revision>
  <dc:subject/>
  <dc:title>Sin título de diapositiva</dc:title>
</cp:coreProperties>
</file>