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781-81BB-4CBB-B4C3-B22D1B27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72C-51BC-47FF-9A76-AB2DB18F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9B2-630A-49C6-BDD3-ED0A0A49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D11-0426-4055-920D-3F1C9F05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D20-8E2B-4930-93BD-95721D7B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697-05F6-4480-94C5-B979506E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89A-F007-4A5F-B56D-1AA79260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616-929F-4D68-8C14-6459A860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336-8020-46CA-A374-81F616A8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66A-5B05-4163-81D0-033B432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D32-8E3B-4C75-84A9-13BEB7BF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C45-3815-451A-B5D5-FAB309A5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4751-271B-4C0C-BF54-69258BA7B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44600"/>
          <a:ext cx="8537400" cy="68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44600"/>
                    <a:ext cx="8537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scribir los métodos iguales y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3 números forman un triángulo si son positiv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de 2 cualesquiera de ellos es mayor que el 3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2. Con if sin 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lución 3. Con condiciones si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260280"/>
            <a:ext cx="87138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 a+b&gt;c &amp;&amp; a+c&gt;b &amp;&amp; b+c&gt;a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2200" y="484200"/>
          <a:ext cx="8335800" cy="76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484200"/>
                    <a:ext cx="8335800" cy="76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495360"/>
          <a:ext cx="796320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95360"/>
                    <a:ext cx="796320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8-03-17T14:12:55Z</dcterms:modified>
  <cp:revision>28</cp:revision>
  <dc:subject/>
  <dc:title>Sin título de diapositiva</dc:title>
</cp:coreProperties>
</file>