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914-DF9E-41D8-9A3F-EB381591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5C6-42FF-40A5-8B72-29FD44DA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97A-C330-4C3A-B43D-89BA7BB8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E2E-6732-464B-A0DE-900F1729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DDC-34BE-4B9A-93A3-87FAEBCC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9EB-7946-4E0D-AED8-F0EE8DEE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7AA-62DC-4338-86EF-A9915B3F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7CE-1E1B-4898-8737-2A1BAA75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C70-A7F9-4CE5-A0BB-63AE5281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71F-0224-4B52-AE90-C02E447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CC4-0574-4F00-8078-733D667B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E42-1340-406B-8E57-BE9C83C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805B-87D0-4D17-8EBE-1B3404783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44600"/>
          <a:ext cx="8537400" cy="68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44600"/>
                    <a:ext cx="8537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60" y="406440"/>
          <a:ext cx="853452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06440"/>
                    <a:ext cx="853452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Escribir los métodos iguales y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logo del programa princip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3 números forman un triángulo si son positiv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uma de 2 cualesquiera de ellos es mayor que el 3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2. Con if sin 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lución 3. Con condiciones si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260280"/>
            <a:ext cx="87138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 a+b&gt;c &amp;&amp; a+c&gt;b &amp;&amp; b+c&gt;a 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92200" y="484200"/>
          <a:ext cx="8335800" cy="767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484200"/>
                    <a:ext cx="8335800" cy="76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8080" y="495360"/>
          <a:ext cx="7963200" cy="623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95360"/>
                    <a:ext cx="796320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8-03-17T14:12:55Z</dcterms:modified>
  <cp:revision>28</cp:revision>
  <dc:subject/>
  <dc:title>Sin título de diapositiva</dc:title>
</cp:coreProperties>
</file>