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90FD-D860-42B0-8336-661A3DA6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CBAE-83F4-41D7-8E12-F19E8E2B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DBD-D53D-4524-9B4E-282BBDCA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B91-8DAE-4219-9AB8-73BBC3D3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E368-E1E2-4D2E-A406-489E54BD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BD77-496A-4718-9FFE-73D8EAD0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28C1-C9F7-4AA9-B1C3-ED8E151F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C29-DE76-4C87-8AB6-99272E52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5A26-E20E-4119-9D0D-8CDE3863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0313-6CF1-4CEC-A66A-F88242C6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0EC-29F0-4077-9E00-DFB1244B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257-AAE2-45B6-9BED-7E97F427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F879-717C-4C1E-ACAF-FFA321A12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08440"/>
            <a:ext cx="8964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Calcular velocidad de un móvil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d=U.readDouble(“distancia(metros)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=U.readDouble(“tiempo(segundos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velocidad=“+(d/1000)/(t/3600)+“km/hor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m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velocidad=“ + 3.6*d/t + “km/hor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ingresar nº alumnos de colegios: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a=U.readInt(“públic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U.readInt(“subvencionad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U.readInt(“particulares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factor=100.0/(a+b+c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públicos=“ + a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vencionados=“ + b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ticulares=“ + c*factor + ”%“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63600" y="698400"/>
          <a:ext cx="826920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698400"/>
                    <a:ext cx="826920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76200" y="496800"/>
          <a:ext cx="8659800" cy="711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496800"/>
                    <a:ext cx="8659800" cy="71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30200" y="484200"/>
          <a:ext cx="83772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84200"/>
                    <a:ext cx="83772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63600" y="469800"/>
          <a:ext cx="8497800" cy="589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69800"/>
                    <a:ext cx="84978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92200" y="538200"/>
          <a:ext cx="82026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538200"/>
                    <a:ext cx="82026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77800" y="484200"/>
          <a:ext cx="80010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4200"/>
                    <a:ext cx="80010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9800" y="484200"/>
          <a:ext cx="7907400" cy="60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4200"/>
                    <a:ext cx="7907400" cy="60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565200" y="620640"/>
          <a:ext cx="8578800" cy="58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620640"/>
                    <a:ext cx="8578800" cy="58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19200" y="619200"/>
          <a:ext cx="794700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19200"/>
                    <a:ext cx="7947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84200" y="484200"/>
          <a:ext cx="85662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84200"/>
                    <a:ext cx="85662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08-03-12T19:33:21Z</dcterms:modified>
  <cp:revision>39</cp:revision>
  <dc:subject/>
  <dc:title>Sin título de diapositiva</dc:title>
</cp:coreProperties>
</file>