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8F9-7DD4-420B-8AD0-D84796F7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3FB-AD45-412F-87EE-FE067C15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6EA-8C85-49FB-A294-CB5BDDF8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CDF-B056-4606-A841-8E8BB605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396-407B-46C3-9518-546334B0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6F8-E289-44BA-B549-0BE16331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927-F874-4062-9E5C-DC81A49F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182-4176-4241-AD67-A3339E3E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4AA-CCD4-44A9-81B9-61326E65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378-2A9C-4DBE-9D52-62C79F6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2D5-CA3B-43A3-A31A-168CCAB8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10A-A0B5-4430-B93C-4FDD446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7822-ABB0-4752-B6E6-03A2FE8C6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08440"/>
            <a:ext cx="8964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30200" y="484200"/>
          <a:ext cx="8377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84200"/>
                    <a:ext cx="8377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92200" y="538200"/>
          <a:ext cx="82026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538200"/>
                    <a:ext cx="82026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77800" y="484200"/>
          <a:ext cx="80010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0010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484200"/>
          <a:ext cx="79074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4200"/>
                    <a:ext cx="79074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65200" y="620640"/>
          <a:ext cx="857880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620640"/>
                    <a:ext cx="85788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19200" y="619200"/>
          <a:ext cx="794700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19200"/>
                    <a:ext cx="7947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8-03-12T19:33:21Z</dcterms:modified>
  <cp:revision>39</cp:revision>
  <dc:subject/>
  <dc:title>Sin título de diapositiva</dc:title>
</cp:coreProperties>
</file>