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957-9B27-4269-8339-52E8FA8D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305-6559-4EBE-9985-FA05A5A5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E44-8C94-4ABA-A2AE-D1C0442F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CBA-ECB5-438F-8345-5CF022F8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FA6-3E78-447E-98C1-5B916E8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41C-87FA-4A1F-9D8C-F25D0C8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0FA-3408-4747-B470-2EFA5A21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AEF-8023-48D3-A6A8-16CCE658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0DB-D74D-401A-BC8D-7A6A7C73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0DC-2F1D-4A5E-B035-B20A689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C04-6BD2-4073-A9B9-BB5006E5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A13-605C-4137-B797-8D8DF7F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65C8-1870-445A-8A88-6C633C8BA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08440"/>
            <a:ext cx="896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30200" y="484200"/>
          <a:ext cx="8377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377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538200"/>
          <a:ext cx="82026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538200"/>
                    <a:ext cx="82026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484200"/>
          <a:ext cx="80010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0010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484200"/>
          <a:ext cx="79074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79074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65200" y="620640"/>
          <a:ext cx="85788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620640"/>
                    <a:ext cx="8578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19200" y="619200"/>
          <a:ext cx="794700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19200"/>
                    <a:ext cx="7947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8-03-12T19:33:21Z</dcterms:modified>
  <cp:revision>39</cp:revision>
  <dc:subject/>
  <dc:title>Sin título de diapositiva</dc:title>
</cp:coreProperties>
</file>