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CBC-432F-4CA6-94BE-A7B9B24D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BA3-B3B0-43B6-8F8A-CC85F8D0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108-F8DB-4BBF-B5E9-478676A2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27B-130F-4F2C-95E6-E7EFF9EA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038-47DC-4B96-8640-73CEADEA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6FC-B6BB-4582-B43A-81D56454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04B-E29F-473D-99B8-B98E63AC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34F-57BB-4E61-808F-6FF741E6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BC7-ABEC-4928-B09D-B42998C0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A2C-CF1F-46C2-8070-94F6B3E3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171-7BF1-4618-91A1-0A5498B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3DE-29BC-425A-8D55-D94559F6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E467-2E53-47FB-AC63-EB07D2588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08440"/>
            <a:ext cx="896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30200" y="484200"/>
          <a:ext cx="83772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84200"/>
                    <a:ext cx="83772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92200" y="538200"/>
          <a:ext cx="82026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538200"/>
                    <a:ext cx="82026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77800" y="484200"/>
          <a:ext cx="80010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0010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484200"/>
          <a:ext cx="79074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4200"/>
                    <a:ext cx="79074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65200" y="620640"/>
          <a:ext cx="8578800" cy="58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620640"/>
                    <a:ext cx="8578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19200" y="619200"/>
          <a:ext cx="794700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19200"/>
                    <a:ext cx="7947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8-03-12T19:33:21Z</dcterms:modified>
  <cp:revision>39</cp:revision>
  <dc:subject/>
  <dc:title>Sin título de diapositiva</dc:title>
</cp:coreProperties>
</file>