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0A3-9F78-40CD-AA80-2E24F9C6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F80-268B-4082-8947-3A51767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F4C-62A0-46DE-BF38-F09214BF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93A-1B6A-4ECB-BDCE-D98A3CA6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3EB-C818-4B44-9A96-3693E853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A35-D3DA-4E2B-BDF2-55B8CD1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32E-C9D6-4F4A-AE29-8A23304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8C5-9C90-47E7-A4B1-1CEAFDD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5EC-86EB-4BED-9DCB-0A6AB6A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3A8-CF27-41E1-9B5C-F102AC0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D71-F0D4-46DD-95CA-0559103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6D6-49F7-4747-9EC4-A21B185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0F4-0B84-4C04-A52B-883D4792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084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30200" y="484200"/>
          <a:ext cx="8377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377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538200"/>
          <a:ext cx="82026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538200"/>
                    <a:ext cx="82026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484200"/>
          <a:ext cx="80010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0010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484200"/>
          <a:ext cx="79074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79074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65200" y="620640"/>
          <a:ext cx="85788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620640"/>
                    <a:ext cx="8578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9200" y="619200"/>
          <a:ext cx="794700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19200"/>
                    <a:ext cx="7947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8-03-12T19:33:21Z</dcterms:modified>
  <cp:revision>39</cp:revision>
  <dc:subject/>
  <dc:title>Sin título de diapositiva</dc:title>
</cp:coreProperties>
</file>