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DD9-F206-4B60-916C-824A54C7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EED-91F4-412B-9FB7-181EBF3B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812-1571-4092-9B9C-520CBDD6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3F8-4AF8-49D6-94FD-2952064F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D61-8C87-46F6-A298-93655754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489-F799-44FC-A5CF-40D5FA97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20D-EF46-4E7A-9133-D4F85834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42B-6D7B-4F58-B20F-95C47354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692-9BF9-4005-9BA2-2A263BF2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CE9-321B-42E2-B8FF-911DAB9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71D-B42D-47C2-A55F-249FADB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626-8223-429F-AADC-8B12C48B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88BF0D7F-F785-46BD-BC4F-A0096027B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568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568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12280" cy="57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12280" cy="57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-9720"/>
            <a:ext cx="9288720" cy="70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métodos (funcione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(funciones)para escribir frases,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“nº de hombres?”);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30360" y="420840"/>
          <a:ext cx="8327880" cy="62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20840"/>
                    <a:ext cx="8327880" cy="62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8-03-10T17:17:44Z</dcterms:modified>
  <cp:revision>66</cp:revision>
  <dc:subject/>
  <dc:title>Sin título de diapositiva</dc:title>
</cp:coreProperties>
</file>