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9A61-5994-4916-931B-32C11834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F53-6691-444B-829A-EEE884C5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7B1-596C-4C0C-98CA-D22B37BE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AD5-4A18-458D-937D-0B6E6883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91A-F50D-4F2C-A2ED-983E23CE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7AC-575D-4C6A-A877-28A46CBA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A36-7A83-4CCA-862F-266AC56E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31D-F63B-4B22-B840-91D68EF3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D5D-7F66-4A6F-B2C4-C179D622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9BC-F42E-4FB4-B299-868FD0C7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396-3C50-47D5-89DE-97DC2F21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B60-9EFF-4648-9593-179D5F56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C8893A87-89EC-4CFD-B016-5D52E6001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5680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568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77960" y="741240"/>
          <a:ext cx="819288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741240"/>
                    <a:ext cx="819288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67420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82760"/>
          <a:ext cx="851364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82760"/>
                    <a:ext cx="851364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12280" cy="57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12280" cy="57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-9720"/>
            <a:ext cx="9288720" cy="70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 de la U con métodos para leer y escribir nú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métodos (funcione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(funciones)para escribir frases,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601120" cy="76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601120" cy="76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“nº de hombres?”);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30360" y="420840"/>
          <a:ext cx="8327880" cy="626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20840"/>
                    <a:ext cx="8327880" cy="62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564120"/>
            <a:ext cx="8569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8-03-10T17:17:44Z</dcterms:modified>
  <cp:revision>66</cp:revision>
  <dc:subject/>
  <dc:title>Sin título de diapositiva</dc:title>
</cp:coreProperties>
</file>