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C1E-097B-4208-994F-F204E59B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D57-1F46-4C06-A8A1-FD7D7E08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032-10F2-4283-BDC4-FD077954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905-9961-4DB8-9E41-B229DA62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FF3-5A6B-4B51-BCBD-F12BF13B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D3B-A73B-4211-BA12-FBF781CC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A87-73AE-4E5D-B7A2-59DC1C34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DCC-AB9D-42CD-A02C-45F813B9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D3D-E497-4BAC-91FE-AD11A1B2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9C3-0F9D-4B72-A728-578F826E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A89-C652-48A5-A011-BE2CF50B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DCA-D6B7-4A79-BB6A-D1250937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1E98E560-7636-4774-9527-4A5D26316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5680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568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77960" y="741240"/>
          <a:ext cx="819288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741240"/>
                    <a:ext cx="819288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67420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82760"/>
          <a:ext cx="851364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82760"/>
                    <a:ext cx="851364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12280" cy="57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12280" cy="57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-9720"/>
            <a:ext cx="9288720" cy="70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 de la U con métodos para leer y escribir nú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métodos (funcione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(funciones)para escribir frases,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601120" cy="76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601120" cy="76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“nº de hombres?”);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30360" y="420840"/>
          <a:ext cx="8327880" cy="626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20840"/>
                    <a:ext cx="8327880" cy="62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564120"/>
            <a:ext cx="8569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8-03-10T17:17:44Z</dcterms:modified>
  <cp:revision>66</cp:revision>
  <dc:subject/>
  <dc:title>Sin título de diapositiva</dc:title>
</cp:coreProperties>
</file>