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49C-309B-4FF7-AF2F-4FD1784D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4AA-FDB4-41BA-AB22-383D9E45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7A6-84DB-4928-9CBE-FA7C3EE2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3E6-FF4A-4E08-881D-3D80D4A6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C348-2D76-4950-B7F0-EE2FBA5F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D090-15D6-4A06-ACB8-7E9B30F9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14B-A80E-45B5-9BA2-10CE0B88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827-BDA2-4E7A-8ECF-2BA23179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AAA4-0084-40B4-A5AA-7676F07F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794-1C9A-4027-9CAC-F6C704E0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BC1C-21F4-4072-BBAE-4889C1FA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4C15-3A37-46BC-96CB-07278E45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3D0D8283-3574-4E13-95D1-7C86328411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5680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5680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77960" y="741240"/>
          <a:ext cx="8192880" cy="57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741240"/>
                    <a:ext cx="819288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674200" cy="70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0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482760"/>
          <a:ext cx="8513640" cy="70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82760"/>
                    <a:ext cx="8513640" cy="70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12280" cy="578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12280" cy="57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-9720"/>
            <a:ext cx="9288720" cy="70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 de la U con métodos para leer y escribir nú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métodos (funcione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(funciones)para escribir frases,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601120" cy="76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601120" cy="76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“nº de hombres?”);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30360" y="420840"/>
          <a:ext cx="8327880" cy="626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20840"/>
                    <a:ext cx="8327880" cy="62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564120"/>
            <a:ext cx="856908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08-03-10T17:17:44Z</dcterms:modified>
  <cp:revision>66</cp:revision>
  <dc:subject/>
  <dc:title>Sin título de diapositiva</dc:title>
</cp:coreProperties>
</file>