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C0B-0A97-48C1-9F18-E0E825218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1261-9910-43AC-A2D3-98C4F5A6F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CC0F-4DC0-47E7-A275-08592147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8D1-8BC9-4342-AEE7-0C68B109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E14-FE5D-4FE9-BFF5-9812D7BE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7DF-A9C3-45ED-82A1-04434169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99F2-66BA-4668-83A6-03E90E20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4853-2F71-4600-BE5C-FD05E28F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C1C-C498-4115-A7BA-D559971A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F53-4AD1-4C22-9BEA-E996B478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13F-41AE-4112-989C-B756E9B4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F3DF-A0C3-49F7-A259-DD322881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6272-9793-474E-AA63-8B8C14467EC9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4: while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un programa que calcule el promedio de una cantidad indeterminada de números reales siguiendo el diálog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1 promedio=4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5.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cuenta=2 promedio=5.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número ? 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. El número 0 se usa como indicador de fin de da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1822cd"/>
                </a:solidFill>
                <a:latin typeface="Verdana"/>
              </a:rPr>
              <a:t>Solución 1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Verdana"/>
              </a:rPr>
              <a:t>Usando patrón leer/while/procesar/le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acumulador(sumatoria) y contador de númer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primer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repetir hasta fin de da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 numero != 0 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procesar nu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btener siguiente núm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numero=U.readDouble("número ? "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Usando patrón while(true)-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suma=0; int n=0;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indefinida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while(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) //condición siempre verdader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obtener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numero=U.readDouble(“número ? 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quebrar repetición al detectar f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numero==0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//pasa a inst sgte a 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nú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uma=suma+numero; n=n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"cuenta="+n+“ promedio=”+suma/n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xplicacion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 = suma + numero; //variable=expresió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evaluar expresión suma + numer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guardar resultado en variable suma (reemplazando valor previ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r ejemplo, la 1ª vez suma=0.0 y numero=4.5, por lo tanto, suma+numero es 4.5 y se guarda como el nuevo valor de sum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2ª vez, suma=4.5 y numero=5.5 entonces suma+numero es 10.0 que reemplaza el valor de su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ouble numer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 U.readDouble(“numero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a variable numero es local (interna) al bloque {…} de la instrucc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ión 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Se crea (“nace”) al comienzo de cada iter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esaparece (“muere”) al terminar de ejecutarse las instrucciones del bloq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jercici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scribir los sgtes méto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factorial(x): entrega 1*2*…*x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/ejs: factorial(3)=1*2*3=6, factorial(0)=1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//x&gt;=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Mostrar factorial de cada nº de una li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Al final escribir el mayor factorial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[]args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Diálogo (ejemplo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4!=2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1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12!=47900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nº? -1 (fin de los dato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mayor=12!=47900160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factorial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ctori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producto=1, i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i &lt;= x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ducto = producto * 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 = i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produc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1822cd"/>
                </a:solidFill>
                <a:latin typeface="Verdana"/>
              </a:rPr>
              <a:t>Solución 2:</a:t>
            </a: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1822cd"/>
                </a:solidFill>
                <a:latin typeface="Verdana"/>
              </a:rPr>
              <a:t>x! = x * (x-1) * … * 1  (0!=1)</a:t>
            </a:r>
            <a:endParaRPr b="1" lang="en-US" sz="2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factorial(int x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producto=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x&gt;0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ducto=producto*x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=x-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prod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c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ot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x termina con el valor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rgumento en la llamada no se modific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: factorial(n) no modifica 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ayor=0; //para mayor n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(n != -1)  //o while(x &gt;= 0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n+”!=”+factorial(n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(n&gt;mayor) mayor=n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=U.readInt(“nº?”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U.println(“mayor=”+mayor+”!=”+factorial(mayor))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74520"/>
            <a:ext cx="84358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mayor=0; //para mayor n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n&lt;0) break;  //o if(n==-1)break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ln(n+”!=”+factorial(n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n&gt;mayor) mayor=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ln(“mayor=”+mayor+”!=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+factorial(mayor)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yorNro=0, mayorFact=1; //para mayo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tru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n&lt;0) break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fact=factorial(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+”!=”+fact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n&gt;mayorNro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orNro=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yorFact=fac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mayor=”+mayorNro+”!=”+mayorFact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67472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Escribir un programa que muestre la siguiente tabla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º  raiz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4142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1.7320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5.44772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Verdana"/>
              </a:rPr>
              <a:t>Solución?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Algoritmo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hasta que n &gt; 30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Verdana"/>
              </a:rPr>
              <a:t>alternativa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inicializar variable n con valor 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79880" indent="-479880">
              <a:lnSpc>
                <a:spcPct val="90000"/>
              </a:lnSpc>
              <a:spcBef>
                <a:spcPts val="799"/>
              </a:spcBef>
              <a:buClr>
                <a:srgbClr val="3568c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repetir mientras 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 30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scribir n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22960" indent="-411480">
              <a:lnSpc>
                <a:spcPct val="90000"/>
              </a:lnSpc>
              <a:spcBef>
                <a:spcPts val="700"/>
              </a:spcBef>
              <a:buClr>
                <a:srgbClr val="f06157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umar 1 a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inicializar variable n con valor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etir mientras n&lt;=3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escribir n y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sumar 1 a 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48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4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 condición 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o, si se necesita repetir varias instrucciones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while(condición)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</a:t>
            </a:r>
            <a:r>
              <a:rPr b="1" lang="en-US" sz="4400" spc="-1" strike="noStrike">
                <a:solidFill>
                  <a:srgbClr val="1822cd"/>
                </a:solidFill>
                <a:latin typeface="Courier New"/>
              </a:rPr>
              <a:t>while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22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ientras condición se cumpla (sea tru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4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jecutar instrucción(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graficament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390840"/>
            <a:ext cx="1219320" cy="990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84720" y="278136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8920" y="5067360"/>
            <a:ext cx="1752840" cy="7621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(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0160" y="369576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4457880"/>
            <a:ext cx="395280" cy="502920"/>
          </a:xfrm>
          <a:prstGeom prst="downArrow">
            <a:avLst>
              <a:gd name="adj1" fmla="val 50000"/>
              <a:gd name="adj2" fmla="val 31808"/>
            </a:avLst>
          </a:prstGeom>
          <a:solidFill>
            <a:srgbClr val="3568c7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7760" y="445788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25320" y="339084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67440" y="3766680"/>
            <a:ext cx="2088360" cy="2951280"/>
            <a:chOff x="6067440" y="3766680"/>
            <a:chExt cx="2088360" cy="2951280"/>
          </a:xfrm>
        </p:grpSpPr>
        <p:sp>
          <p:nvSpPr>
            <p:cNvPr id="121" name=""/>
            <p:cNvSpPr/>
            <p:nvPr/>
          </p:nvSpPr>
          <p:spPr>
            <a:xfrm>
              <a:off x="6067440" y="6214680"/>
              <a:ext cx="394920" cy="503280"/>
            </a:xfrm>
            <a:prstGeom prst="downArrow">
              <a:avLst>
                <a:gd name="adj1" fmla="val 50000"/>
                <a:gd name="adj2" fmla="val 31860"/>
              </a:avLst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0800000">
              <a:off x="6211800" y="6214680"/>
              <a:ext cx="194256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7076520" y="3766680"/>
              <a:ext cx="1077480" cy="215640"/>
            </a:xfrm>
            <a:prstGeom prst="rect">
              <a:avLst/>
            </a:prstGeom>
            <a:solidFill>
              <a:srgbClr val="3568c7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7940160" y="3768120"/>
              <a:ext cx="215640" cy="26622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155080" y="3768120"/>
            <a:ext cx="1440" cy="266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39080" y="3984480"/>
            <a:ext cx="1440" cy="223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11800" y="6215040"/>
            <a:ext cx="172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56520" y="6431040"/>
            <a:ext cx="18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77240" y="3767040"/>
            <a:ext cx="107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770360" y="3670200"/>
            <a:ext cx="720720" cy="1898640"/>
            <a:chOff x="4770360" y="3670200"/>
            <a:chExt cx="720720" cy="1898640"/>
          </a:xfrm>
        </p:grpSpPr>
        <p:grpSp>
          <p:nvGrpSpPr>
            <p:cNvPr id="131" name=""/>
            <p:cNvGrpSpPr/>
            <p:nvPr/>
          </p:nvGrpSpPr>
          <p:grpSpPr>
            <a:xfrm>
              <a:off x="4770360" y="3670200"/>
              <a:ext cx="720720" cy="1898640"/>
              <a:chOff x="4770360" y="3670200"/>
              <a:chExt cx="720720" cy="1898640"/>
            </a:xfrm>
          </p:grpSpPr>
          <p:sp>
            <p:nvSpPr>
              <p:cNvPr id="132" name=""/>
              <p:cNvSpPr/>
              <p:nvPr/>
            </p:nvSpPr>
            <p:spPr>
              <a:xfrm rot="16200000">
                <a:off x="4933800" y="3508200"/>
                <a:ext cx="395280" cy="719280"/>
              </a:xfrm>
              <a:prstGeom prst="downArrow">
                <a:avLst>
                  <a:gd name="adj1" fmla="val 50000"/>
                  <a:gd name="adj2" fmla="val 45492"/>
                </a:avLst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71800" y="5351040"/>
                <a:ext cx="504720" cy="217800"/>
              </a:xfrm>
              <a:prstGeom prst="rect">
                <a:avLst/>
              </a:prstGeom>
              <a:solidFill>
                <a:srgbClr val="3568c7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70360" y="3767040"/>
                <a:ext cx="215640" cy="1800000"/>
              </a:xfrm>
              <a:prstGeom prst="rect">
                <a:avLst/>
              </a:prstGeom>
              <a:solidFill>
                <a:srgbClr val="3568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V="1">
                <a:off x="4771800" y="3767040"/>
                <a:ext cx="0" cy="1800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987800" y="3982320"/>
                <a:ext cx="0" cy="1368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771440" y="3767040"/>
                <a:ext cx="431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771800" y="5567040"/>
              <a:ext cx="504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Ejecución del Progra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1628640"/>
          <a:ext cx="7918560" cy="4114800"/>
        </p:xfrm>
        <a:graphic>
          <a:graphicData uri="http://schemas.openxmlformats.org/drawingml/2006/table">
            <a:tbl>
              <a:tblPr/>
              <a:tblGrid>
                <a:gridCol w="646200"/>
                <a:gridCol w="2016000"/>
                <a:gridCol w="1079640"/>
                <a:gridCol w="215640"/>
                <a:gridCol w="649440"/>
                <a:gridCol w="2158920"/>
                <a:gridCol w="1152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 n=2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 5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ntln(…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ile(n&lt;=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n+1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¿Qué sucede si la condición es falsa la primera vez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maximo=U.readInt(“nº máximo?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 n &lt;= maximo 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 = n + 1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494172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 maximo&lt;2,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no se repiten nunc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sta propiedad permite diseñar ciclos que eventualmente no se repiten nu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1822cd"/>
                </a:solidFill>
                <a:latin typeface="Verdana"/>
              </a:rPr>
              <a:t>¿Qué sucede si la condición es siempre verdadera?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0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"Nº raiz"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n = 2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 n &lt;= 30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n + " " + Math.sqrt(n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4336920"/>
            <a:ext cx="822960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s instrucciones se repiten indefinidamente (“loo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rror: no se incrementa variabl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. El programador debe preocuparse de incluir instrucciones que influyan en la condición, de modo que eventualmente sea fa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8-03-20T14:25:35Z</dcterms:modified>
  <cp:revision>67</cp:revision>
  <dc:subject/>
  <dc:title>  CC1001- Computación I </dc:title>
</cp:coreProperties>
</file>