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B6D-15C3-4E44-A0DD-E77E1C33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A71-39FC-4710-8AB6-0EE9F93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76B-8CB2-4537-AAA7-6E01BB22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066-29FF-4449-B6AA-94924393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A3A-5F77-459F-A431-10B6E23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CAF-A82D-41B0-ACA1-4FCF049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AFC-7874-4DD5-BB63-D2AFC86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CCD-A7F9-4750-94F9-FBD74F6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4E6-E7F3-49D1-89D8-780990FC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863-5EE9-4CAB-A125-68E7B14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751-AFCC-4450-BC9C-C83F45B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18D-2A38-4663-ADF8-4EB09D3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F90-5A18-4885-A6A9-5E9852940C10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4: 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u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ouble nume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U.readDouble(“numero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ariable numero es local (interna) al bloque {…} de la instrucc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ón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crea (“nace”) al comienzo de cada it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saparece (“muere”) al terminar de ejecutarse las instrucciones del blo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cribir los sg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factorial(x): entrega 1*2*…*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js: factorial(3)=1*2*3=6, factorial(0)=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//x&gt;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ostrar factorial de cada nº de una l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Al final escribir el mayor factor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álogo (ejemp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4!=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-1 (fin de los dat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mayor=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actorial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 = producto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Solución 2:</a:t>
            </a: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x! = x * (x-1) * … * 1  (0!=1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x&gt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=producto*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x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x termina con el valor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rgumento en la llamada no se modifi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: factorial(n) no modifica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n != -1)  //o while(x &gt;= 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mayor=”+mayor+”!=”+factorial(mayor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435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lt;0) break;  //o if(n==-1)brea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“mayor=”+mayor+”!=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factorial(mayor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Nro=0, mayorFact=1; //para may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lt;0) break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=factorial(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+”!=”+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gt;mayorNro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Nro=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Fact=fac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mayor=”+mayorNro+”!=”+mayor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74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8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390840"/>
            <a:ext cx="121932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78136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8920" y="5067360"/>
            <a:ext cx="175284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0160" y="3695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4457880"/>
            <a:ext cx="395280" cy="502920"/>
          </a:xfrm>
          <a:prstGeom prst="downArrow">
            <a:avLst>
              <a:gd name="adj1" fmla="val 50000"/>
              <a:gd name="adj2" fmla="val 31808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776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5320" y="3390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67440" y="3766680"/>
            <a:ext cx="2088360" cy="2951280"/>
            <a:chOff x="6067440" y="3766680"/>
            <a:chExt cx="2088360" cy="2951280"/>
          </a:xfrm>
        </p:grpSpPr>
        <p:sp>
          <p:nvSpPr>
            <p:cNvPr id="121" name=""/>
            <p:cNvSpPr/>
            <p:nvPr/>
          </p:nvSpPr>
          <p:spPr>
            <a:xfrm>
              <a:off x="6067440" y="6214680"/>
              <a:ext cx="394920" cy="503280"/>
            </a:xfrm>
            <a:prstGeom prst="downArrow">
              <a:avLst>
                <a:gd name="adj1" fmla="val 50000"/>
                <a:gd name="adj2" fmla="val 31860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6211800" y="6214680"/>
              <a:ext cx="194256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7076520" y="3766680"/>
              <a:ext cx="107748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940160" y="3768120"/>
              <a:ext cx="21564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155080" y="37681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39080" y="3984480"/>
            <a:ext cx="1440" cy="22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800" y="62150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56520" y="643104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77240" y="376704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770360" y="3670200"/>
            <a:ext cx="720720" cy="1898640"/>
            <a:chOff x="4770360" y="3670200"/>
            <a:chExt cx="720720" cy="1898640"/>
          </a:xfrm>
        </p:grpSpPr>
        <p:grpSp>
          <p:nvGrpSpPr>
            <p:cNvPr id="131" name=""/>
            <p:cNvGrpSpPr/>
            <p:nvPr/>
          </p:nvGrpSpPr>
          <p:grpSpPr>
            <a:xfrm>
              <a:off x="4770360" y="3670200"/>
              <a:ext cx="720720" cy="1898640"/>
              <a:chOff x="4770360" y="3670200"/>
              <a:chExt cx="720720" cy="189864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4933800" y="350820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1800" y="535104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70360" y="376704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771800" y="376704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987800" y="398232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771440" y="37670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771800" y="55670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33692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20T14:25:35Z</dcterms:modified>
  <cp:revision>67</cp:revision>
  <dc:subject/>
  <dc:title>  CC1001- Computación I </dc:title>
</cp:coreProperties>
</file>