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750-C53F-4BBA-A87B-44086A82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72E-AF18-45D9-A5FF-6305B014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DDE-3A09-47EC-AACC-DE27B369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17E-6147-4F5C-A0EF-92D72E9E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674-2E99-4527-9364-46131591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2D8-9FA4-404B-AD2D-BC03261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499-CE44-4550-A198-9FA9BB2F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FC5-E3D1-45B5-A46A-4963B85F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BC4-7997-4481-BFF5-9EC80446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ED1-C6A5-4AE7-906A-198305F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0BE-22B4-4F48-9AB7-09E869F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DDF-A550-4947-AC50-C7A2725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265C-936E-4CDF-B9EC-BAD432ECE305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4: while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u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ouble nume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U.readDouble(“numero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ariable numero es local (interna) al bloque {…} de la instrucc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ón 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e crea (“nace”) al comienzo de cada ite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saparece (“muere”) al terminar de ejecutarse las instrucciones del blo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cribir los sg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factorial(x): entrega 1*2*…*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ejs: factorial(3)=1*2*3=6, factorial(0)=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//x&gt;=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ostrar factorial de cada nº de una li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Al final escribir el mayor factor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álogo (ejemp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4!=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12!=47900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-1 (fin de los dato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mayor=12!=47900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actorial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producto=1, i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lt;= x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ucto = producto *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produc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Solución 2:</a:t>
            </a: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x! = x * (x-1) * … * 1  (0!=1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producto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x&gt;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ucto=producto*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x-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pro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c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x termina con el valor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rgumento en la llamada no se modifi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: factorial(n) no modifica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ayor=0; //para mayor n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n != -1)  //o while(x &gt;= 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n+”!=”+factorial(n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&gt;mayor) mayor=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=U.readInt(“nº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“mayor=”+mayor+”!=”+factorial(mayor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74520"/>
            <a:ext cx="84358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mayor=0; //para mayor 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n&lt;0) break;  //o if(n==-1)break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ln(n+”!=”+factorial(n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n&gt;mayor) mayor=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ln(“mayor=”+mayor+”!=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factorial(mayor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Nro=0, mayorFact=1; //para may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n&lt;0) break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act=factorial(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+”!=”+fact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n&gt;mayorNro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orNro=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orFact=fac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mayor=”+mayorNro+”!=”+mayorFact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7472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48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4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390840"/>
            <a:ext cx="121932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278136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8920" y="5067360"/>
            <a:ext cx="175284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0160" y="36957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4457880"/>
            <a:ext cx="395280" cy="502920"/>
          </a:xfrm>
          <a:prstGeom prst="downArrow">
            <a:avLst>
              <a:gd name="adj1" fmla="val 50000"/>
              <a:gd name="adj2" fmla="val 31808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7760" y="4457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5320" y="33908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67440" y="3766680"/>
            <a:ext cx="2088360" cy="2951280"/>
            <a:chOff x="6067440" y="3766680"/>
            <a:chExt cx="2088360" cy="2951280"/>
          </a:xfrm>
        </p:grpSpPr>
        <p:sp>
          <p:nvSpPr>
            <p:cNvPr id="121" name=""/>
            <p:cNvSpPr/>
            <p:nvPr/>
          </p:nvSpPr>
          <p:spPr>
            <a:xfrm>
              <a:off x="6067440" y="6214680"/>
              <a:ext cx="394920" cy="503280"/>
            </a:xfrm>
            <a:prstGeom prst="downArrow">
              <a:avLst>
                <a:gd name="adj1" fmla="val 50000"/>
                <a:gd name="adj2" fmla="val 31860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6211800" y="6214680"/>
              <a:ext cx="194256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7076520" y="3766680"/>
              <a:ext cx="107748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7940160" y="3768120"/>
              <a:ext cx="21564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155080" y="3768120"/>
            <a:ext cx="144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39080" y="3984480"/>
            <a:ext cx="1440" cy="223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11800" y="621504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56520" y="643104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77240" y="376704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770360" y="3670200"/>
            <a:ext cx="720720" cy="1898640"/>
            <a:chOff x="4770360" y="3670200"/>
            <a:chExt cx="720720" cy="1898640"/>
          </a:xfrm>
        </p:grpSpPr>
        <p:grpSp>
          <p:nvGrpSpPr>
            <p:cNvPr id="131" name=""/>
            <p:cNvGrpSpPr/>
            <p:nvPr/>
          </p:nvGrpSpPr>
          <p:grpSpPr>
            <a:xfrm>
              <a:off x="4770360" y="3670200"/>
              <a:ext cx="720720" cy="1898640"/>
              <a:chOff x="4770360" y="3670200"/>
              <a:chExt cx="720720" cy="1898640"/>
            </a:xfrm>
          </p:grpSpPr>
          <p:sp>
            <p:nvSpPr>
              <p:cNvPr id="132" name=""/>
              <p:cNvSpPr/>
              <p:nvPr/>
            </p:nvSpPr>
            <p:spPr>
              <a:xfrm rot="16200000">
                <a:off x="4933800" y="350820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71800" y="535104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70360" y="376704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771800" y="376704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987800" y="398232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771440" y="376704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771800" y="55670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94172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0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336920"/>
            <a:ext cx="82296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20T14:25:35Z</dcterms:modified>
  <cp:revision>67</cp:revision>
  <dc:subject/>
  <dc:title>  CC1001- Computación I </dc:title>
</cp:coreProperties>
</file>