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621-39B0-4945-82C8-B8713CF2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B42-956B-4130-9FCB-46ED04F1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F5F-CD3B-4BBB-A126-C32182C6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1E4-2AFE-467B-A296-3704A217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430-3154-45B2-B351-47DCD6F2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EC1-1250-4C08-9C5E-8A46DCE3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518-7046-4961-B5C0-D2ED032B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83A-640B-40FE-82F1-72067075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C24-9810-44B5-A7FC-71CE0730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B33-BC86-4E33-87E2-286C17C0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699-8AF7-45DE-99B0-1BB63E70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6B0-3F4A-448D-B0AC-978BA88E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9A0B-FE1F-4F40-8940-BE164F3AC070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3: if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mayor(int x,int y,int z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dentación (uso de márgenes) que evidencia selección múlti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78936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6021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84360" y="263700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métodos iguales y m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iálogo del programa principal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. 3 números forman un triángulo si son positivos 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suma de 2 cualesquiera de ellos es mayor que el 3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-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Solución 2. Con if sin el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lución 3. Con condicione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&amp; a+b&gt;c &amp;&amp; a+c&gt;b &amp;&amp; b+c&gt;a 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 -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Problema: ordenar 3 números generados al aza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Ordenar3{ //en archivo Ordenar3.j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“Ordenar 3 númer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Numeros="+a+" "+b+" "+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min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en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x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edio=a+b+c-minimo-maximo; //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Ordenados = 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imo + " " + medio + " " + maxim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. Ordenar 4 núm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quivalenci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añ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riángul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ouble x,double y,double 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Math.min(x,y) + Math.abs(x-y)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300720" y="4869000"/>
            <a:ext cx="2378160" cy="980640"/>
            <a:chOff x="6300720" y="4869000"/>
            <a:chExt cx="2378160" cy="980640"/>
          </a:xfrm>
        </p:grpSpPr>
        <p:sp>
          <p:nvSpPr>
            <p:cNvPr id="108" name=""/>
            <p:cNvSpPr/>
            <p:nvPr/>
          </p:nvSpPr>
          <p:spPr>
            <a:xfrm>
              <a:off x="7020000" y="4869000"/>
              <a:ext cx="914400" cy="36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300720" y="5302080"/>
              <a:ext cx="2378160" cy="547560"/>
              <a:chOff x="6300720" y="5302080"/>
              <a:chExt cx="2378160" cy="54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6300720" y="539244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0072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7888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8980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215120" y="548460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64480" y="566712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300720" y="566712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084720" y="3282840"/>
            <a:ext cx="2737080" cy="909720"/>
            <a:chOff x="6084720" y="3282840"/>
            <a:chExt cx="2737080" cy="909720"/>
          </a:xfrm>
        </p:grpSpPr>
        <p:sp>
          <p:nvSpPr>
            <p:cNvPr id="118" name=""/>
            <p:cNvSpPr/>
            <p:nvPr/>
          </p:nvSpPr>
          <p:spPr>
            <a:xfrm>
              <a:off x="6084720" y="3282840"/>
              <a:ext cx="115416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min(x,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443640" y="3645000"/>
              <a:ext cx="2378160" cy="547560"/>
              <a:chOff x="6443640" y="3645000"/>
              <a:chExt cx="2378160" cy="547560"/>
            </a:xfrm>
          </p:grpSpPr>
          <p:sp>
            <p:nvSpPr>
              <p:cNvPr id="120" name=""/>
              <p:cNvSpPr/>
              <p:nvPr/>
            </p:nvSpPr>
            <p:spPr>
              <a:xfrm>
                <a:off x="6443640" y="37353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4364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82180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72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58040" y="38275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07400" y="40100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443640" y="40100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 (más natural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365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4149720"/>
            <a:ext cx="1187640" cy="936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45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18T20:28:05Z</dcterms:modified>
  <cp:revision>59</cp:revision>
  <dc:subject/>
  <dc:title>  CC1001- Computación I </dc:title>
</cp:coreProperties>
</file>