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21C5-2ACA-4AB2-8137-DF2118A79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D8A6-9747-4AE8-B5F7-0EF544BB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EF42-131E-4F89-9171-1652F05F4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BEE8-FD12-4E6F-B72D-7925150E8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11E1-06D3-4EF6-9C1D-970D9FBA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6E00-9F45-42CE-A1F9-3A48E8C9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400F-D7D0-4DB8-A1AF-FEC55228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BDA8-BB95-43BB-A593-4FD14C57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8A9F-57DF-4E45-91CB-7D2D9ABC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3A0B-4B55-4634-A7EC-BA670305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A7EB-DCF7-4C33-A338-675AC820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FF78-10BD-4E5B-A026-0F23A4A6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0641-DEE6-4FEE-9CD5-0457499FC87E}" type="slidenum">
              <a:rPr b="0" lang="es-ES_tradnl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3800" indent="-22392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00040" indent="-22392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35920" indent="-22392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Clase 3: if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23640" y="5229000"/>
            <a:ext cx="856908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Valeria Herskov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vherskov@dcc.uchile.c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928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822cd"/>
                </a:solidFill>
                <a:latin typeface="Verdana"/>
              </a:rPr>
              <a:t>Caso especial 3:</a:t>
            </a:r>
            <a:br>
              <a:rPr sz="2800"/>
            </a:br>
            <a:r>
              <a:rPr b="1" lang="es-ES" sz="2800" spc="-1" strike="noStrike">
                <a:solidFill>
                  <a:srgbClr val="1822cd"/>
                </a:solidFill>
                <a:latin typeface="Verdana"/>
              </a:rPr>
              <a:t>bloque {...} para agrupar varias instrucciones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( a&gt;=b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yor=a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menor=b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mayor=b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menor=a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ondiciones compuesta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public int mayor(int x,int y,int z)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 x &gt;= y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x &gt;= z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 y &gt;= z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turn z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n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indentación (uso de márgenes) que evidencia selección múltipl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 x &gt;= y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x &gt;= z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if( y &gt;= z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z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ondición compuest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50752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dición1 operador-lógico condición2 . .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perador lógico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&amp;&amp;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  y, and, conjun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||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 o, or, disyun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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:       no, not, negación (operador unari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00000" y="3789360"/>
          <a:ext cx="6480000" cy="2220840"/>
        </p:xfrm>
        <a:graphic>
          <a:graphicData uri="http://schemas.openxmlformats.org/drawingml/2006/table">
            <a:tbl>
              <a:tblPr/>
              <a:tblGrid>
                <a:gridCol w="534960"/>
                <a:gridCol w="534960"/>
                <a:gridCol w="2068560"/>
                <a:gridCol w="2220840"/>
                <a:gridCol w="1120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1 &amp;&amp; 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 || 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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 si ambos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 si alguno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 si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1384200" y="71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602136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 c2 se evalúa sólo si es necesario. Por 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x&gt;=y &amp;&amp; x&gt;=z)..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si x&lt;y entonces x&gt;=z no se evalú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Prioridades de operadore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rden de evalu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484360" y="2637000"/>
          <a:ext cx="3693960" cy="3657600"/>
        </p:xfrm>
        <a:graphic>
          <a:graphicData uri="http://schemas.openxmlformats.org/drawingml/2006/table">
            <a:tbl>
              <a:tblPr/>
              <a:tblGrid>
                <a:gridCol w="393840"/>
                <a:gridCol w="3300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+  - 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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(unari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(tipo) c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*  / 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+ 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  &gt;  &lt;=  &gt;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= 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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amp;&amp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||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scribir los métodos iguales y ma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class Programa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//iguales(x,y,z): cantidad de números iguales (3,2, o 0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//ej:iguales(1,2,3)=0,iguales(1,2,1)=2, iguales(1,1,1)=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iguales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(double x,double y,double z)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(String[]arg)throws IOException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Diálogo del programa principal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Tipo de triángulo de lados a,b,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a? __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b? __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c? __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equilátero,isósceles,escaleno,o“no forman triángulo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. 3 números forman un triángulo si son positivos y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la suma de 2 cualesquiera de ellos es mayor que el 3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Soluci</a:t>
            </a: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ón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iguales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(double x,double y,double z){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if(x==y &amp;&amp; x==z)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return 3;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else if(x==y || x==z || y==z)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return 2;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 2-3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Verdana"/>
              </a:rPr>
              <a:t>Solución 2. Con if sin el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f(x==y &amp;&amp; x==z) return 3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f(x==y || x==z || y==z) return 2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olución 3. Con condiciones simp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f(x==y) n=n+1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f(x==z) n=n+1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f(y==z) n=n+1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f(n==1) return 2; else return n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Main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Tipo de triángulo de lados a,b,c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U.readDouble(“a?”),     b=U.readDouble(“b?”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=U.readDouble(“c?”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 a&gt;0 &amp;&amp; b&gt;0 &amp;&amp; c&gt;0 &amp;&amp; a+b&gt;c &amp;&amp; a+c&gt;b &amp;&amp; b+c&gt;a )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n=iguales(a,b,c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 n == 3 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.println(“equilátero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if( n == 2 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.println(“isósceles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escaleno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.println(“no forman triángulo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Main - 2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Tipo de triángulo de lados a,b,c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U.readDouble(“a?”),     b=U.readDouble(“b?”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=U.readDouble(“c?”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 a&lt;=0 || b&lt;=0 || c&lt;=0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| a+b&lt;=c || a+c&lt;=b || b+c&lt;=a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.println(“no forman triángulo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n=iguales(a,b,c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 n == 3 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.println(“equilátero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if( n == 2 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.println(“isósceles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escaleno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Tipo boolean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constantes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(verdadero) y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 (fals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variables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nombre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xpresiones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: condi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asignación: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variable=condición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jemplo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olean p 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 = a&gt;=b &amp;&amp; a&gt;=c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( p ) //equivalencia: if( p==true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println(“mayor=”+a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822cd"/>
                </a:solidFill>
                <a:latin typeface="Verdana"/>
              </a:rPr>
              <a:t>Problema: ordenar 3 números generados al azar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class Ordenar3{ //en archivo Ordenar3.jav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throws IOException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U.println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“Ordenar 3 números 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+ “entre 1 y 100 generados al azar”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a=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U.azar(1,100)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b=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U.azar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1,100)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c=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U.azar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1,10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U.println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"Numeros="+a+" "+b+" "+c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minimo=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U.menor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a,b,c)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maximo=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U.mayor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a,b,c)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medio=a+b+c-minimo-maximo; // 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U.println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"Ordenados = " +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minimo + " " + medio + " " + maximo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ropuesto. Ordenar 4 númer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Funcione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public boolean par(int x)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x%2==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quivalencia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public boolean par(int x){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x%2==0) return true; else return fals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par(n))… ;else …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ntax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nombre(parámetros)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struccione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condición (exp de tipo boolea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ropuesto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boolean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bisiesto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int añ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riángul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double x,double y,double z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Escribir un método (función) que reciba dos enteros y entregue el mayor de los dos (sin usar Math.max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Ejemplo de uso(invocación): int m = mayor(a,b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Solución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mayor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(int x, int y)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Math.min(x,y) + Math.abs(x-y)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Solución 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mayor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(int x, int y)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900" spc="-1" strike="noStrike">
                <a:solidFill>
                  <a:srgbClr val="000000"/>
                </a:solidFill>
                <a:latin typeface="Courier New"/>
              </a:rPr>
              <a:t>return (x + y + Math.abs(x-y))/2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300720" y="4869000"/>
            <a:ext cx="2378160" cy="980640"/>
            <a:chOff x="6300720" y="4869000"/>
            <a:chExt cx="2378160" cy="980640"/>
          </a:xfrm>
        </p:grpSpPr>
        <p:sp>
          <p:nvSpPr>
            <p:cNvPr id="108" name=""/>
            <p:cNvSpPr/>
            <p:nvPr/>
          </p:nvSpPr>
          <p:spPr>
            <a:xfrm>
              <a:off x="7020000" y="4869000"/>
              <a:ext cx="914400" cy="366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(x+y)/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6300720" y="5302080"/>
              <a:ext cx="2378160" cy="547560"/>
              <a:chOff x="6300720" y="5302080"/>
              <a:chExt cx="2378160" cy="547560"/>
            </a:xfrm>
          </p:grpSpPr>
          <p:sp>
            <p:nvSpPr>
              <p:cNvPr id="110" name=""/>
              <p:cNvSpPr/>
              <p:nvPr/>
            </p:nvSpPr>
            <p:spPr>
              <a:xfrm>
                <a:off x="6300720" y="5392440"/>
                <a:ext cx="237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300720" y="5302080"/>
                <a:ext cx="0" cy="18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678880" y="5302080"/>
                <a:ext cx="0" cy="18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489800" y="5302080"/>
                <a:ext cx="0" cy="18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215120" y="5484600"/>
                <a:ext cx="731880" cy="365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|x-y|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764480" y="5667120"/>
                <a:ext cx="914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300720" y="5667120"/>
                <a:ext cx="1006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6084720" y="3282840"/>
            <a:ext cx="2737080" cy="909720"/>
            <a:chOff x="6084720" y="3282840"/>
            <a:chExt cx="2737080" cy="909720"/>
          </a:xfrm>
        </p:grpSpPr>
        <p:sp>
          <p:nvSpPr>
            <p:cNvPr id="118" name=""/>
            <p:cNvSpPr/>
            <p:nvPr/>
          </p:nvSpPr>
          <p:spPr>
            <a:xfrm>
              <a:off x="6084720" y="3282840"/>
              <a:ext cx="1154160" cy="36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min(x,y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443640" y="3645000"/>
              <a:ext cx="2378160" cy="547560"/>
              <a:chOff x="6443640" y="3645000"/>
              <a:chExt cx="2378160" cy="547560"/>
            </a:xfrm>
          </p:grpSpPr>
          <p:sp>
            <p:nvSpPr>
              <p:cNvPr id="120" name=""/>
              <p:cNvSpPr/>
              <p:nvPr/>
            </p:nvSpPr>
            <p:spPr>
              <a:xfrm>
                <a:off x="6443640" y="3735360"/>
                <a:ext cx="237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443640" y="3645000"/>
                <a:ext cx="0" cy="18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821800" y="3645000"/>
                <a:ext cx="0" cy="18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632720" y="3645000"/>
                <a:ext cx="0" cy="18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358040" y="3827520"/>
                <a:ext cx="731880" cy="365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|x-y|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907400" y="4010040"/>
                <a:ext cx="914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6443640" y="4010040"/>
                <a:ext cx="1006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 3 (más natural)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y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 int 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 x &gt; y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¿Significad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x es mayor que y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ntonc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ntregar el valor de x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 n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es decir si es x menor o igual que y, devolver el valor de 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Instrucción if-else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if( condición )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instrucción1;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instrucción2;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Instrucción if-else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403848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condición) instrucción1;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strucción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2920" y="1844280"/>
            <a:ext cx="403884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condición se cumple (es verdadera), ejecutar instrucción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condición no se cumple (es falsa), ejecutar instrucción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436572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95640" y="4149720"/>
            <a:ext cx="1187640" cy="936720"/>
          </a:xfrm>
          <a:prstGeom prst="diamond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27640" y="3571920"/>
            <a:ext cx="395280" cy="503280"/>
          </a:xfrm>
          <a:prstGeom prst="downArrow">
            <a:avLst>
              <a:gd name="adj1" fmla="val 50000"/>
              <a:gd name="adj2" fmla="val 31831"/>
            </a:avLst>
          </a:prstGeom>
          <a:solidFill>
            <a:srgbClr val="3568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0800000">
            <a:off x="3274560" y="4508640"/>
            <a:ext cx="647640" cy="574560"/>
          </a:xfrm>
          <a:custGeom>
            <a:avLst/>
            <a:gdLst>
              <a:gd name="textAreaLeft" fmla="*/ 216000 w 647640"/>
              <a:gd name="textAreaRight" fmla="*/ 554760 w 647640"/>
              <a:gd name="textAreaTop" fmla="*/ 330840 h 574560"/>
              <a:gd name="textAreaBottom" fmla="*/ 4921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568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rot="10800000">
            <a:off x="5290200" y="4508640"/>
            <a:ext cx="647640" cy="576000"/>
          </a:xfrm>
          <a:custGeom>
            <a:avLst/>
            <a:gdLst>
              <a:gd name="textAreaLeft" fmla="*/ 216000 w 647640"/>
              <a:gd name="textAreaRight" fmla="*/ 554760 w 647640"/>
              <a:gd name="textAreaTop" fmla="*/ 331920 h 576000"/>
              <a:gd name="textAreaBottom" fmla="*/ 4935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568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43280" y="5156280"/>
            <a:ext cx="1368360" cy="504720"/>
          </a:xfrm>
          <a:prstGeom prst="rect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cció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48360" y="5156280"/>
            <a:ext cx="1368360" cy="504720"/>
          </a:xfrm>
          <a:prstGeom prst="rect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cció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48000" y="4076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64000" y="407664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95640" y="443700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d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348000" y="5661000"/>
            <a:ext cx="2592360" cy="1008000"/>
            <a:chOff x="3348000" y="5661000"/>
            <a:chExt cx="2592360" cy="1008000"/>
          </a:xfrm>
        </p:grpSpPr>
        <p:sp>
          <p:nvSpPr>
            <p:cNvPr id="145" name=""/>
            <p:cNvSpPr/>
            <p:nvPr/>
          </p:nvSpPr>
          <p:spPr>
            <a:xfrm>
              <a:off x="4498920" y="6092640"/>
              <a:ext cx="360360" cy="576360"/>
            </a:xfrm>
            <a:prstGeom prst="downArrow">
              <a:avLst>
                <a:gd name="adj1" fmla="val 50000"/>
                <a:gd name="adj2" fmla="val 39985"/>
              </a:avLst>
            </a:prstGeom>
            <a:solidFill>
              <a:srgbClr val="3568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48000" y="6164280"/>
              <a:ext cx="122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87640" y="6164280"/>
              <a:ext cx="115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48000" y="5661000"/>
              <a:ext cx="215640" cy="503280"/>
            </a:xfrm>
            <a:prstGeom prst="rect">
              <a:avLst/>
            </a:prstGeom>
            <a:solidFill>
              <a:srgbClr val="3568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22920" y="5661000"/>
              <a:ext cx="217440" cy="503280"/>
            </a:xfrm>
            <a:prstGeom prst="rect">
              <a:avLst/>
            </a:prstGeom>
            <a:solidFill>
              <a:srgbClr val="3568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48000" y="5948280"/>
              <a:ext cx="2519280" cy="216000"/>
            </a:xfrm>
            <a:prstGeom prst="rect">
              <a:avLst/>
            </a:prstGeom>
            <a:solidFill>
              <a:srgbClr val="356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63640" y="5948280"/>
              <a:ext cx="21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822cd"/>
                </a:solidFill>
                <a:latin typeface="Verdana"/>
              </a:rPr>
              <a:t>Condición (condición simple o comparación)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ntaxis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 expresión1 operador-de-relación expresión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perador de relación (comparación): &lt;,&gt;,&lt;=,&gt;=,==,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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mántic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aluar expres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mparar resultados de expres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condición se cumple entregar valor verdadero (tru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condición no se cumple entregar valor falso (fal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b*b &gt;= 4*a*c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raices reales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raices complejas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8544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822cd"/>
                </a:solidFill>
                <a:latin typeface="Verdana"/>
              </a:rPr>
              <a:t>Caso especial 1: cada instrucción puede ser otro if-else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mayor(int x,int y,int z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x &gt;= y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x &gt;= z 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z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y &gt;= z 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y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z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4978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Caso especial 2: </a:t>
            </a:r>
            <a:r>
              <a:rPr b="1" lang="es-ES" sz="4000" spc="-1" strike="noStrike">
                <a:solidFill>
                  <a:srgbClr val="1822cd"/>
                </a:solidFill>
                <a:latin typeface="Verdana"/>
              </a:rPr>
              <a:t>else puede omitirse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8748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static public int mayor(int x,int y,int z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int aux=x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( y &gt; aux) aux=y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( z &gt; aux) aux=z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turn aux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4:31:24Z</dcterms:created>
  <dc:creator>Valeria Herskovic</dc:creator>
  <dc:description/>
  <dc:language>en-US</dc:language>
  <cp:lastModifiedBy>Valeria Herskovic</cp:lastModifiedBy>
  <cp:lastPrinted>2006-03-02T13:33:10Z</cp:lastPrinted>
  <dcterms:modified xsi:type="dcterms:W3CDTF">2008-03-18T20:28:05Z</dcterms:modified>
  <cp:revision>59</cp:revision>
  <dc:subject/>
  <dc:title>  CC1001- Computación I </dc:title>
</cp:coreProperties>
</file>