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49B-9ADD-451A-8E0B-C6C45F24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C9C-D369-43E8-8A43-F208DB88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3C2-A37A-4154-BEDF-1ACADA6D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F11-7F95-4890-BE1D-148AECBA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99D-900B-49F7-956B-965F0D5E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434-AD96-4914-97AA-4E5FF3B1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1C6-46B6-4BF0-8737-AC1F987F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CCA-0BEF-4798-B0A7-4052A2DF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F6D-7905-46C0-86DD-C005FE5B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AA8-CC8C-4F41-A932-2D048ADD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32A-85E8-4393-AC49-FEA4C45E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A89-BF7E-441D-8949-B8D5E1B5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1C62-AB84-464B-80AD-E9CC0D1774E4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3: if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Caso especial 3: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bloque {...} para agrupar varias instrucciones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a&gt;=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yor=a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b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ayor=b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ondiciones compuest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int mayor(int x,int y,int z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y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dentación (uso de márgenes) que evidencia selección múlti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y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ondición compuest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dición1 operador-lógico condición2 . .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dor lógic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&amp;&amp;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y, and, conj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||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o, or, disy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      no, not, negación (operador unari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3789360"/>
          <a:ext cx="6480000" cy="2220840"/>
        </p:xfrm>
        <a:graphic>
          <a:graphicData uri="http://schemas.openxmlformats.org/drawingml/2006/table">
            <a:tbl>
              <a:tblPr/>
              <a:tblGrid>
                <a:gridCol w="534960"/>
                <a:gridCol w="534960"/>
                <a:gridCol w="2068560"/>
                <a:gridCol w="2220840"/>
                <a:gridCol w="112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mbos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lguno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138420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6021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c2 se evalúa sólo si es necesario. Por 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&gt;=y &amp;&amp; x&gt;=z)..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i x&lt;y entonces x&gt;=z no se evalú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ioridades de operador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n de evalu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84360" y="2637000"/>
          <a:ext cx="3693960" cy="3657600"/>
        </p:xfrm>
        <a:graphic>
          <a:graphicData uri="http://schemas.openxmlformats.org/drawingml/2006/table">
            <a:tbl>
              <a:tblPr/>
              <a:tblGrid>
                <a:gridCol w="393840"/>
                <a:gridCol w="33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(unari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 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cribir los métodos iguales y m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iguales(x,y,z): cantidad de números iguales (3,2, o 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ej:iguales(1,2,3)=0,iguales(1,2,1)=2, iguales(1,1,1)=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Diálogo del programa principal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Tipo de triángulo de lados a,b,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a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b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quilátero,isósceles,escaleno,o“no forman triángulo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. 3 números forman un triángulo si son positivos 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suma de 2 cualesquiera de ellos es mayor que el 3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if(x==y &amp;&amp; x==z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else if(x==y || x==z || y==z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2-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Solución 2. Con if sin el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 &amp;&amp; x==z) return 3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 || x==z || y==z) return 2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lución 3. Con condicione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z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y==z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n==1) return 2; else return n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a&gt;0 &amp;&amp; b&gt;0 &amp;&amp; c&gt;0 &amp;&amp; a+b&gt;c &amp;&amp; a+c&gt;b &amp;&amp; b+c&gt;a 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 -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a&lt;=0 || b&lt;=0 || c&lt;=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 a+b&lt;=c || a+c&lt;=b || b+c&lt;=a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Problema: ordenar 3 números generados al aza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lass Ordenar3{ //en archivo Ordenar3.j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“Ordenar 3 númer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"Numeros="+a+" "+b+" "+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minimo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men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a,b,c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aximo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may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a,b,c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edio=a+b+c-minimo-maximo; //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"Ordenados = "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imo + " " + medio + " " + maxim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opuesto. Ordenar 4 núme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quivalenci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opuest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añ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riángul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ouble x,double y,double z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scribir un método (función) que reciba dos enteros y entregue el mayor de los dos (sin usar Math.max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jemplo de uso(invocación): int m = mayor(a,b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olució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int x, int y)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Math.min(x,y) + Math.abs(x-y)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olución 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int x, int y)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return (x + y + Math.abs(x-y))/2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300720" y="4869000"/>
            <a:ext cx="2378160" cy="980640"/>
            <a:chOff x="6300720" y="4869000"/>
            <a:chExt cx="2378160" cy="980640"/>
          </a:xfrm>
        </p:grpSpPr>
        <p:sp>
          <p:nvSpPr>
            <p:cNvPr id="108" name=""/>
            <p:cNvSpPr/>
            <p:nvPr/>
          </p:nvSpPr>
          <p:spPr>
            <a:xfrm>
              <a:off x="7020000" y="4869000"/>
              <a:ext cx="914400" cy="36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(x+y)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300720" y="5302080"/>
              <a:ext cx="2378160" cy="547560"/>
              <a:chOff x="6300720" y="5302080"/>
              <a:chExt cx="2378160" cy="54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6300720" y="539244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0072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7888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8980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215120" y="548460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64480" y="566712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300720" y="566712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084720" y="3282840"/>
            <a:ext cx="2737080" cy="909720"/>
            <a:chOff x="6084720" y="3282840"/>
            <a:chExt cx="2737080" cy="909720"/>
          </a:xfrm>
        </p:grpSpPr>
        <p:sp>
          <p:nvSpPr>
            <p:cNvPr id="118" name=""/>
            <p:cNvSpPr/>
            <p:nvPr/>
          </p:nvSpPr>
          <p:spPr>
            <a:xfrm>
              <a:off x="6084720" y="3282840"/>
              <a:ext cx="1154160" cy="36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min(x,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443640" y="3645000"/>
              <a:ext cx="2378160" cy="547560"/>
              <a:chOff x="6443640" y="3645000"/>
              <a:chExt cx="2378160" cy="547560"/>
            </a:xfrm>
          </p:grpSpPr>
          <p:sp>
            <p:nvSpPr>
              <p:cNvPr id="120" name=""/>
              <p:cNvSpPr/>
              <p:nvPr/>
            </p:nvSpPr>
            <p:spPr>
              <a:xfrm>
                <a:off x="6443640" y="373536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4364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82180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3272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58040" y="382752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07400" y="401004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443640" y="401004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3 (más natural)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¿Significa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 es mayor que 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o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tregar el valor de x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 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s decir si es x menor o igual que y, devolver el valor de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f( condición )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1;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2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2920" y="1844280"/>
            <a:ext cx="403884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365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4149720"/>
            <a:ext cx="1187640" cy="936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45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822cd"/>
                </a:solidFill>
                <a:latin typeface="Verdana"/>
              </a:rPr>
              <a:t>Condición (condición simple o comparaci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expresión1 operador-de-relación expres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dor de relación (comparación): &lt;,&gt;,&lt;=,&gt;=,==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aluar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rar resultados de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entregar valor verdadero 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entregar valor falso (fal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b*b &gt;= 4*a*c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real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compleja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Caso especial 1: cada instrucción puede ser otro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97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Caso especial 2: </a:t>
            </a:r>
            <a:r>
              <a:rPr b="1" lang="es-ES" sz="4000" spc="-1" strike="noStrike">
                <a:solidFill>
                  <a:srgbClr val="1822cd"/>
                </a:solidFill>
                <a:latin typeface="Verdana"/>
              </a:rPr>
              <a:t>else puede omitir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aux=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y &gt; aux) aux=y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z &gt; aux) aux=z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ria Herskovic</cp:lastModifiedBy>
  <cp:lastPrinted>2006-03-02T13:33:10Z</cp:lastPrinted>
  <dcterms:modified xsi:type="dcterms:W3CDTF">2008-03-18T20:28:05Z</dcterms:modified>
  <cp:revision>59</cp:revision>
  <dc:subject/>
  <dc:title>  CC1001- Computación I </dc:title>
</cp:coreProperties>
</file>