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935C1-2581-4BF0-9400-347AA9950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4239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2E0C5-E59F-4A1A-A6FE-678FF6B2A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E9CF3-5952-4D98-8055-19E8F1857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D6C71-DD88-4CB3-8B25-55A411A9D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51920" y="75960"/>
            <a:ext cx="8915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B6DA8-2C15-49AB-B2DF-307A1FFC1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7424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57200" y="4239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7424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23964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2208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5720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23964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02208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1480C-E5C3-420C-B32D-6C847DE8C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43278-7C8B-44AF-878F-E24A4591F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7D820-6F15-44D3-B5E8-02CEDD641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151920" y="75960"/>
            <a:ext cx="8915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358C5-FA48-4DF7-8B23-FA7E60CA3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E8CE9-BA67-460B-BDBD-806E33F64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DE1D6-202A-40BA-BE12-3DCB630C3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1387D-7705-4386-8A57-123EC4D1A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905120"/>
            <a:ext cx="380880" cy="4952880"/>
          </a:xfrm>
          <a:prstGeom prst="rtTriangle">
            <a:avLst/>
          </a:prstGeom>
          <a:gradFill rotWithShape="0">
            <a:gsLst>
              <a:gs pos="0">
                <a:srgbClr val="b3d1f0"/>
              </a:gs>
              <a:gs pos="50000">
                <a:srgbClr val="fefefe"/>
              </a:gs>
              <a:gs pos="100000">
                <a:srgbClr val="b3d1f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 flipH="1">
            <a:off x="8686080" y="1905120"/>
            <a:ext cx="453960" cy="4952880"/>
          </a:xfrm>
          <a:prstGeom prst="rtTriangle">
            <a:avLst/>
          </a:prstGeom>
          <a:gradFill rotWithShape="0">
            <a:gsLst>
              <a:gs pos="0">
                <a:srgbClr val="b3d1f0"/>
              </a:gs>
              <a:gs pos="50000">
                <a:srgbClr val="fefefe"/>
              </a:gs>
              <a:gs pos="100000">
                <a:srgbClr val="b3d1f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>
          <a:xfrm>
            <a:off x="-360" y="655272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>
          <a:xfrm>
            <a:off x="1371240" y="6552720"/>
            <a:ext cx="716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>
          <a:xfrm>
            <a:off x="8686800" y="6324480"/>
            <a:ext cx="457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1822cd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6E589-E135-4AB3-8A02-F2092985CF90}" type="slidenum">
              <a:rPr b="0" lang="es-ES_tradnl" sz="1400" spc="-1" strike="noStrike">
                <a:solidFill>
                  <a:srgbClr val="1822c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0"/>
            <a:ext cx="9144000" cy="1752480"/>
            <a:chOff x="0" y="0"/>
            <a:chExt cx="9144000" cy="1752480"/>
          </a:xfrm>
        </p:grpSpPr>
        <p:grpSp>
          <p:nvGrpSpPr>
            <p:cNvPr id="6" name=""/>
            <p:cNvGrpSpPr/>
            <p:nvPr/>
          </p:nvGrpSpPr>
          <p:grpSpPr>
            <a:xfrm>
              <a:off x="6480" y="1219320"/>
              <a:ext cx="9137520" cy="380160"/>
              <a:chOff x="6480" y="1219320"/>
              <a:chExt cx="9137520" cy="380160"/>
            </a:xfrm>
          </p:grpSpPr>
          <p:sp>
            <p:nvSpPr>
              <p:cNvPr id="7" name=""/>
              <p:cNvSpPr/>
              <p:nvPr/>
            </p:nvSpPr>
            <p:spPr>
              <a:xfrm flipV="1">
                <a:off x="6480" y="1241280"/>
                <a:ext cx="9137520" cy="92520"/>
              </a:xfrm>
              <a:prstGeom prst="rect">
                <a:avLst/>
              </a:prstGeom>
              <a:solidFill>
                <a:srgbClr val="b3d1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480" y="1334880"/>
                <a:ext cx="9137520" cy="224280"/>
              </a:xfrm>
              <a:prstGeom prst="rect">
                <a:avLst/>
              </a:prstGeom>
              <a:gradFill rotWithShape="0">
                <a:gsLst>
                  <a:gs pos="0">
                    <a:srgbClr val="3568c7"/>
                  </a:gs>
                  <a:gs pos="100000">
                    <a:srgbClr val="a7bde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480" y="1219320"/>
                <a:ext cx="9137520" cy="23040"/>
              </a:xfrm>
              <a:prstGeom prst="rect">
                <a:avLst/>
              </a:prstGeom>
              <a:gradFill rotWithShape="0">
                <a:gsLst>
                  <a:gs pos="0">
                    <a:srgbClr val="1822cd"/>
                  </a:gs>
                  <a:gs pos="100000">
                    <a:srgbClr val="868c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760" bIns="-23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V="1">
                <a:off x="6480" y="1554480"/>
                <a:ext cx="9137520" cy="44280"/>
              </a:xfrm>
              <a:prstGeom prst="rect">
                <a:avLst/>
              </a:prstGeom>
              <a:gradFill rotWithShape="0">
                <a:gsLst>
                  <a:gs pos="0">
                    <a:srgbClr val="a7bde6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6480" y="1327680"/>
                <a:ext cx="9137520" cy="44280"/>
              </a:xfrm>
              <a:prstGeom prst="rect">
                <a:avLst/>
              </a:prstGeom>
              <a:gradFill rotWithShape="0">
                <a:gsLst>
                  <a:gs pos="0">
                    <a:srgbClr val="b3d1f0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0"/>
              <a:ext cx="9144000" cy="12193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3240" y="1600200"/>
              <a:ext cx="9140760" cy="15228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680" y="1184400"/>
              <a:ext cx="9139320" cy="74520"/>
            </a:xfrm>
            <a:prstGeom prst="rect">
              <a:avLst/>
            </a:prstGeom>
            <a:solidFill>
              <a:srgbClr val="777777">
                <a:alpha val="3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" name="PlaceHolder 4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6" name="PlaceHolder 5"/>
          <p:cNvSpPr>
            <a:spLocks noGrp="1"/>
          </p:cNvSpPr>
          <p:nvPr>
            <p:ph type="body"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7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63800" indent="-223920">
              <a:spcBef>
                <a:spcPts val="799"/>
              </a:spcBef>
              <a:buClr>
                <a:srgbClr val="3568c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400040" indent="-223920">
              <a:spcBef>
                <a:spcPts val="799"/>
              </a:spcBef>
              <a:buClr>
                <a:srgbClr val="f0615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35920" indent="-223920">
              <a:spcBef>
                <a:spcPts val="799"/>
              </a:spcBef>
              <a:buClr>
                <a:srgbClr val="1822c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35920" indent="-22392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35920" indent="-22392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0" y="0"/>
            <a:ext cx="9144000" cy="4038480"/>
            <a:chOff x="0" y="0"/>
            <a:chExt cx="9144000" cy="4038480"/>
          </a:xfrm>
        </p:grpSpPr>
        <p:sp>
          <p:nvSpPr>
            <p:cNvPr id="54" name=""/>
            <p:cNvSpPr/>
            <p:nvPr/>
          </p:nvSpPr>
          <p:spPr>
            <a:xfrm>
              <a:off x="0" y="0"/>
              <a:ext cx="9144000" cy="35053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0" y="3505320"/>
              <a:ext cx="9137520" cy="380160"/>
              <a:chOff x="0" y="3505320"/>
              <a:chExt cx="9137520" cy="380160"/>
            </a:xfrm>
          </p:grpSpPr>
          <p:sp>
            <p:nvSpPr>
              <p:cNvPr id="56" name=""/>
              <p:cNvSpPr/>
              <p:nvPr/>
            </p:nvSpPr>
            <p:spPr>
              <a:xfrm flipV="1">
                <a:off x="0" y="3527280"/>
                <a:ext cx="9137520" cy="92520"/>
              </a:xfrm>
              <a:prstGeom prst="rect">
                <a:avLst/>
              </a:prstGeom>
              <a:solidFill>
                <a:srgbClr val="b3d1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3620880"/>
                <a:ext cx="9137520" cy="224280"/>
              </a:xfrm>
              <a:prstGeom prst="rect">
                <a:avLst/>
              </a:prstGeom>
              <a:gradFill rotWithShape="0">
                <a:gsLst>
                  <a:gs pos="0">
                    <a:srgbClr val="3568c7"/>
                  </a:gs>
                  <a:gs pos="100000">
                    <a:srgbClr val="a7bde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505320"/>
                <a:ext cx="9137520" cy="23040"/>
              </a:xfrm>
              <a:prstGeom prst="rect">
                <a:avLst/>
              </a:prstGeom>
              <a:gradFill rotWithShape="0">
                <a:gsLst>
                  <a:gs pos="0">
                    <a:srgbClr val="1822cd"/>
                  </a:gs>
                  <a:gs pos="100000">
                    <a:srgbClr val="868c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760" bIns="-23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flipV="1">
                <a:off x="0" y="3840480"/>
                <a:ext cx="9137520" cy="44280"/>
              </a:xfrm>
              <a:prstGeom prst="rect">
                <a:avLst/>
              </a:prstGeom>
              <a:gradFill rotWithShape="0">
                <a:gsLst>
                  <a:gs pos="0">
                    <a:srgbClr val="a7bde6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3613680"/>
                <a:ext cx="9137520" cy="44280"/>
              </a:xfrm>
              <a:prstGeom prst="rect">
                <a:avLst/>
              </a:prstGeom>
              <a:gradFill rotWithShape="0">
                <a:gsLst>
                  <a:gs pos="0">
                    <a:srgbClr val="b3d1f0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" name=""/>
            <p:cNvSpPr/>
            <p:nvPr/>
          </p:nvSpPr>
          <p:spPr>
            <a:xfrm>
              <a:off x="3240" y="3886200"/>
              <a:ext cx="9140760" cy="15228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0" y="3470400"/>
            <a:ext cx="9139320" cy="74520"/>
          </a:xfrm>
          <a:prstGeom prst="rect">
            <a:avLst/>
          </a:prstGeom>
          <a:solidFill>
            <a:srgbClr val="777777">
              <a:alpha val="3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857160" algn="ctr">
              <a:spcBef>
                <a:spcPts val="601"/>
              </a:spcBef>
              <a:buClr>
                <a:srgbClr val="3568c7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200240" algn="ctr">
              <a:spcBef>
                <a:spcPts val="499"/>
              </a:spcBef>
              <a:buClr>
                <a:srgbClr val="f06157"/>
              </a:buClr>
              <a:buFont typeface="Time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542960" algn="ctr">
              <a:spcBef>
                <a:spcPts val="499"/>
              </a:spcBef>
              <a:buClr>
                <a:srgbClr val="1822cd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54296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54296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1822cd"/>
                </a:solidFill>
                <a:latin typeface="Verdana"/>
              </a:rPr>
              <a:t>Clase 3: if</a:t>
            </a: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323640" y="5229000"/>
            <a:ext cx="8569080" cy="14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Valeria Herskovic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vherskov@dcc.uchile.c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892800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822cd"/>
                </a:solidFill>
                <a:latin typeface="Verdana"/>
              </a:rPr>
              <a:t>Caso especial 3:</a:t>
            </a:r>
            <a:br>
              <a:rPr sz="2800"/>
            </a:br>
            <a:r>
              <a:rPr b="1" lang="es-ES" sz="2800" spc="-1" strike="noStrike">
                <a:solidFill>
                  <a:srgbClr val="1822cd"/>
                </a:solidFill>
                <a:latin typeface="Verdana"/>
              </a:rPr>
              <a:t>bloque {...} para agrupar varias instrucciones</a:t>
            </a:r>
            <a:endParaRPr b="1" lang="en-US" sz="28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if( a&gt;=b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yor=a;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menor=b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mayor=b;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menor=a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Verdana"/>
              </a:rPr>
              <a:t>Condiciones compuestas</a:t>
            </a: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atic public int mayor(int x,int y,int z)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( x &gt;= y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x &gt;= z 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x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( y &gt;= z 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y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return z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Con</a:t>
            </a:r>
            <a:r>
              <a:rPr b="1" lang="es-E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indentación (uso de márgenes) que evidencia selección múltiple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( x &gt;= y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x &gt;= z 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x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lse if( y &gt;= z 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y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z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Verdana"/>
              </a:rPr>
              <a:t>Condición compuesta</a:t>
            </a: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507520" cy="21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Verdana"/>
              </a:rPr>
              <a:t>Sintaxi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condición1 operador-lógico condición2 . . 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operador lógico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Verdana"/>
              </a:rPr>
              <a:t>&amp;&amp;: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   y, and, conjunció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Verdana"/>
              </a:rPr>
              <a:t>||: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  o, or, disyunció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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:       no, not, negación (operador unario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Verdana"/>
              </a:rPr>
              <a:t>Semántic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900000" y="3789360"/>
          <a:ext cx="6480000" cy="2220840"/>
        </p:xfrm>
        <a:graphic>
          <a:graphicData uri="http://schemas.openxmlformats.org/drawingml/2006/table">
            <a:tbl>
              <a:tblPr/>
              <a:tblGrid>
                <a:gridCol w="534960"/>
                <a:gridCol w="534960"/>
                <a:gridCol w="2068560"/>
                <a:gridCol w="2220840"/>
                <a:gridCol w="1120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1 &amp;&amp; c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 || c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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 si ambos 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 si alguno 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 si 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5" name=""/>
          <p:cNvSpPr/>
          <p:nvPr/>
        </p:nvSpPr>
        <p:spPr>
          <a:xfrm>
            <a:off x="1384200" y="712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9640" y="6021360"/>
            <a:ext cx="82296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Verdana"/>
              </a:rPr>
              <a:t>Nota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. c2 se evalúa sólo si es necesario. Por e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if(x&gt;=y &amp;&amp; x&gt;=z)...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si x&lt;y entonces x&gt;=z no se evalú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Verdana"/>
              </a:rPr>
              <a:t>Prioridades de operadores</a:t>
            </a: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rden de evaluació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2484360" y="2637000"/>
          <a:ext cx="3693960" cy="3657600"/>
        </p:xfrm>
        <a:graphic>
          <a:graphicData uri="http://schemas.openxmlformats.org/drawingml/2006/table">
            <a:tbl>
              <a:tblPr/>
              <a:tblGrid>
                <a:gridCol w="393840"/>
                <a:gridCol w="33001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+  -  </a:t>
                      </a: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</a:t>
                      </a: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(unario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(tipo) ca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*  /  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+  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  &gt;  &lt;=  &gt;=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=  </a:t>
                      </a: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</a:t>
                      </a: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amp;&amp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||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Verdana"/>
              </a:rPr>
              <a:t>Problema</a:t>
            </a: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Escribir los métodos iguales y mai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urier New"/>
              </a:rPr>
              <a:t>class Programa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urier New"/>
              </a:rPr>
              <a:t>//iguales(x,y,z): cantidad de números iguales (3,2, o 0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urier New"/>
              </a:rPr>
              <a:t>//ej:iguales(1,2,3)=0,iguales(1,2,1)=2, iguales(1,1,1)=3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urier New"/>
              </a:rPr>
              <a:t>static public int </a:t>
            </a:r>
            <a:r>
              <a:rPr b="1" lang="es-ES" sz="1600" spc="-1" strike="noStrike">
                <a:solidFill>
                  <a:srgbClr val="000000"/>
                </a:solidFill>
                <a:latin typeface="Courier New"/>
              </a:rPr>
              <a:t>iguales</a:t>
            </a:r>
            <a:r>
              <a:rPr b="0" lang="es-ES" sz="1600" spc="-1" strike="noStrike">
                <a:solidFill>
                  <a:srgbClr val="000000"/>
                </a:solidFill>
                <a:latin typeface="Courier New"/>
              </a:rPr>
              <a:t>(double x,double y,double z)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urier New"/>
              </a:rPr>
              <a:t>static public void </a:t>
            </a:r>
            <a:r>
              <a:rPr b="1" lang="es-ES" sz="1600" spc="-1" strike="noStrike">
                <a:solidFill>
                  <a:srgbClr val="000000"/>
                </a:solidFill>
                <a:latin typeface="Courier New"/>
              </a:rPr>
              <a:t>main</a:t>
            </a:r>
            <a:r>
              <a:rPr b="0" lang="es-ES" sz="1600" spc="-1" strike="noStrike">
                <a:solidFill>
                  <a:srgbClr val="000000"/>
                </a:solidFill>
                <a:latin typeface="Courier New"/>
              </a:rPr>
              <a:t>(String[]arg)throws IOException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Diálogo del programa principal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ourier New"/>
              </a:rPr>
              <a:t>Tipo de triángulo de lados a,b,c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ourier New"/>
              </a:rPr>
              <a:t>a? __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ourier New"/>
              </a:rPr>
              <a:t>b? __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ourier New"/>
              </a:rPr>
              <a:t>c? __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ourier New"/>
              </a:rPr>
              <a:t>equilátero,isósceles,escaleno,o“no forman triángulo”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Nota</a:t>
            </a: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. 3 números forman un triángulo si son positivos y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la suma de 2 cualesquiera de ellos es mayor que el 3º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Verdana"/>
              </a:rPr>
              <a:t>Soluci</a:t>
            </a:r>
            <a:r>
              <a:rPr b="1" lang="es-CL" sz="4400" spc="-1" strike="noStrike">
                <a:solidFill>
                  <a:srgbClr val="1822cd"/>
                </a:solidFill>
                <a:latin typeface="Verdana"/>
              </a:rPr>
              <a:t>ón</a:t>
            </a: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ourier New"/>
              </a:rPr>
              <a:t>int </a:t>
            </a:r>
            <a:r>
              <a:rPr b="1" lang="en-US" sz="3100" spc="-1" strike="noStrike">
                <a:solidFill>
                  <a:srgbClr val="000000"/>
                </a:solidFill>
                <a:latin typeface="Courier New"/>
              </a:rPr>
              <a:t>iguales</a:t>
            </a:r>
            <a:r>
              <a:rPr b="0" lang="en-US" sz="3100" spc="-1" strike="noStrike">
                <a:solidFill>
                  <a:srgbClr val="000000"/>
                </a:solidFill>
                <a:latin typeface="Courier New"/>
              </a:rPr>
              <a:t>(double x,double y,double z){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Courier New"/>
              </a:rPr>
              <a:t>if(x==y &amp;&amp; x==z) 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100" spc="-1" strike="noStrike">
                <a:solidFill>
                  <a:srgbClr val="000000"/>
                </a:solidFill>
                <a:latin typeface="Courier New"/>
              </a:rPr>
              <a:t>return 3;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Courier New"/>
              </a:rPr>
              <a:t>else if(x==y || x==z || y==z) 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100" spc="-1" strike="noStrike">
                <a:solidFill>
                  <a:srgbClr val="000000"/>
                </a:solidFill>
                <a:latin typeface="Courier New"/>
              </a:rPr>
              <a:t>return 2;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1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1822cd"/>
                </a:solidFill>
                <a:latin typeface="Verdana"/>
              </a:rPr>
              <a:t>Solución 2-3</a:t>
            </a: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Verdana"/>
              </a:rPr>
              <a:t>Solución 2. Con if sin els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if(x==y &amp;&amp; x==z) return 3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if(x==y || x==z || y==z) return 2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Solución 3. Con condiciones simpl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int n=0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if(x==y) n=n+1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if(x==z) n=n+1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if(y==z) n=n+1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if(n==1) return 2; else return n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1822cd"/>
                </a:solidFill>
                <a:latin typeface="Verdana"/>
              </a:rPr>
              <a:t>Main</a:t>
            </a: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U.println(“Tipo de triángulo de lados a,b,c"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uble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=U.readDouble(“a?”),     b=U.readDouble(“b?”),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=U.readDouble(“c?”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( a&gt;0 &amp;&amp; b&gt;0 &amp;&amp; c&gt;0 &amp;&amp; a+b&gt;c &amp;&amp; a+c&gt;b &amp;&amp; b+c&gt;a )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int n=iguales(a,b,c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( n == 3 )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.println(“equilátero"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lse if( n == 2 )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.println(“isósceles"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else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U.println(“escaleno"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.println(“no forman triángulo"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1822cd"/>
                </a:solidFill>
                <a:latin typeface="Verdana"/>
              </a:rPr>
              <a:t>Main - 2</a:t>
            </a: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U.println(“Tipo de triángulo de lados a,b,c"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uble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=U.readDouble(“a?”),     b=U.readDouble(“b?”),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=U.readDouble(“c?”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( a&lt;=0 || b&lt;=0 || c&lt;=0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|| a+b&lt;=c || a+c&lt;=b || b+c&lt;=a 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.println(“no forman triángulo"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else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int n=iguales(a,b,c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( n == 3 )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.println(“equilátero"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lse if( n == 2 )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.println(“isósceles"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else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U.println(“escaleno"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1822cd"/>
                </a:solidFill>
                <a:latin typeface="Verdana"/>
              </a:rPr>
              <a:t>Tipo boolean</a:t>
            </a: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Verdana"/>
              </a:rPr>
              <a:t>constantes</a:t>
            </a: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 (verdadero) y </a:t>
            </a: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false</a:t>
            </a: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  (falso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Verdana"/>
              </a:rPr>
              <a:t>variables</a:t>
            </a: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 nombre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Verdana"/>
              </a:rPr>
              <a:t>expresiones</a:t>
            </a: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: condicion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Verdana"/>
              </a:rPr>
              <a:t>asignación: </a:t>
            </a: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variable=condición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ejemplos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boolean p 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p = a&gt;=b &amp;&amp; a&gt;=c;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if( p ) //equivalencia: if( p==true 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.println(“mayor=”+a)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1822cd"/>
                </a:solidFill>
                <a:latin typeface="Verdana"/>
              </a:rPr>
              <a:t>Problema: ordenar 3 números generados al azar</a:t>
            </a:r>
            <a:endParaRPr b="1" lang="en-US" sz="40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874520"/>
            <a:ext cx="8229600" cy="47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class Ordenar3{ //en archivo Ordenar3.jav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atic public void main(String[]args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throws IOException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urier New"/>
              </a:rPr>
              <a:t>U.println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(“Ordenar 3 números “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+ “entre 1 y 100 generados al azar”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int a=</a:t>
            </a:r>
            <a:r>
              <a:rPr b="1" lang="es-ES" sz="1800" spc="-1" strike="noStrike">
                <a:solidFill>
                  <a:srgbClr val="000000"/>
                </a:solidFill>
                <a:latin typeface="Courier New"/>
              </a:rPr>
              <a:t>U.azar(1,100)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b=</a:t>
            </a:r>
            <a:r>
              <a:rPr b="1" lang="es-ES" sz="1800" spc="-1" strike="noStrike">
                <a:solidFill>
                  <a:srgbClr val="000000"/>
                </a:solidFill>
                <a:latin typeface="Courier New"/>
              </a:rPr>
              <a:t>U.azar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(1,100)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c=</a:t>
            </a:r>
            <a:r>
              <a:rPr b="1" lang="es-ES" sz="1800" spc="-1" strike="noStrike">
                <a:solidFill>
                  <a:srgbClr val="000000"/>
                </a:solidFill>
                <a:latin typeface="Courier New"/>
              </a:rPr>
              <a:t>U.azar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(1,100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urier New"/>
              </a:rPr>
              <a:t>U.println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("Numeros="+a+" "+b+" "+c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int minimo=</a:t>
            </a:r>
            <a:r>
              <a:rPr b="1" lang="es-ES" sz="1800" spc="-1" strike="noStrike">
                <a:solidFill>
                  <a:srgbClr val="000000"/>
                </a:solidFill>
                <a:latin typeface="Courier New"/>
              </a:rPr>
              <a:t>U.menor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(a,b,c)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maximo=</a:t>
            </a:r>
            <a:r>
              <a:rPr b="1" lang="es-ES" sz="1800" spc="-1" strike="noStrike">
                <a:solidFill>
                  <a:srgbClr val="000000"/>
                </a:solidFill>
                <a:latin typeface="Courier New"/>
              </a:rPr>
              <a:t>U.mayor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(a,b,c)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s-ES" sz="1800" spc="-1" strike="noStrike">
                <a:solidFill>
                  <a:srgbClr val="000000"/>
                </a:solidFill>
                <a:latin typeface="Courier New"/>
              </a:rPr>
              <a:t>medio=a+b+c-minimo-maximo; // </a:t>
            </a:r>
            <a:r>
              <a:rPr b="1" lang="es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urier New"/>
              </a:rPr>
              <a:t>U.println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("Ordenados = " +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Courier New"/>
              </a:rPr>
              <a:t>minimo + " " + medio + " " + maximo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Propuesto. Ordenar 4 númer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1822cd"/>
                </a:solidFill>
                <a:latin typeface="Verdana"/>
              </a:rPr>
              <a:t>Funciones</a:t>
            </a: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atic public boolean par(int x)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x%2==0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quivalencia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atic public boolean par(int x){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(x%2==0) return true; else return false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s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(par(n))… ;else …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ntaxi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atic public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nombre(parámetros)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strucciones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condición (exp de tipo boolean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Propuestos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boolean </a:t>
            </a:r>
            <a:r>
              <a:rPr b="1" lang="es-ES" sz="1800" spc="-1" strike="noStrike">
                <a:solidFill>
                  <a:srgbClr val="000000"/>
                </a:solidFill>
                <a:latin typeface="Courier New"/>
              </a:rPr>
              <a:t>bisiesto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(int año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oolea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riángulo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double x,double y,double z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822cd"/>
                </a:solidFill>
                <a:latin typeface="Verdana"/>
              </a:rPr>
              <a:t>Problema</a:t>
            </a:r>
            <a:endParaRPr b="1" lang="en-US" sz="40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Verdana"/>
              </a:rPr>
              <a:t>Escribir un método (función) que reciba dos enteros y entregue el mayor de los dos (sin usar Math.max)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Verdana"/>
              </a:rPr>
              <a:t>Ejemplo de uso(invocación): int m = mayor(a,b)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900" spc="-1" strike="noStrike">
                <a:solidFill>
                  <a:srgbClr val="000000"/>
                </a:solidFill>
                <a:latin typeface="Verdana"/>
              </a:rPr>
              <a:t>Solución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static public int 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mayor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(int x, int y){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return Math.min(x,y) + Math.abs(x-y);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900" spc="-1" strike="noStrike">
                <a:solidFill>
                  <a:srgbClr val="000000"/>
                </a:solidFill>
                <a:latin typeface="Verdana"/>
              </a:rPr>
              <a:t>Solución 2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static public int 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mayor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(int x, int y){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1900" spc="-1" strike="noStrike">
                <a:solidFill>
                  <a:srgbClr val="000000"/>
                </a:solidFill>
                <a:latin typeface="Courier New"/>
              </a:rPr>
              <a:t>return (x + y + Math.abs(x-y))/2;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300720" y="4869000"/>
            <a:ext cx="2378160" cy="980640"/>
            <a:chOff x="6300720" y="4869000"/>
            <a:chExt cx="2378160" cy="980640"/>
          </a:xfrm>
        </p:grpSpPr>
        <p:sp>
          <p:nvSpPr>
            <p:cNvPr id="108" name=""/>
            <p:cNvSpPr/>
            <p:nvPr/>
          </p:nvSpPr>
          <p:spPr>
            <a:xfrm>
              <a:off x="7020000" y="4869000"/>
              <a:ext cx="914400" cy="3664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(x+y)/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9" name=""/>
            <p:cNvGrpSpPr/>
            <p:nvPr/>
          </p:nvGrpSpPr>
          <p:grpSpPr>
            <a:xfrm>
              <a:off x="6300720" y="5302080"/>
              <a:ext cx="2378160" cy="547560"/>
              <a:chOff x="6300720" y="5302080"/>
              <a:chExt cx="2378160" cy="547560"/>
            </a:xfrm>
          </p:grpSpPr>
          <p:sp>
            <p:nvSpPr>
              <p:cNvPr id="110" name=""/>
              <p:cNvSpPr/>
              <p:nvPr/>
            </p:nvSpPr>
            <p:spPr>
              <a:xfrm>
                <a:off x="6300720" y="5392440"/>
                <a:ext cx="23781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300720" y="5302080"/>
                <a:ext cx="0" cy="182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678880" y="5302080"/>
                <a:ext cx="0" cy="182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7489800" y="5302080"/>
                <a:ext cx="0" cy="182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7215120" y="5484600"/>
                <a:ext cx="731880" cy="3650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400" spc="-1" strike="noStrike">
                    <a:solidFill>
                      <a:srgbClr val="000000"/>
                    </a:solidFill>
                    <a:latin typeface="Verdana"/>
                    <a:ea typeface="ＭＳ Ｐゴシック"/>
                  </a:rPr>
                  <a:t>|x-y|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7764480" y="5667120"/>
                <a:ext cx="9144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300720" y="5667120"/>
                <a:ext cx="10065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7" name=""/>
          <p:cNvGrpSpPr/>
          <p:nvPr/>
        </p:nvGrpSpPr>
        <p:grpSpPr>
          <a:xfrm>
            <a:off x="6084720" y="3282840"/>
            <a:ext cx="2737080" cy="909720"/>
            <a:chOff x="6084720" y="3282840"/>
            <a:chExt cx="2737080" cy="909720"/>
          </a:xfrm>
        </p:grpSpPr>
        <p:sp>
          <p:nvSpPr>
            <p:cNvPr id="118" name=""/>
            <p:cNvSpPr/>
            <p:nvPr/>
          </p:nvSpPr>
          <p:spPr>
            <a:xfrm>
              <a:off x="6084720" y="3282840"/>
              <a:ext cx="1154160" cy="3668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min(x,y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9" name=""/>
            <p:cNvGrpSpPr/>
            <p:nvPr/>
          </p:nvGrpSpPr>
          <p:grpSpPr>
            <a:xfrm>
              <a:off x="6443640" y="3645000"/>
              <a:ext cx="2378160" cy="547560"/>
              <a:chOff x="6443640" y="3645000"/>
              <a:chExt cx="2378160" cy="547560"/>
            </a:xfrm>
          </p:grpSpPr>
          <p:sp>
            <p:nvSpPr>
              <p:cNvPr id="120" name=""/>
              <p:cNvSpPr/>
              <p:nvPr/>
            </p:nvSpPr>
            <p:spPr>
              <a:xfrm>
                <a:off x="6443640" y="3735360"/>
                <a:ext cx="23781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6443640" y="3645000"/>
                <a:ext cx="0" cy="182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8821800" y="3645000"/>
                <a:ext cx="0" cy="182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7632720" y="3645000"/>
                <a:ext cx="0" cy="182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7358040" y="3827520"/>
                <a:ext cx="731880" cy="3650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400" spc="-1" strike="noStrike">
                    <a:solidFill>
                      <a:srgbClr val="000000"/>
                    </a:solidFill>
                    <a:latin typeface="Verdana"/>
                    <a:ea typeface="ＭＳ Ｐゴシック"/>
                  </a:rPr>
                  <a:t>|x-y|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7907400" y="4010040"/>
                <a:ext cx="9144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>
                <a:off x="6443640" y="4010040"/>
                <a:ext cx="10065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1822cd"/>
                </a:solidFill>
                <a:latin typeface="Verdana"/>
              </a:rPr>
              <a:t>Solución 3 (más natural)</a:t>
            </a: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atic public 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yo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int x, int y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( x &gt; y 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x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y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¿Significado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i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x es mayor que y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ntonce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entregar el valor de x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i no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es decir si es x menor o igual que y, devolver el valor de 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822cd"/>
                </a:solidFill>
                <a:latin typeface="Verdana"/>
              </a:rPr>
              <a:t>Instrucción if-else</a:t>
            </a:r>
            <a:endParaRPr b="1" lang="en-US" sz="40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Verdana"/>
              </a:rPr>
              <a:t>Sintaxi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ourier New"/>
              </a:rPr>
              <a:t>if( condición )</a:t>
            </a:r>
            <a:r>
              <a:rPr b="0" lang="es-ES" sz="3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3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36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3600" spc="-1" strike="noStrike">
                <a:solidFill>
                  <a:srgbClr val="000000"/>
                </a:solidFill>
                <a:latin typeface="Courier New"/>
              </a:rPr>
              <a:t>instrucción1;</a:t>
            </a:r>
            <a:r>
              <a:rPr b="0" lang="es-ES" sz="36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s-ES" sz="3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3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3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3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36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3600" spc="-1" strike="noStrike">
                <a:solidFill>
                  <a:srgbClr val="000000"/>
                </a:solidFill>
                <a:latin typeface="Courier New"/>
              </a:rPr>
              <a:t>instrucción2;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822cd"/>
                </a:solidFill>
                <a:latin typeface="Verdana"/>
              </a:rPr>
              <a:t>Instrucción if-else</a:t>
            </a:r>
            <a:endParaRPr b="1" lang="en-US" sz="40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844640"/>
            <a:ext cx="4038480" cy="23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Semántic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if( condición) instrucción1;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instrucción2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42920" y="1844280"/>
            <a:ext cx="4038840" cy="25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Si condición se cumple (es verdadera), ejecutar instrucción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Si condición no se cumple (es falsa), ejecutar instrucción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179280" y="4365720"/>
            <a:ext cx="36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Gráficam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995640" y="4149720"/>
            <a:ext cx="1187640" cy="936720"/>
          </a:xfrm>
          <a:prstGeom prst="diamond">
            <a:avLst/>
          </a:prstGeom>
          <a:solidFill>
            <a:srgbClr val="b3d1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427640" y="3571920"/>
            <a:ext cx="395280" cy="503280"/>
          </a:xfrm>
          <a:prstGeom prst="downArrow">
            <a:avLst>
              <a:gd name="adj1" fmla="val 50000"/>
              <a:gd name="adj2" fmla="val 31831"/>
            </a:avLst>
          </a:prstGeom>
          <a:solidFill>
            <a:srgbClr val="3568c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rot="10800000">
            <a:off x="3274560" y="4508640"/>
            <a:ext cx="647640" cy="574560"/>
          </a:xfrm>
          <a:custGeom>
            <a:avLst/>
            <a:gdLst>
              <a:gd name="textAreaLeft" fmla="*/ 216000 w 647640"/>
              <a:gd name="textAreaRight" fmla="*/ 554760 w 647640"/>
              <a:gd name="textAreaTop" fmla="*/ 330840 h 574560"/>
              <a:gd name="textAreaBottom" fmla="*/ 492120 h 5745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3568c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H="1" rot="10800000">
            <a:off x="5290200" y="4508640"/>
            <a:ext cx="647640" cy="576000"/>
          </a:xfrm>
          <a:custGeom>
            <a:avLst/>
            <a:gdLst>
              <a:gd name="textAreaLeft" fmla="*/ 216000 w 647640"/>
              <a:gd name="textAreaRight" fmla="*/ 554760 w 647640"/>
              <a:gd name="textAreaTop" fmla="*/ 331920 h 576000"/>
              <a:gd name="textAreaBottom" fmla="*/ 493560 h 57600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3568c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843280" y="5156280"/>
            <a:ext cx="1368360" cy="504720"/>
          </a:xfrm>
          <a:prstGeom prst="rect">
            <a:avLst/>
          </a:prstGeom>
          <a:solidFill>
            <a:srgbClr val="b3d1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strucción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148360" y="5156280"/>
            <a:ext cx="1368360" cy="504720"/>
          </a:xfrm>
          <a:prstGeom prst="rect">
            <a:avLst/>
          </a:prstGeom>
          <a:solidFill>
            <a:srgbClr val="b3d1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strucción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348000" y="4076640"/>
            <a:ext cx="16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r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364000" y="4076640"/>
            <a:ext cx="165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al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995640" y="4437000"/>
            <a:ext cx="172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di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3348000" y="5661000"/>
            <a:ext cx="2592360" cy="1008000"/>
            <a:chOff x="3348000" y="5661000"/>
            <a:chExt cx="2592360" cy="1008000"/>
          </a:xfrm>
        </p:grpSpPr>
        <p:sp>
          <p:nvSpPr>
            <p:cNvPr id="145" name=""/>
            <p:cNvSpPr/>
            <p:nvPr/>
          </p:nvSpPr>
          <p:spPr>
            <a:xfrm>
              <a:off x="4498920" y="6092640"/>
              <a:ext cx="360360" cy="576360"/>
            </a:xfrm>
            <a:prstGeom prst="downArrow">
              <a:avLst>
                <a:gd name="adj1" fmla="val 50000"/>
                <a:gd name="adj2" fmla="val 39985"/>
              </a:avLst>
            </a:prstGeom>
            <a:solidFill>
              <a:srgbClr val="3568c7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348000" y="6164280"/>
              <a:ext cx="1223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787640" y="6164280"/>
              <a:ext cx="1152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348000" y="5661000"/>
              <a:ext cx="215640" cy="503280"/>
            </a:xfrm>
            <a:prstGeom prst="rect">
              <a:avLst/>
            </a:prstGeom>
            <a:solidFill>
              <a:srgbClr val="3568c7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722920" y="5661000"/>
              <a:ext cx="217440" cy="503280"/>
            </a:xfrm>
            <a:prstGeom prst="rect">
              <a:avLst/>
            </a:prstGeom>
            <a:solidFill>
              <a:srgbClr val="3568c7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348000" y="5948280"/>
              <a:ext cx="2519280" cy="216000"/>
            </a:xfrm>
            <a:prstGeom prst="rect">
              <a:avLst/>
            </a:prstGeom>
            <a:solidFill>
              <a:srgbClr val="3568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563640" y="5948280"/>
              <a:ext cx="2159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1822cd"/>
                </a:solidFill>
                <a:latin typeface="Verdana"/>
              </a:rPr>
              <a:t>Condición (condición simple o comparación)</a:t>
            </a: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Sintaxis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: expresión1 operador-de-relación expresión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operador de relación (comparación): &lt;,&gt;,&lt;=,&gt;=,==,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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Semántica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53760" indent="-251280">
              <a:lnSpc>
                <a:spcPct val="80000"/>
              </a:lnSpc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evaluar expresion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53760" indent="-251280">
              <a:lnSpc>
                <a:spcPct val="80000"/>
              </a:lnSpc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comparar resultados de expresion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53760" indent="-251280">
              <a:lnSpc>
                <a:spcPct val="80000"/>
              </a:lnSpc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si condición se cumple entregar valor verdadero (tru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53760" indent="-251280">
              <a:lnSpc>
                <a:spcPct val="80000"/>
              </a:lnSpc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si condición no se cumple entregar valor falso (fals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jempl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f( b*b &gt;= 4*a*c 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.println(“raices reales”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.println(“raices complejas”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79280" y="333360"/>
            <a:ext cx="8785440" cy="5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1822cd"/>
                </a:solidFill>
                <a:latin typeface="Verdana"/>
              </a:rPr>
              <a:t>Caso especial 1: cada instrucción puede ser otro if-else</a:t>
            </a:r>
            <a:endParaRPr b="1" lang="en-US" sz="32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50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static public int mayor(int x,int y,int z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f( x &gt;= y 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f( x &gt;= z )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x;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z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f( y &gt;= z )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turn y;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turn z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94920" y="333000"/>
            <a:ext cx="849780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822cd"/>
                </a:solidFill>
                <a:latin typeface="Verdana"/>
              </a:rPr>
              <a:t>Caso especial 2: </a:t>
            </a:r>
            <a:r>
              <a:rPr b="1" lang="es-ES" sz="4000" spc="-1" strike="noStrike">
                <a:solidFill>
                  <a:srgbClr val="1822cd"/>
                </a:solidFill>
                <a:latin typeface="Verdana"/>
              </a:rPr>
              <a:t>else puede omitirse</a:t>
            </a:r>
            <a:endParaRPr b="1" lang="en-US" sz="40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0" y="187488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static public int mayor(int x,int y,int z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int aux=x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if( y &gt; aux) aux=y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if( z &gt; aux) aux=z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return aux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1T14:31:24Z</dcterms:created>
  <dc:creator>Valeria Herskovic</dc:creator>
  <dc:description/>
  <dc:language>en-US</dc:language>
  <cp:lastModifiedBy>Valeria Herskovic</cp:lastModifiedBy>
  <cp:lastPrinted>2006-03-02T13:33:10Z</cp:lastPrinted>
  <dcterms:modified xsi:type="dcterms:W3CDTF">2008-03-18T20:28:05Z</dcterms:modified>
  <cp:revision>59</cp:revision>
  <dc:subject/>
  <dc:title>  CC1001- Computación I </dc:title>
</cp:coreProperties>
</file>