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</p:sldIdLst>
  <p:sldSz cx="9144000" cy="6858000"/>
  <p:notesSz cx="6792913" cy="9907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21F42-B128-40A5-BAFC-300ED6AEF1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2AA0B-D7BC-4AA3-B290-632198C2E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965E0-F43D-495A-B037-DB9452CE46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1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F05D-12A7-47F5-8D1B-6395CD954B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 type="subTitle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F9683-6809-47FE-8227-EDB2C8D7D0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23964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22080" y="187488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5720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23964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22080" y="42390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68ABC-28B9-4105-BCEF-B7BA84A02E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EF67-4FDB-4C9D-898A-7358A9CBBA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E6F3F-0DD8-42E3-AD4F-84C62B6072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subTitle"/>
          </p:nvPr>
        </p:nvSpPr>
        <p:spPr>
          <a:xfrm>
            <a:off x="151920" y="75960"/>
            <a:ext cx="8915400" cy="494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CE73A-C280-49FA-BD3D-C39F6745E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6150B-CAE0-465E-83F5-1E58F02FE3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674240" y="42390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9E68-C334-4312-AEC2-DB09E3B4F8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87488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42390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93377-1E75-4CE8-B182-2474422CFC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1905120"/>
            <a:ext cx="38088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 flipH="1">
            <a:off x="8686080" y="1905120"/>
            <a:ext cx="453960" cy="4952880"/>
          </a:xfrm>
          <a:prstGeom prst="rtTriangle">
            <a:avLst/>
          </a:prstGeom>
          <a:gradFill rotWithShape="0">
            <a:gsLst>
              <a:gs pos="0">
                <a:srgbClr val="b3d1f0"/>
              </a:gs>
              <a:gs pos="50000">
                <a:srgbClr val="fefefe"/>
              </a:gs>
              <a:gs pos="100000">
                <a:srgbClr val="b3d1f0"/>
              </a:gs>
            </a:gsLst>
            <a:lin ang="135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dt" idx="1"/>
          </p:nvPr>
        </p:nvSpPr>
        <p:spPr>
          <a:xfrm>
            <a:off x="-360" y="6552720"/>
            <a:ext cx="12193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>
          <a:xfrm>
            <a:off x="1371240" y="6552720"/>
            <a:ext cx="71629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>
          <a:xfrm>
            <a:off x="8686800" y="6324480"/>
            <a:ext cx="4572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400" spc="-1" strike="noStrike">
                <a:solidFill>
                  <a:srgbClr val="1822cd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142356-414A-4832-A2A4-82DCC03BDF3B}" type="slidenum">
              <a:rPr b="0" lang="es-ES_tradnl" sz="1400" spc="-1" strike="noStrike">
                <a:solidFill>
                  <a:srgbClr val="1822cd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5" name=""/>
          <p:cNvGrpSpPr/>
          <p:nvPr/>
        </p:nvGrpSpPr>
        <p:grpSpPr>
          <a:xfrm>
            <a:off x="0" y="0"/>
            <a:ext cx="9144000" cy="1752480"/>
            <a:chOff x="0" y="0"/>
            <a:chExt cx="9144000" cy="1752480"/>
          </a:xfrm>
        </p:grpSpPr>
        <p:grpSp>
          <p:nvGrpSpPr>
            <p:cNvPr id="6" name=""/>
            <p:cNvGrpSpPr/>
            <p:nvPr/>
          </p:nvGrpSpPr>
          <p:grpSpPr>
            <a:xfrm>
              <a:off x="6480" y="1219320"/>
              <a:ext cx="9137520" cy="380160"/>
              <a:chOff x="6480" y="1219320"/>
              <a:chExt cx="9137520" cy="380160"/>
            </a:xfrm>
          </p:grpSpPr>
          <p:sp>
            <p:nvSpPr>
              <p:cNvPr id="7" name=""/>
              <p:cNvSpPr/>
              <p:nvPr/>
            </p:nvSpPr>
            <p:spPr>
              <a:xfrm flipV="1">
                <a:off x="6480" y="1241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6480" y="1334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6480" y="1219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V="1">
                <a:off x="6480" y="1554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6480" y="1327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" name=""/>
            <p:cNvSpPr/>
            <p:nvPr/>
          </p:nvSpPr>
          <p:spPr>
            <a:xfrm>
              <a:off x="0" y="0"/>
              <a:ext cx="9144000" cy="1219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3240" y="1600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4680" y="1184400"/>
              <a:ext cx="9139320" cy="74520"/>
            </a:xfrm>
            <a:prstGeom prst="rect">
              <a:avLst/>
            </a:prstGeom>
            <a:solidFill>
              <a:srgbClr val="777777">
                <a:alpha val="31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7720" bIns="277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5" name="PlaceHolder 4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" name="PlaceHolder 5"/>
          <p:cNvSpPr>
            <a:spLocks noGrp="1"/>
          </p:cNvSpPr>
          <p:nvPr>
            <p:ph type="body"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27920" indent="-280080">
              <a:spcBef>
                <a:spcPts val="7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63800" indent="-223920">
              <a:spcBef>
                <a:spcPts val="799"/>
              </a:spcBef>
              <a:buClr>
                <a:srgbClr val="3568c7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400040" indent="-223920">
              <a:spcBef>
                <a:spcPts val="799"/>
              </a:spcBef>
              <a:buClr>
                <a:srgbClr val="f0615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735920" indent="-223920">
              <a:spcBef>
                <a:spcPts val="7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735920" indent="-22392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3" name=""/>
          <p:cNvGrpSpPr/>
          <p:nvPr/>
        </p:nvGrpSpPr>
        <p:grpSpPr>
          <a:xfrm>
            <a:off x="0" y="0"/>
            <a:ext cx="9144000" cy="4038480"/>
            <a:chOff x="0" y="0"/>
            <a:chExt cx="9144000" cy="4038480"/>
          </a:xfrm>
        </p:grpSpPr>
        <p:sp>
          <p:nvSpPr>
            <p:cNvPr id="54" name=""/>
            <p:cNvSpPr/>
            <p:nvPr/>
          </p:nvSpPr>
          <p:spPr>
            <a:xfrm>
              <a:off x="0" y="0"/>
              <a:ext cx="9144000" cy="350532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55" name=""/>
            <p:cNvGrpSpPr/>
            <p:nvPr/>
          </p:nvGrpSpPr>
          <p:grpSpPr>
            <a:xfrm>
              <a:off x="0" y="3505320"/>
              <a:ext cx="9137520" cy="380160"/>
              <a:chOff x="0" y="3505320"/>
              <a:chExt cx="9137520" cy="380160"/>
            </a:xfrm>
          </p:grpSpPr>
          <p:sp>
            <p:nvSpPr>
              <p:cNvPr id="56" name=""/>
              <p:cNvSpPr/>
              <p:nvPr/>
            </p:nvSpPr>
            <p:spPr>
              <a:xfrm flipV="1">
                <a:off x="0" y="3527280"/>
                <a:ext cx="9137520" cy="92520"/>
              </a:xfrm>
              <a:prstGeom prst="rect">
                <a:avLst/>
              </a:prstGeom>
              <a:solidFill>
                <a:srgbClr val="b3d1f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0" y="3620880"/>
                <a:ext cx="9137520" cy="224280"/>
              </a:xfrm>
              <a:prstGeom prst="rect">
                <a:avLst/>
              </a:prstGeom>
              <a:gradFill rotWithShape="0">
                <a:gsLst>
                  <a:gs pos="0">
                    <a:srgbClr val="3568c7"/>
                  </a:gs>
                  <a:gs pos="100000">
                    <a:srgbClr val="a7bde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3505320"/>
                <a:ext cx="9137520" cy="23040"/>
              </a:xfrm>
              <a:prstGeom prst="rect">
                <a:avLst/>
              </a:prstGeom>
              <a:gradFill rotWithShape="0">
                <a:gsLst>
                  <a:gs pos="0">
                    <a:srgbClr val="1822cd"/>
                  </a:gs>
                  <a:gs pos="100000">
                    <a:srgbClr val="868c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3760" bIns="-2376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 flipV="1">
                <a:off x="0" y="38404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a7bde6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 rot="10800000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3613680"/>
                <a:ext cx="9137520" cy="44280"/>
              </a:xfrm>
              <a:prstGeom prst="rect">
                <a:avLst/>
              </a:prstGeom>
              <a:gradFill rotWithShape="0">
                <a:gsLst>
                  <a:gs pos="0">
                    <a:srgbClr val="b3d1f0"/>
                  </a:gs>
                  <a:gs pos="100000">
                    <a:srgbClr val="3568c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" bIns="-252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1" name=""/>
            <p:cNvSpPr/>
            <p:nvPr/>
          </p:nvSpPr>
          <p:spPr>
            <a:xfrm>
              <a:off x="3240" y="3886200"/>
              <a:ext cx="9140760" cy="152280"/>
            </a:xfrm>
            <a:prstGeom prst="rect">
              <a:avLst/>
            </a:prstGeom>
            <a:gradFill rotWithShape="0">
              <a:gsLst>
                <a:gs pos="0">
                  <a:srgbClr val="777777"/>
                </a:gs>
                <a:gs pos="100000">
                  <a:srgbClr val="fefefe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" name=""/>
          <p:cNvSpPr/>
          <p:nvPr/>
        </p:nvSpPr>
        <p:spPr>
          <a:xfrm>
            <a:off x="0" y="3470400"/>
            <a:ext cx="9139320" cy="74520"/>
          </a:xfrm>
          <a:prstGeom prst="rect">
            <a:avLst/>
          </a:prstGeom>
          <a:solidFill>
            <a:srgbClr val="777777">
              <a:alpha val="31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7720" bIns="277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175248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lick to edit the title text format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857160" algn="ctr">
              <a:spcBef>
                <a:spcPts val="601"/>
              </a:spcBef>
              <a:buClr>
                <a:srgbClr val="3568c7"/>
              </a:buClr>
              <a:buFont typeface="Wingdings" charset="2"/>
              <a:buChar char="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3" marL="1200240" algn="ctr">
              <a:spcBef>
                <a:spcPts val="499"/>
              </a:spcBef>
              <a:buClr>
                <a:srgbClr val="f06157"/>
              </a:buClr>
              <a:buFont typeface="Times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4" marL="1542960" algn="ctr">
              <a:spcBef>
                <a:spcPts val="499"/>
              </a:spcBef>
              <a:buClr>
                <a:srgbClr val="1822cd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5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6" marL="1542960"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1219320"/>
            <a:ext cx="7772400" cy="1676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4400" spc="-1" strike="noStrike">
                <a:solidFill>
                  <a:srgbClr val="1822cd"/>
                </a:solidFill>
                <a:latin typeface="Verdana"/>
              </a:rPr>
              <a:t>Clase 3: if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subTitle"/>
          </p:nvPr>
        </p:nvSpPr>
        <p:spPr>
          <a:xfrm>
            <a:off x="323640" y="5229000"/>
            <a:ext cx="8569080" cy="147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aleria Herskovic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indent="0" algn="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000000"/>
                </a:solidFill>
                <a:latin typeface="Verdana"/>
              </a:rPr>
              <a:t>vherskov@dcc.uchile.c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0" y="333000"/>
            <a:ext cx="8928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Caso especial 3:</a:t>
            </a:r>
            <a:br>
              <a:rPr sz="2800"/>
            </a:br>
            <a:r>
              <a:rPr b="1" lang="es-ES" sz="2800" spc="-1" strike="noStrike">
                <a:solidFill>
                  <a:srgbClr val="1822cd"/>
                </a:solidFill>
                <a:latin typeface="Verdana"/>
              </a:rPr>
              <a:t>bloque {...} para agrupar varias instrucciones</a:t>
            </a:r>
            <a:endParaRPr b="1" lang="en-US" sz="28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a&gt;=b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mayor=a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b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ayor=b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menor=a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ones compuesta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int mayor(int x,int y,int z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-329040">
              <a:lnSpc>
                <a:spcPct val="80000"/>
              </a:lnSpc>
              <a:spcBef>
                <a:spcPts val="45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Con</a:t>
            </a: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indentación (uso de márgenes) que evidencia selección múltiple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x &gt;= y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amp;&amp;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x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y &gt;= z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Condición compuest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507520" cy="219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ndición1 operador-lógico condición2 . . 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operador lógico: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&amp;&amp;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 y, and, conj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Verdana"/>
              </a:rPr>
              <a:t>||: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  o, or, disyunción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51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:       no, not, negación (operador unari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900000" y="3789360"/>
          <a:ext cx="6480000" cy="2220840"/>
        </p:xfrm>
        <a:graphic>
          <a:graphicData uri="http://schemas.openxmlformats.org/drawingml/2006/table">
            <a:tbl>
              <a:tblPr/>
              <a:tblGrid>
                <a:gridCol w="534960"/>
                <a:gridCol w="534960"/>
                <a:gridCol w="2068560"/>
                <a:gridCol w="2220840"/>
                <a:gridCol w="1120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 &amp;&amp;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 || c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c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mbos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alguno V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 si F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5" name=""/>
          <p:cNvSpPr/>
          <p:nvPr/>
        </p:nvSpPr>
        <p:spPr>
          <a:xfrm>
            <a:off x="1384200" y="7128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9640" y="6021360"/>
            <a:ext cx="8229600" cy="71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1000"/>
          </a:bodyPr>
          <a:p>
            <a:pPr marL="312120" indent="-312120">
              <a:lnSpc>
                <a:spcPct val="100000"/>
              </a:lnSpc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0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. c2 se evalúa sólo si es necesario. Por ej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12120" indent="-31212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x&gt;=y &amp;&amp; x&gt;=z)...</a:t>
            </a: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 si x&lt;y entonces x&gt;=z no se evalú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ioridades de operador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6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rden de evaluació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9" name=""/>
          <p:cNvGraphicFramePr/>
          <p:nvPr/>
        </p:nvGraphicFramePr>
        <p:xfrm>
          <a:off x="2484360" y="2637000"/>
          <a:ext cx="3693960" cy="3657600"/>
        </p:xfrm>
        <a:graphic>
          <a:graphicData uri="http://schemas.openxmlformats.org/drawingml/2006/table">
            <a:tbl>
              <a:tblPr/>
              <a:tblGrid>
                <a:gridCol w="393840"/>
                <a:gridCol w="3300120"/>
              </a:tblGrid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1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(unarios)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2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(tipo) cast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3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*  /  %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4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+  -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5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  &gt;  &lt;=  &gt;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6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=  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</a:t>
                      </a: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7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amp;&amp;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24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||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Verdana"/>
              </a:rPr>
              <a:t>Escribir los métodos iguales y main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class Programa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iguales(x,y,z): cantidad de números iguales (3,2, o 0)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//ej:iguales(1,2,3)=0,iguales(1,2,1)=2, iguales(1,1,1)=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static public void </a:t>
            </a:r>
            <a:r>
              <a:rPr b="1" lang="es-ES" sz="1600" spc="-1" strike="noStrike">
                <a:solidFill>
                  <a:srgbClr val="000000"/>
                </a:solidFill>
                <a:latin typeface="Courier New"/>
              </a:rPr>
              <a:t>main</a:t>
            </a: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(String[]arg)throws IOException{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…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Diálogo del programa principal: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Tipo de triángulo de lados a,b,c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a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b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c? __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Courier New"/>
              </a:rPr>
              <a:t>equilátero,isósceles,escaleno,o“no forman triángulo”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000000"/>
                </a:solidFill>
                <a:latin typeface="Verdana"/>
              </a:rPr>
              <a:t>Nota</a:t>
            </a: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. 3 números forman un triángulo si son positivos y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000000"/>
                </a:solidFill>
                <a:latin typeface="Verdana"/>
              </a:rPr>
              <a:t>la suma de 2 cualesquiera de ellos es mayor que el 3º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29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1822cd"/>
                </a:solidFill>
                <a:latin typeface="Verdana"/>
              </a:rPr>
              <a:t>Soluci</a:t>
            </a: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ó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nt </a:t>
            </a:r>
            <a:r>
              <a:rPr b="1" lang="en-US" sz="3100" spc="-1" strike="noStrike">
                <a:solidFill>
                  <a:srgbClr val="000000"/>
                </a:solidFill>
                <a:latin typeface="Courier New"/>
              </a:rPr>
              <a:t>iguales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(double x,double y,double z){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if(x==y &amp;&amp; x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3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 if(x==y || x==z || y==z) 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2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7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2-3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600" spc="-1" strike="noStrike">
                <a:solidFill>
                  <a:srgbClr val="000000"/>
                </a:solidFill>
                <a:latin typeface="Verdana"/>
              </a:rPr>
              <a:t>Solución 2. Con if sin else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&amp;&amp; x==z) return 3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 || x==z || y==z) return 2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return 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00"/>
                </a:solidFill>
                <a:latin typeface="Verdana"/>
              </a:rPr>
              <a:t>Solución 3. Con condiciones simples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nt n=0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y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x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y==z) n=n+1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urier New"/>
              </a:rPr>
              <a:t>if(n==1) return 2; else return n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gt;0 &amp;&amp; b&gt;0 &amp;&amp; c&gt;0 &amp;&amp; a+b&gt;c &amp;&amp; a+c&gt;b &amp;&amp; b+c&gt;a 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Main - 2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Tipo de triángulo de lados a,b,c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doubl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a=U.readDouble(“a?”),     b=U.readDouble(“b?”),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c=U.readDouble(“c?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a&lt;=0 || b&lt;=0 || c&lt;=0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|| a+b&lt;=c || a+c&lt;=b || b+c&lt;=a 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.println(“no forman triángul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n=iguales(a,b,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 n == 3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equiláter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lse if( n == 2 )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.println(“isósceles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U.println(“escaleno"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Tipo boolean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constant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tru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(verdadero) y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false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  (falso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variabl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</a:t>
            </a:r>
            <a:r>
              <a:rPr b="1" lang="es-ES" sz="2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 nombre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expresiones</a:t>
            </a:r>
            <a:r>
              <a:rPr b="0" lang="es-ES" sz="2800" spc="-1" strike="noStrike">
                <a:solidFill>
                  <a:srgbClr val="000000"/>
                </a:solidFill>
                <a:latin typeface="Verdana"/>
              </a:rPr>
              <a:t>: condicion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800" spc="-1" strike="noStrike">
                <a:solidFill>
                  <a:srgbClr val="000000"/>
                </a:solidFill>
                <a:latin typeface="Verdana"/>
              </a:rPr>
              <a:t>asignación: 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variable=condición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ejemplos: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boolean p 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p = a&gt;=b &amp;&amp; a&gt;=c;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p ) //equivalencia: if( p==true 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Courier New"/>
              </a:rPr>
              <a:t>U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.println(“mayor=”+a)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000" spc="-1" strike="noStrike">
                <a:solidFill>
                  <a:srgbClr val="1822cd"/>
                </a:solidFill>
                <a:latin typeface="Verdana"/>
              </a:rPr>
              <a:t>Problema: ordenar 3 números generados al azar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874520"/>
            <a:ext cx="8229600" cy="479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lass Ordenar3{ //en archivo Ordenar3.java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void main(String[]arg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throws IOException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“Ordenar 3 números “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+ “entre 1 y 100 generados al azar”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a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(1,100)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c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aza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1,100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Numeros="+a+" "+b+" "+c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int min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en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maximo=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mayor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a,b,c),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edio=a+b+c-minimo-maximo; // </a:t>
            </a:r>
            <a:r>
              <a:rPr b="1" lang="es-ES" sz="18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U.println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"Ordenados = " +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minimo + " " + medio + " " + maximo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. Ordenar 4 número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Funciones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return x%2==0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equivalencia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boolean par(int x){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x%2==0) return true; else return false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uso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f(par(n))… ;else …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intaxi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static public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oolean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nombre(parámetros){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instrucciones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condición (exp de tipo boolean);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Verdana"/>
              </a:rPr>
              <a:t>Propuestos: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s-ES" sz="1800" spc="-1" strike="noStrike">
                <a:solidFill>
                  <a:srgbClr val="000000"/>
                </a:solidFill>
                <a:latin typeface="Courier New"/>
              </a:rPr>
              <a:t>bisiesto</a:t>
            </a:r>
            <a:r>
              <a:rPr b="0" lang="es-ES" sz="1800" spc="-1" strike="noStrike">
                <a:solidFill>
                  <a:srgbClr val="000000"/>
                </a:solidFill>
                <a:latin typeface="Courier New"/>
              </a:rPr>
              <a:t>(int año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258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boolean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sTriángulo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(double x,double y,double z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Problema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68360" y="1844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scribir un método (función) que reciba dos enteros y entregue el mayor de los dos (sin usar Math.max).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Verdana"/>
              </a:rPr>
              <a:t>Ejemplo de uso(invocación): int m = mayor(a,b);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return Math.min(x,y) + Math.abs(x-y)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900" spc="-1" strike="noStrike">
                <a:solidFill>
                  <a:srgbClr val="000000"/>
                </a:solidFill>
                <a:latin typeface="Verdana"/>
              </a:rPr>
              <a:t>Solución 2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19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1900" spc="-1" strike="noStrike">
                <a:solidFill>
                  <a:srgbClr val="000000"/>
                </a:solidFill>
                <a:latin typeface="Courier New"/>
              </a:rPr>
              <a:t>(int x, int y){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return (x + y + Math.abs(x-y))/2; 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9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7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grpSp>
        <p:nvGrpSpPr>
          <p:cNvPr id="107" name=""/>
          <p:cNvGrpSpPr/>
          <p:nvPr/>
        </p:nvGrpSpPr>
        <p:grpSpPr>
          <a:xfrm>
            <a:off x="6300720" y="4869000"/>
            <a:ext cx="2378160" cy="980640"/>
            <a:chOff x="6300720" y="4869000"/>
            <a:chExt cx="2378160" cy="980640"/>
          </a:xfrm>
        </p:grpSpPr>
        <p:sp>
          <p:nvSpPr>
            <p:cNvPr id="108" name=""/>
            <p:cNvSpPr/>
            <p:nvPr/>
          </p:nvSpPr>
          <p:spPr>
            <a:xfrm>
              <a:off x="7020000" y="4869000"/>
              <a:ext cx="914400" cy="36648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(x+y)/2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09" name=""/>
            <p:cNvGrpSpPr/>
            <p:nvPr/>
          </p:nvGrpSpPr>
          <p:grpSpPr>
            <a:xfrm>
              <a:off x="6300720" y="5302080"/>
              <a:ext cx="2378160" cy="547560"/>
              <a:chOff x="6300720" y="5302080"/>
              <a:chExt cx="2378160" cy="547560"/>
            </a:xfrm>
          </p:grpSpPr>
          <p:sp>
            <p:nvSpPr>
              <p:cNvPr id="110" name=""/>
              <p:cNvSpPr/>
              <p:nvPr/>
            </p:nvSpPr>
            <p:spPr>
              <a:xfrm>
                <a:off x="6300720" y="539244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>
                <a:off x="630072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>
                <a:off x="867888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>
                <a:off x="7489800" y="530208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>
                <a:off x="7215120" y="548460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>
                <a:off x="7764480" y="566712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"/>
              <p:cNvSpPr/>
              <p:nvPr/>
            </p:nvSpPr>
            <p:spPr>
              <a:xfrm flipH="1">
                <a:off x="6300720" y="566712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17" name=""/>
          <p:cNvGrpSpPr/>
          <p:nvPr/>
        </p:nvGrpSpPr>
        <p:grpSpPr>
          <a:xfrm>
            <a:off x="6084720" y="3282840"/>
            <a:ext cx="2737080" cy="909720"/>
            <a:chOff x="6084720" y="3282840"/>
            <a:chExt cx="2737080" cy="909720"/>
          </a:xfrm>
        </p:grpSpPr>
        <p:sp>
          <p:nvSpPr>
            <p:cNvPr id="118" name=""/>
            <p:cNvSpPr/>
            <p:nvPr/>
          </p:nvSpPr>
          <p:spPr>
            <a:xfrm>
              <a:off x="6084720" y="3282840"/>
              <a:ext cx="1154160" cy="366840"/>
            </a:xfrm>
            <a:prstGeom prst="rect">
              <a:avLst/>
            </a:prstGeom>
            <a:solidFill>
              <a:srgbClr val="ffffff"/>
            </a:solidFill>
            <a:ln w="1908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CL" sz="1400" spc="-1" strike="noStrike">
                  <a:solidFill>
                    <a:srgbClr val="000000"/>
                  </a:solidFill>
                  <a:latin typeface="Verdana"/>
                  <a:ea typeface="ＭＳ Ｐゴシック"/>
                </a:rPr>
                <a:t>min(x,y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119" name=""/>
            <p:cNvGrpSpPr/>
            <p:nvPr/>
          </p:nvGrpSpPr>
          <p:grpSpPr>
            <a:xfrm>
              <a:off x="6443640" y="3645000"/>
              <a:ext cx="2378160" cy="547560"/>
              <a:chOff x="6443640" y="3645000"/>
              <a:chExt cx="2378160" cy="547560"/>
            </a:xfrm>
          </p:grpSpPr>
          <p:sp>
            <p:nvSpPr>
              <p:cNvPr id="120" name=""/>
              <p:cNvSpPr/>
              <p:nvPr/>
            </p:nvSpPr>
            <p:spPr>
              <a:xfrm>
                <a:off x="6443640" y="3735360"/>
                <a:ext cx="23781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644364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882180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>
                <a:off x="7632720" y="3645000"/>
                <a:ext cx="0" cy="18252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4" name=""/>
              <p:cNvSpPr/>
              <p:nvPr/>
            </p:nvSpPr>
            <p:spPr>
              <a:xfrm>
                <a:off x="7358040" y="3827520"/>
                <a:ext cx="731880" cy="365040"/>
              </a:xfrm>
              <a:prstGeom prst="rect">
                <a:avLst/>
              </a:prstGeom>
              <a:solidFill>
                <a:srgbClr val="ffffff"/>
              </a:solidFill>
              <a:ln w="1908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s-CL" sz="1400" spc="-1" strike="noStrike">
                    <a:solidFill>
                      <a:srgbClr val="000000"/>
                    </a:solidFill>
                    <a:latin typeface="Verdana"/>
                    <a:ea typeface="ＭＳ Ｐゴシック"/>
                  </a:rPr>
                  <a:t>|x-y|</a:t>
                </a:r>
                <a:endParaRPr b="0" lang="en-US" sz="1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5" name=""/>
              <p:cNvSpPr/>
              <p:nvPr/>
            </p:nvSpPr>
            <p:spPr>
              <a:xfrm>
                <a:off x="7907400" y="4010040"/>
                <a:ext cx="91440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>
                <a:off x="6443640" y="4010040"/>
                <a:ext cx="1006560" cy="0"/>
              </a:xfrm>
              <a:prstGeom prst="line">
                <a:avLst/>
              </a:prstGeom>
              <a:ln w="1908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4400" spc="-1" strike="noStrike">
                <a:solidFill>
                  <a:srgbClr val="1822cd"/>
                </a:solidFill>
                <a:latin typeface="Verdana"/>
              </a:rPr>
              <a:t>Solución 3 (más natural)</a:t>
            </a:r>
            <a:endParaRPr b="1" lang="en-US" sz="44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static public int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</a:rPr>
              <a:t>mayor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(int x, int y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if( x &gt; y 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x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return y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¿Significado?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x es mayor que y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entonces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entregar el valor de x,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si no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es decir si es x menor o igual que y, devolver el valor de y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000000"/>
                </a:solidFill>
                <a:latin typeface="Verdana"/>
              </a:rPr>
              <a:t>Sintaxi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f( condición )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1;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3600" spc="-1" strike="noStrike">
                <a:solidFill>
                  <a:srgbClr val="000000"/>
                </a:solidFill>
                <a:latin typeface="Courier New"/>
              </a:rPr>
              <a:t>instrucción2; 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1920" y="75960"/>
            <a:ext cx="8915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Instrucción if-el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844640"/>
            <a:ext cx="4038480" cy="23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f( condición) instrucción1;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000" spc="-1" strike="noStrike">
                <a:solidFill>
                  <a:srgbClr val="000000"/>
                </a:solidFill>
                <a:latin typeface="Courier New"/>
              </a:rPr>
              <a:t>instrucción2;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42920" y="1844280"/>
            <a:ext cx="4038840" cy="2544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(es verdadera), ejecutar instrucción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499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(es falsa), ejecutar instrucción2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4" name=""/>
          <p:cNvSpPr/>
          <p:nvPr/>
        </p:nvSpPr>
        <p:spPr>
          <a:xfrm>
            <a:off x="179280" y="4365720"/>
            <a:ext cx="3600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Gráficamen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3995640" y="4149720"/>
            <a:ext cx="1187640" cy="936720"/>
          </a:xfrm>
          <a:prstGeom prst="diamond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4427640" y="3571920"/>
            <a:ext cx="395280" cy="503280"/>
          </a:xfrm>
          <a:prstGeom prst="downArrow">
            <a:avLst>
              <a:gd name="adj1" fmla="val 50000"/>
              <a:gd name="adj2" fmla="val 31831"/>
            </a:avLst>
          </a:pr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 rot="10800000">
            <a:off x="3274560" y="4508640"/>
            <a:ext cx="647640" cy="57456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0840 h 574560"/>
              <a:gd name="textAreaBottom" fmla="*/ 492120 h 57456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H="1" rot="10800000">
            <a:off x="5290200" y="4508640"/>
            <a:ext cx="647640" cy="576000"/>
          </a:xfrm>
          <a:custGeom>
            <a:avLst/>
            <a:gdLst>
              <a:gd name="textAreaLeft" fmla="*/ 216000 w 647640"/>
              <a:gd name="textAreaRight" fmla="*/ 554760 w 647640"/>
              <a:gd name="textAreaTop" fmla="*/ 331920 h 576000"/>
              <a:gd name="textAreaBottom" fmla="*/ 493560 h 57600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3568c7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284328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48360" y="5156280"/>
            <a:ext cx="1368360" cy="504720"/>
          </a:xfrm>
          <a:prstGeom prst="rect">
            <a:avLst/>
          </a:prstGeom>
          <a:solidFill>
            <a:srgbClr val="b3d1f0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instrucción 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348000" y="4076640"/>
            <a:ext cx="165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tru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364000" y="4076640"/>
            <a:ext cx="1656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false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995640" y="4437000"/>
            <a:ext cx="1728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ndició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4" name=""/>
          <p:cNvGrpSpPr/>
          <p:nvPr/>
        </p:nvGrpSpPr>
        <p:grpSpPr>
          <a:xfrm>
            <a:off x="3348000" y="5661000"/>
            <a:ext cx="2592360" cy="1008000"/>
            <a:chOff x="3348000" y="5661000"/>
            <a:chExt cx="2592360" cy="1008000"/>
          </a:xfrm>
        </p:grpSpPr>
        <p:sp>
          <p:nvSpPr>
            <p:cNvPr id="145" name=""/>
            <p:cNvSpPr/>
            <p:nvPr/>
          </p:nvSpPr>
          <p:spPr>
            <a:xfrm>
              <a:off x="4498920" y="6092640"/>
              <a:ext cx="360360" cy="576360"/>
            </a:xfrm>
            <a:prstGeom prst="downArrow">
              <a:avLst>
                <a:gd name="adj1" fmla="val 50000"/>
                <a:gd name="adj2" fmla="val 39985"/>
              </a:avLst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3348000" y="6164280"/>
              <a:ext cx="122364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4787640" y="6164280"/>
              <a:ext cx="115272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3348000" y="5661000"/>
              <a:ext cx="2156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5722920" y="5661000"/>
              <a:ext cx="217440" cy="503280"/>
            </a:xfrm>
            <a:prstGeom prst="rect">
              <a:avLst/>
            </a:prstGeom>
            <a:solidFill>
              <a:srgbClr val="3568c7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3348000" y="5948280"/>
              <a:ext cx="2519280" cy="216000"/>
            </a:xfrm>
            <a:prstGeom prst="rect">
              <a:avLst/>
            </a:prstGeom>
            <a:solidFill>
              <a:srgbClr val="3568c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3563640" y="5948280"/>
              <a:ext cx="2159280" cy="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91440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600" spc="-1" strike="noStrike">
                <a:solidFill>
                  <a:srgbClr val="1822cd"/>
                </a:solidFill>
                <a:latin typeface="Verdana"/>
              </a:rPr>
              <a:t>Condición (condición simple o comparación)</a:t>
            </a:r>
            <a:endParaRPr b="1" lang="en-US" sz="36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8748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intaxis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expresión1 operador-de-relación expresión2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operador de relación (comparación): &lt;,&gt;,&lt;=,&gt;=,==,</a:t>
            </a:r>
            <a:r>
              <a:rPr b="0" lang="es-ES" sz="2400" spc="-1" strike="noStrike">
                <a:solidFill>
                  <a:srgbClr val="000000"/>
                </a:solidFill>
                <a:latin typeface="Symbol"/>
                <a:ea typeface="Symbol"/>
              </a:rPr>
              <a:t>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=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000000"/>
                </a:solidFill>
                <a:latin typeface="Verdana"/>
              </a:rPr>
              <a:t>Semántica</a:t>
            </a:r>
            <a:r>
              <a:rPr b="0" lang="es-ES" sz="2400" spc="-1" strike="noStrike">
                <a:solidFill>
                  <a:srgbClr val="000000"/>
                </a:solidFill>
                <a:latin typeface="Verdana"/>
              </a:rPr>
              <a:t>: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evaluar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comparar resultados de expresione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se cumple entregar valor verdadero (tru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653760" indent="-251280">
              <a:lnSpc>
                <a:spcPct val="80000"/>
              </a:lnSpc>
              <a:spcBef>
                <a:spcPts val="499"/>
              </a:spcBef>
              <a:buClr>
                <a:srgbClr val="f06157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000000"/>
                </a:solidFill>
                <a:latin typeface="Verdana"/>
              </a:rPr>
              <a:t>si condición no se cumple entregar valor falso (false)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01680" indent="-301680">
              <a:lnSpc>
                <a:spcPct val="80000"/>
              </a:lnSpc>
              <a:spcBef>
                <a:spcPts val="601"/>
              </a:spcBef>
              <a:buClr>
                <a:srgbClr val="3568c7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jemplo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if( b*b &gt;= 4*a*c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reale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016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U.println(“raices complejas”)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79280" y="333360"/>
            <a:ext cx="8785440" cy="54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200" spc="-1" strike="noStrike">
                <a:solidFill>
                  <a:srgbClr val="1822cd"/>
                </a:solidFill>
                <a:latin typeface="Verdana"/>
              </a:rPr>
              <a:t>Caso especial 1: cada instrucción puede ser otro if-else</a:t>
            </a:r>
            <a:endParaRPr b="1" lang="en-US" sz="32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99920"/>
            <a:ext cx="8229600" cy="5041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y )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x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x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return z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els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400" spc="-1" strike="noStrike">
                <a:solidFill>
                  <a:srgbClr val="000000"/>
                </a:solidFill>
                <a:latin typeface="Courier New"/>
              </a:rPr>
              <a:t>if( y &gt;= z )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y;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else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return z;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94920" y="333000"/>
            <a:ext cx="8497800" cy="61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1822cd"/>
                </a:solidFill>
                <a:latin typeface="Verdana"/>
              </a:rPr>
              <a:t>Caso especial 2: </a:t>
            </a:r>
            <a:r>
              <a:rPr b="1" lang="es-ES" sz="4000" spc="-1" strike="noStrike">
                <a:solidFill>
                  <a:srgbClr val="1822cd"/>
                </a:solidFill>
                <a:latin typeface="Verdana"/>
              </a:rPr>
              <a:t>else puede omitirse</a:t>
            </a:r>
            <a:endParaRPr b="1" lang="en-US" sz="4000" spc="-1" strike="noStrike">
              <a:solidFill>
                <a:srgbClr val="1822cd"/>
              </a:solidFill>
              <a:latin typeface="Verdan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0" y="1874880"/>
            <a:ext cx="91440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static public int mayor(int x,int y,int z)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s-ES" sz="2800" spc="-1" strike="noStrike">
                <a:solidFill>
                  <a:srgbClr val="000000"/>
                </a:solidFill>
                <a:latin typeface="Courier New"/>
              </a:rPr>
              <a:t>int aux=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y &gt; aux) aux=y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if( z &gt; aux) aux=z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return aux;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3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1T14:31:24Z</dcterms:created>
  <dc:creator>Valeria Herskovic</dc:creator>
  <dc:description/>
  <dc:language>en-US</dc:language>
  <cp:lastModifiedBy>Valeria Herskovic</cp:lastModifiedBy>
  <cp:lastPrinted>2006-03-02T13:33:10Z</cp:lastPrinted>
  <dcterms:modified xsi:type="dcterms:W3CDTF">2008-03-18T20:28:05Z</dcterms:modified>
  <cp:revision>59</cp:revision>
  <dc:subject/>
  <dc:title>  CC1001- Computación I </dc:title>
</cp:coreProperties>
</file>