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F157-28AC-4862-A23F-E365352B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D372-5B1D-407B-8850-96202F4B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0BF-FB3A-428D-BBB6-CAB35A59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2B9-D413-4317-8973-446505D7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F41D-82E3-43A0-9A3D-44145569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AB22-1B77-403A-9453-DE7F9F9B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511-FF67-40F2-8806-3E6AC37A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A26-FE77-48B5-94A8-03594405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CAD-3C17-4C69-9088-CA57FED4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332D-50B9-4E5F-BDC6-62308343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6FF-279A-4239-B8C6-43549D70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28F7-DAF7-41DB-8741-63A499F5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9996-3C5B-4C82-99BE-BE97AB5E2498}" type="slidenum">
              <a:rPr b="0" lang="es-ES_tradnl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lase 2: Funcione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3640" y="5229000"/>
            <a:ext cx="856908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herskov@dcc.uchile.c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erímetro y area de “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“ triangulo de lados a,b,c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l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a=U.readDouble(“a ? ”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=U.readDouble(“b ? ”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=U.readDouble(“c ? 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lcular y mostrar perimetro y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erímetro = ” + (a+b+c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s=(a+b+c)/2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semi-perime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Area = “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h.sqrt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*(s-a)*(s-b)*(s-c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h.pow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*(s-a)*(s-b)*(s-c), 0.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Uso (invocación) de métodos (funciones) predefinido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8748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ath.sqrt(s*(s-a)*(s-b)*(s-c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ath.pow (s*(s-a)*(s-b)*(s-c), 0.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ath.nombre(argument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¿argumentos? cero o más expresiones aritméticas (separadas por coma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1° evaluar argumentos. Ejemplo: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*(s-a)*(s-b)*(s-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° evaluar función (método) con/en valores de arg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° recibir resultado de la función (en el lugar o punto de invocación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Funciones predefinidas en el lenguaje Java </a:t>
            </a:r>
            <a:br>
              <a:rPr sz="2800"/>
            </a:b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(métodos de clase predefinida Math)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626256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das las funciones reciben y entregan un dou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 argumento double admite un int (int es asignable a doubl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9640" y="1700280"/>
          <a:ext cx="7777440" cy="4494240"/>
        </p:xfrm>
        <a:graphic>
          <a:graphicData uri="http://schemas.openxmlformats.org/drawingml/2006/table">
            <a:tbl>
              <a:tblPr/>
              <a:tblGrid>
                <a:gridCol w="1513080"/>
                <a:gridCol w="2584440"/>
                <a:gridCol w="2060640"/>
                <a:gridCol w="1619280"/>
              </a:tblGrid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ifi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qrt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,    x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qrt(4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w(x,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w(2.0,3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71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</a:t>
                      </a:r>
                      <a:r>
                        <a:rPr b="0" lang="es-ES" sz="18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(Math.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no de angul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eno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gente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seno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n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Π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o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cosen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os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tangent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n(0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Funciones predefinidas en el lenguaje Java </a:t>
            </a:r>
            <a:br>
              <a:rPr sz="2800"/>
            </a:b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(métodos de clase Math)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874880"/>
          <a:ext cx="8229240" cy="4525560"/>
        </p:xfrm>
        <a:graphic>
          <a:graphicData uri="http://schemas.openxmlformats.org/drawingml/2006/table">
            <a:tbl>
              <a:tblPr/>
              <a:tblGrid>
                <a:gridCol w="1475280"/>
                <a:gridCol w="1789200"/>
                <a:gridCol w="1051920"/>
                <a:gridCol w="1052280"/>
                <a:gridCol w="1896120"/>
                <a:gridCol w="964440"/>
              </a:tblGrid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ifi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|x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-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-3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x,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yor en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4,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4.1, 6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x,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or en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4,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4.1, 6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º al az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[0,1[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dom(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x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ostrar el mayor entre 3 enteros entre 1 y 100 generados al az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Números = 26  72  3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Mayor = 7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generar 3 nº reales en rango [0,1[: 0.ddd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a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h.rand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=Math.random(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=Math.random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generar y mostrar 3 enteros en rango [1,10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i=1+(int)(100*a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=1+(int)(100*b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=1+(int)(100*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Numeros= “ + i + “ “ + j + “ “ + k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determinar y mostrar el may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l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h.max(i,j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//mayor entre i y 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m=Math.max(l,k);  /mayor entre l y 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Mayor= “+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2852640"/>
            <a:ext cx="7199280" cy="37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Random - casting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=1+(int)(100*a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ultiplica por 100 nº 0.d1d2d3... Resultado nº=d1d2.d3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j: 57.8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vierte d1d2.d3… a entero, truncando decimal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j: 57.8.. a 5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ma 1 a entero y asig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rque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se permite asignar un real a un entero: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t i=1+100*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coerción de tipos (cast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tipo)(expres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valuar expre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vertir resultado al tipo indi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tregar result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Solución 2. Con Funciones definidas por el programador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rogra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j=azar(1,100),k=azar(1,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Numeros="+i+" "+j+" "+k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Mayor=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yor(i,j,k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public int azar(int x,int y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=Math.max(x,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ax(m,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2781360"/>
            <a:ext cx="7199280" cy="33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Funciones definidas por el programador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tipo-resultado nombre(parámet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struc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expresió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¿parámetros?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tipo nombre,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copiar (asignar) argumentos de llamada en paráme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ejecutar las instrucciones (si es que exist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3º devolver valor de la expresión (del tipo-resultado) en el punto de invocación (u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scribir los siguientes métod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class Program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//minutos(x): convierte x (nº HHMM) a minu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uto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//diferencia en minutos entre 2 instantes de tiemp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[]arg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método main debe usar la función minutos 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stablecer el diálogo del sgte ejemplo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Tiempo 1 (HHMM)? 104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Tiempo 2 (HHMM)? 211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Diferencia=630 minu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class Progr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minutos(x): convierte x (nº HHMM) a min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nuto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/100*60 + x%10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diferencia en minutos entre 2 instantes de t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tring[]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1=U.readInt(“Tiempo 1 (HHMM)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2=U.readInt(“Tiempo 2 (HHMM)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t=Math.abs(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inutos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t2)-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inutos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t1) )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Diferencia=”+t+” minutos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1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lcular velocidad de un móv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stancia (metros)? 100.0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iempo (segundos)? 9.7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elocidad=36.81 km/ho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Calcular velocidad de un móvil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U.println(“distancia (metr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d= U.readDoubl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U.println(“tiempo(segund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ouble t = U.readDoubl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“velocidad=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(d/1000)/(t/3600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Funciones en clases independiente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U{  //en archivo U.j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ax(Math.max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n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in(Math.min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Uso de funciones de otra cla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MayorDe3{ //en archivo MayorDe3.j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.azar(1,10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1,100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k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1,100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"Numeros="+i+" "+j+" "+k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"Mayor=" 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may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,j,k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ombreClase.nombreFunción(argument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Clase Math (predefinida)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class Math{ //Clase predefinida Ma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//antes de cada fun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q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in/cos/tan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double x){...}//en radian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sin/acos/ata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){...}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,int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,int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3.14...;//c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2.71...;//c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Tare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1.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nº de 3 dígitos? 12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sultado=32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2. Cajero automát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¿Cuánto dinero necesita? 38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Retire los siguientes billet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3 de $10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 de $5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 de $2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 de $1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hhmm(int minut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Ej:hhmm(630)=103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4.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aaaammdd(int ddmmaaaa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//Ej: aaaammdd(13032008)=20080313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5.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Números al azar=45 23 6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Ordenados=23 45 6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6.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static public int mayor(int x,int y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in usar Math.ma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1 - abreviad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lcular velocidad de un móv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stancia (metros)? 100.0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iempo (segundos)? 9.7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elocidad=36.81 km/ho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Calcular velocidad de un móvil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ouble d= U.readDouble(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“distancia (metros)?”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double t = U.readDouble(“tiempo(segund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“velocidad=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(d/1000)/(t/3600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1 – abreviada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lcular velocidad de un móv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stancia (metros)? 100.0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iempo (segundos)? 9.7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elocidad=36.81 km/ho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Calcular velocidad de un móvil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ouble d= U.readDouble(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“distancia (metros)?”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t = U.readDouble(“tiempo(segund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“velocidad=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(d/1000)/(t/3600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1 – abreviada3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lcular velocidad de un móv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stancia (metros)? 100.0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iempo (segundos)? 9.7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elocidad=36.81 km/ho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Calcular velocidad de un móvil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d= U.readDouble(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“distancia (metros)?”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t = U.readDouble(“tiempo(segund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U.print(“velocidad=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(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(d/1000)/(t/3600))+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ternativame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velocidad=“ + 3.6*d/t + 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ngresar número de alumnos de colegi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úblicos?16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ubvencionados?17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articulares?29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úblicos=26.0% subvencionados=27.9% privados=46.1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ingresar nº alumnos de colegios: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a=U.readInt(“públicos?”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b=U.readInt(“subvencionados?”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=U.readInt(“particulares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factor=100.0/(a+b+c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públicos=“ + a*factor + ”% “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 “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ubvencionados=“ + b*factor + ”% “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 “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articulares=“ + c*factor + ”%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3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ngresar un nº de 2 dígitos? 7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Número invertido=3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obtener n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n=U.readInt(“Ingresar un nº de 2 dígitos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calcular primer dígi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1=n/10;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//ej:73/10=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calcular segundo dígi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2=n-d1*10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ej:73-7*10=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mostrar result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nº invertido=” + (10*d2+d1)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Mejor (muestra bien los terminados en 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nº invertido=” + d2 + d1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equivalenci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(“nºinvertido=”);U.print(d2);U.println(d1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Solución Ej 3 con operador % (resto o residuo de división entre enteros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jemplo: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7 % 3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entrega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exp1 % exp2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(ambas enter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exp1 – exp1/exp2*exp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rioridad: misma que * y 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//separar los dígi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d1=n/10, d2=n%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Resultado=” + d2 + d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o directamen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.print(“Resultado=” + n%10 + n/10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siguiente diálog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erímetro y area de triangulo de lados a,b,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erímetro = n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rea = n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ta. El área se calcula como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(s-a)(s-b)(s-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 s=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a+b+c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(semi-perímetr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4:31:24Z</dcterms:created>
  <dc:creator>Valeria Herskovic</dc:creator>
  <dc:description/>
  <dc:language>en-US</dc:language>
  <cp:lastModifiedBy>Vale</cp:lastModifiedBy>
  <cp:lastPrinted>2006-03-02T13:33:10Z</cp:lastPrinted>
  <dcterms:modified xsi:type="dcterms:W3CDTF">2008-03-13T18:36:13Z</dcterms:modified>
  <cp:revision>55</cp:revision>
  <dc:subject/>
  <dc:title>  CC1001- Computación I </dc:title>
</cp:coreProperties>
</file>