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D64-303B-47EE-B48D-C446B4A8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8EA-E2C1-4842-A24D-3203E86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277-1330-49A5-9233-F052D54B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8AC-FE31-452A-A6A5-695626D0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39A-1D34-4A2C-89EC-8018E09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A06-C44C-4390-873C-F824B59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63F-7D2D-41B9-922B-F2EABB78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CC5-9284-40AA-8A4C-1C02D6F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D8A-4D8B-4B41-815B-FF5B1D1C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18A-0C8F-4404-9642-FAC4A36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92B-D3A5-432A-B20F-8856BE9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13E-E483-47C3-8CD5-77C5DDD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92D-1ED5-464F-9DB0-9EF711ADC226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2: 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y area de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 triangulo de lados a,b,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=U.readDouble(“a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=U.readDouble(“b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 ? 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= ” + (a+b+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=(a+b+c)/2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emi-perime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rea =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sqrt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ow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, 0.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(invocación) de métodos (funciones) predefinid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8748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° evaluar argumentos. Ejemplo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6262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00280"/>
          <a:ext cx="7777440" cy="4494240"/>
        </p:xfrm>
        <a:graphic>
          <a:graphicData uri="http://schemas.openxmlformats.org/drawingml/2006/table">
            <a:tbl>
              <a:tblPr/>
              <a:tblGrid>
                <a:gridCol w="1513080"/>
                <a:gridCol w="2584440"/>
                <a:gridCol w="2060640"/>
                <a:gridCol w="161928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874880"/>
          <a:ext cx="8229240" cy="4525560"/>
        </p:xfrm>
        <a:graphic>
          <a:graphicData uri="http://schemas.openxmlformats.org/drawingml/2006/table">
            <a:tbl>
              <a:tblPr/>
              <a:tblGrid>
                <a:gridCol w="1475280"/>
                <a:gridCol w="1789200"/>
                <a:gridCol w="1051920"/>
                <a:gridCol w="1052280"/>
                <a:gridCol w="1896120"/>
                <a:gridCol w="964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strar el mayor entre 3 enteros entre 1 y 100 generados al az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s = 26  72  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yor = 7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3 nº reales en rango [0,1[: 0.dd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=Math.random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Math.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y mostrar 3 enteros en rango [1,10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1+(int)(100*a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=1+(int)(100*b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=1+(int)(100*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umeros= “ + i + “ “ + j + “ “ + k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eterminar y mostrar el may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max(i,j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//mayor entre i y 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=Math.max(l,k);  /mayor entre l y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Mayor= “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719928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Random - casting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1+(int)(100*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ltiplica por 100 nº 0.d1d2d3... Resultado nº=d1d2.d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ierte d1d2.d3… a entero, truncando decima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.. a 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ma 1 a entero y asig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que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permite asignar un real a un entero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 i=1+100*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erción de tipos (cast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ipo)(expres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Con 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j=azar(1,100),k=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Numeros="+i+" "+j+" "+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(i,j,k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=Math.max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719928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ejecutar las instrucciones (si es que exis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siguien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diferencia en minutos entre 2 instantes de tiemp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método main debe usar la función minutos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tablecer el diálogo del sgte ejempl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1 (HHMM)? 10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2 (HHMM)? 21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iferencia=630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/100*60 + x%1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iferencia en minutos entre 2 instantes de t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1=U.readInt(“Tiempo 1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2=U.readInt(“Tiempo 2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t=Math.abs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2)-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1) 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Diferencia=”+t+” minutos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distancia (metr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t 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en clases independient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n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de funciones de otra cla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MayorDe3{ //en archivo MayorDe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Numeros="+i+" "+j+" "+k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Mayor=" 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,j,k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Clase.nombreFunción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Math (predefinida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in/cos/ta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){...}//en radian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in/acos/at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3.14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.71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are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nº de 3 dígitos? 1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sultado=3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2. Cajero automá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¿Cuánto dinero necesita? 38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ire los siguientes bille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 de $1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5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2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1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hhmm(int minut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hhmm(630)=10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aaammdd(int ddmmaaa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 aaaammdd(13032008)=20080313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Números al azar=45 23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rdenados=23 45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static public int mayor(int x,int y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in usar Math.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- abreviad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double 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(“velocidad=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d/1000)/(t/3600))+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velocidad=“ + 3.6*d/t + 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número de alumnos de cole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?1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ubvencionados?1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rticulares?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=26.0% subvencionados=27.9% privados=46.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ingresar nº alumnos de colegios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readInt(“públic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=U.readInt(“subvencionad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=U.readInt(“particula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factor=100.0/(a+b+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úblicos=“ + a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bvencionados=“ + b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articulares=“ + c*factor + ”%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un nº de 2 dígitos?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úmero invertido=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U.readInt(“Ingresar un nº de 2 dígitos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primer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1=n/10;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73/10=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segundo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2=n-d1*10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73-7*10=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ostr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(10*d2+d1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jor (muestra bien los terminados en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d2 + 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(“nºinvertido=”);U.print(d2);U.println(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Solución Ej 3 con operador % (resto o residuo de división entre enter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7 % 3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entrega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% exp2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ambas enter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– exp1/exp2*exp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ioridad: misma que * y 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//separar los díg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1=n/10, d2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”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 direct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(“Resultado=” + n%10 + n/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y area de triangulo de lados a,b,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ta. El área se calcula com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s=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+b+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3T18:36:13Z</dcterms:modified>
  <cp:revision>55</cp:revision>
  <dc:subject/>
  <dc:title>  CC1001- Computación I </dc:title>
</cp:coreProperties>
</file>