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4A99-59DE-4658-B80E-537DAFC02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1D3-310A-4848-869B-FDBB040C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826-3056-43C6-965D-8B2DCDC7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D9F4-7D46-4CE0-B016-C2664C4F5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0BB-FC8E-406F-8840-418FA23D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B003-A090-4C96-BCBE-B81FC7BBB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9AF-B68E-4FFA-8754-69BE77B55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2BF8-5E03-48F2-AB1C-A368CFA01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606-445F-409D-89D8-4D684E45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67B4-8CBB-4E59-A5DF-85192DDE2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371A-B3C2-419F-B84F-83C96AFA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2325-5D59-401B-86A0-C702F6D8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78F2-33E0-4E72-949C-DD48217CA7C8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85760" indent="-22860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28840" indent="-22860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71560" indent="-22860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2: Funcion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gra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erímetro y area de “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+ “ triangulo de lados a,b,c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obtener l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a=U.readDouble(“a ? 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=U.readDouble(“b ? ”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=U.readDouble(“c ? 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//calcular y mostrar perimetro y are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U.println(“Perímetro = ” + (a+b+c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ouble s=(a+b+c)/2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//semi-perime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Area = “ 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sqrt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*(s-a)*(s-b)*(s-c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th.pow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*(s-a)*(s-b)*(s-c), 0.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Uso (invocación) de métodos (funciones) predefinido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87488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sqrt(s*(s-a)*(s-b)*(s-c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pow (s*(s-a)*(s-b)*(s-c), 0.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nombre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¿argumentos? cero o más expresiones aritméticas (separadas por coma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Verdana"/>
              </a:rPr>
              <a:t>1° evaluar argumentos. Ejemplo: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*(s-a)*(s-b)*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° evaluar función (método) con/en valores de argum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3° recibir resultado de la función (en el lugar o punto de invocación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predefinida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6262560"/>
            <a:ext cx="822960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odas las funciones reciben y entregan un dou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un argumento double admite un int (int es asignable a double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39640" y="1700280"/>
          <a:ext cx="7777440" cy="4494240"/>
        </p:xfrm>
        <a:graphic>
          <a:graphicData uri="http://schemas.openxmlformats.org/drawingml/2006/table">
            <a:tbl>
              <a:tblPr/>
              <a:tblGrid>
                <a:gridCol w="1513080"/>
                <a:gridCol w="2584440"/>
                <a:gridCol w="2060640"/>
                <a:gridCol w="1619280"/>
              </a:tblGrid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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,    x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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qrt(4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x,y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ow(2.0,3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 baseline="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xp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.71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</a:t>
                      </a:r>
                      <a:r>
                        <a:rPr b="0" lang="es-ES" sz="1800" spc="-1" strike="noStrike" baseline="-30000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log(Math.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eno de angul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cos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-1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gente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an(Math.P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seno d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sin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Π/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coseno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cos(1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x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co-tangente 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tan(0.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Funciones predefinidas en el lenguaje Java 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(métodos de clase Math)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874880"/>
          <a:ext cx="8229240" cy="4525560"/>
        </p:xfrm>
        <a:graphic>
          <a:graphicData uri="http://schemas.openxmlformats.org/drawingml/2006/table">
            <a:tbl>
              <a:tblPr/>
              <a:tblGrid>
                <a:gridCol w="1475280"/>
                <a:gridCol w="1789200"/>
                <a:gridCol w="1051920"/>
                <a:gridCol w="1052280"/>
                <a:gridCol w="1896120"/>
                <a:gridCol w="964440"/>
              </a:tblGrid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un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gnific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 </a:t>
                      </a: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r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x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|x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bs(-3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y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ax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x,y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enor ent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x e 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, 6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min(4.1, 6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º al az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n [0,1[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andom(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0.x...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ostrar el mayor entre 3 enteros entre 1 y 100 generados al az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Números = 26  72  3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ayor = 7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generar 3 nº reales en rango [0,1[: 0.ddd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a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rand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=Math.random(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Math.random(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generar y mostrar 3 enteros en rango [1,100]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i=1+(int)(100*a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=1+(int)(100*b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=1+(int)(100*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umeros= “ + i + “ “ + j + “ “ + k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determinar y mostrar el may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l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th.max(i,j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, //mayor entre i y 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=Math.max(l,k);  /mayor entre l y 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Mayor= “+m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2852640"/>
            <a:ext cx="7199280" cy="374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Random - casting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i=1+(int)(100*a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ultiplica por 100 nº 0.d1d2d3... Resultado nº=d1d2.d3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: 57.8…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vierte d1d2.d3… a entero, truncando decimal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j: 57.8.. a 5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uma 1 a entero y asig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rque 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no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se permite asignar un real a un entero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t i=1+100*a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coerción de tipos (cast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(tipo)(expresió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valuar expres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vertir resultado al tipo indic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trega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Solución 2. Con Funciones definidas por el programado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void main(String[]args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i=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(1,100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j=azar(1,100),k=azar(1,100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Numeros="+i+" "+j+" "+k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.println("Mayor=" +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(i,j,k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 public int azar(int x,int y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 m=Math.max(x,y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Math.max(m,z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2781360"/>
            <a:ext cx="7199280" cy="33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Funciones definidas por el programado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tatic public tipo-resultado nombre(parámetr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return expresión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¿parámetros?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tipo nombre, ..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1º copiar (asignar) argumentos de llamada en parámetr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2º ejecutar las instrucciones (si es que existe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3º devolver valor de la expresión (del tipo-resultado) en el punto de invocación (u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cribir los siguientes método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minutos(x): convierte x (nº HHMM) a minu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//diferencia en minutos entre 2 instantes de tiemp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l método main debe usar la función minutos 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tablecer el diálogo del sgte ejemplo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iempo 1 (HHMM)? 104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Tiempo 2 (HHMM)? 2115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iferencia=630 minuto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lass Program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minutos(x): convierte x (nº HHMM) a minut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int 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/100*60 + x%10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diferencia en minutos entre 2 instantes de t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String[]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s IOExcep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1=U.readInt(“Tiempo 1 (HHMM)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t2=U.readInt(“Tiempo 2 (HHMM)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t=Math.abs(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t2)-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utos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t1) )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Diferencia=”+t+” minutos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“distancia (metr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d= U.read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U.println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double t = U.readDouble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Funciones en clases independientes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lass U{  //en archivo U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x + (int)(Math.random()*(y-x+1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ax(Math.max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n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int x,int y,int z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Math.min(Math.min(x,y),z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Uso de funciones de otra cla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6868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lass MayorDe3{ //en archivo MayorDe3.jav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nt i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k=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k=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"Numeros="+i+" "+j+" "+k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"Mayor=" + </a:t>
            </a: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U.mayor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(i,j,k)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nombreClase.nombreFunción(argument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Clase Math (predefinida)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class Math{ //Clase predefinida Mat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//antes de cada fun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qr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ow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p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sin/cos/ta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double x){...}//en radiane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sin/acos/ata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){...}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){...}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a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double x,double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i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int x,int y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ndom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(){...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I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3.14...;//c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=2.71...;//c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Tare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nº de 3 dígitos? 12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sultado=32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2. Cajero automáti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¿Cuánto dinero necesita? 38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_tradnl" sz="1800" spc="-1" strike="noStrike">
                <a:solidFill>
                  <a:srgbClr val="000000"/>
                </a:solidFill>
                <a:latin typeface="Courier New"/>
              </a:rPr>
              <a:t>Retire los siguientes billete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3 de $10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5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2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1 de $1.00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3.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nt hhmm(int minuto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Ej:hhmm(630)=1030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4.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aaaammdd(int ddmmaaaa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/Ej: aaaammdd(13032008)=20080313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5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Números al azar=45 23 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Ordenados=23 45 6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6.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static public int mayor(int x,int y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sin usar Math.ma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- abreviad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double 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– abreviada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s-CL" sz="2000" spc="-1" strike="noStrike">
                <a:solidFill>
                  <a:srgbClr val="000000"/>
                </a:solidFill>
                <a:latin typeface="Courier New"/>
              </a:rPr>
              <a:t>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“velocidad=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((d/1000)/(t/3600)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1 – abreviada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Calcular velocidad de un móvi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Distancia (metros)? 100.0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Tiempo (segundos)? 9.7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Velocidad=36.81 km/ho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Calcular velocidad de un móvil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d= U.readDouble(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“distancia (metros)?”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s-CL" sz="2000" spc="-1" strike="noStrike">
                <a:solidFill>
                  <a:srgbClr val="000000"/>
                </a:solidFill>
                <a:latin typeface="Courier New"/>
              </a:rPr>
              <a:t>t = U.readDouble(“tiempo(segundos)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U.print(“velocidad=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(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(d/1000)/(t/3600))+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lternativament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velocidad=“ + 3.6*d/t + “km/hora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ngresar número de alumnos de colegi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úblicos?165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subvencionados?17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articulares?29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públicos=26.0% subvencionados=27.9% privados=46.1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ingresar nº alumnos de colegios: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t a=U.readInt(“públicos?”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b=U.readInt(“subvencionados?”)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c=U.readInt(“particulares?”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double factor=100.0/(a+b+c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U.println(“públicos=“ + a*factor + ”% “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“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subvencionados=“ + b*factor + ”% “ +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        “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articulares=“ + c*factor + ”%“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Ej 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Ingresar un nº de 2 dígitos? 7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Número invertido=3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obtener n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U.readInt(“Ingresar un nº de 2 dígitos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calcular primer dígi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d1=n/10;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//ej:73/10=7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calcular segundo dígi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 d2=n-d1*10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ej:73-7*10=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//mostrar resulta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º invertido=” + (10*d2+d1) 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Mejor (muestra bien los terminados en 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nº invertido=” + d2 + d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Verdana"/>
              </a:rPr>
              <a:t>equivalenci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(“nºinvertido=”);U.print(d2);U.println(d1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1822cd"/>
                </a:solidFill>
                <a:latin typeface="Verdana"/>
              </a:rPr>
              <a:t>Solución Ej 3 con operador % (resto o residuo de división entre enteros)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jemplo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7 % 3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entrega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ntaxis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xp1 % exp2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(ambas entera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emántica: </a:t>
            </a:r>
            <a:r>
              <a:rPr b="0" lang="es-ES" sz="3200" spc="-1" strike="noStrike">
                <a:solidFill>
                  <a:srgbClr val="000000"/>
                </a:solidFill>
                <a:latin typeface="Courier New"/>
              </a:rPr>
              <a:t>exp1 – exp1/exp2*exp2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ioridad: misma que * y 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//separar los dígit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nt d1=n/10, d2=n%10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U.println(“Resultado=” + d2 + d1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o directament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U.print(“Resultado=” + n%10 + n/10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cribir las instrucciones principales de un programa que establezca el siguiente diálog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erímetro y area de triangulo de lados a,b,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b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c ? ___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Perímetro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Area = n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ta. El área se calcula como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(s-a)(s-b)(s-c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 s=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Verdana"/>
              </a:rPr>
              <a:t>a+b+c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(semi-perímetro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</cp:lastModifiedBy>
  <cp:lastPrinted>2006-03-02T13:33:10Z</cp:lastPrinted>
  <dcterms:modified xsi:type="dcterms:W3CDTF">2008-03-13T18:36:13Z</dcterms:modified>
  <cp:revision>55</cp:revision>
  <dc:subject/>
  <dc:title>  CC1001- Computación I </dc:title>
</cp:coreProperties>
</file>