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6FDC-3D2F-4E69-AEBA-A57E55D9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7D72-B154-4D21-8EE1-01520E66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C02-C572-470D-AFAB-2624FFD0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3F2-3485-4727-A8D7-3F2B2339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C1A-E756-48AD-95B6-09D3FF97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7FF-F760-4CA2-8CD6-2EF315D6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DE8-B537-4FC6-BFD9-7D2ED076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2DF-FD45-4FA9-B63C-D6107BDC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A10-2E9C-42D5-B6DB-2928CB67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0FA-ADA0-4ADC-9B26-674D0B1C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F48-394B-4C95-A9CF-FA2703FC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A27-30E8-4CB5-9021-FDC695FF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6F76-190C-4235-A3C8-EA464948EA70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C1001- Computación I</a:t>
            </a:r>
            <a:br>
              <a:rPr sz="4400"/>
            </a:b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Introducci</a:t>
            </a:r>
            <a:r>
              <a:rPr b="1" lang="es-ES_tradnl" sz="4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br>
              <a:rPr sz="4400"/>
            </a:b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tapas (pasos, instrucciones) qu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debe realizar (ejecutar) el computad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para resolver un probl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Pas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¿ . . .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8748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Algoritmo: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tapas (pasos, instrucciones) que debe realizar (ejecutar) el computador para resolver el problem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Escribir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(mostrar)</a:t>
            </a: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n la pantalla la frase “nº de hombres? 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Lee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(obtener) el n° ingresado por la persona usando el teclad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Escribi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(mostrar) en la pantalla “n° de mujeres? 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Lee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el n° ingresado por la perso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Calcular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el % (p) de hombres c/r a suma de hombres y muje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Escribir una línea con la frase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“% de hombres=“ y el n° 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29920" indent="-529920">
              <a:lnSpc>
                <a:spcPct val="70000"/>
              </a:lnSpc>
              <a:spcBef>
                <a:spcPts val="476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Escribir una línea con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 “% de mujeres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“ y el n° 100-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grama: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lgoritmo expresado en un lenguaje de progra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grama en lenguaje Java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(instrucciones princip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(“n° de hombres? 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h = U.readInt(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U.print(“n° de mujeres? 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int 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 U.readInt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p = 100.0 * h/(h+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(”% de hombres=”);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U.println(p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(”% de mujeres=”);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</a:rPr>
              <a:t>U.println(100-p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321300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371628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422100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72428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530064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580536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6308640"/>
            <a:ext cx="288720" cy="360360"/>
          </a:xfrm>
          <a:prstGeom prst="rect">
            <a:avLst/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eaf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Lenguaje Java: </a:t>
            </a: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aracterísticas general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 idioma inglé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labras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..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so de notación matemátic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xpresiones: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100.0 * h/(h+m), p-1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funciones: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print(...)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readInt(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intaxis (gramática, escritura) reglamenta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nstrucciones terminan con 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labras con significados especiales (</a:t>
            </a:r>
            <a:r>
              <a:rPr b="1" lang="es-ES_tradnl" sz="2100" spc="-1" strike="noStrike">
                <a:solidFill>
                  <a:srgbClr val="000000"/>
                </a:solidFill>
                <a:latin typeface="Courier New"/>
              </a:rPr>
              <a:t>int, double, prin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so de minúsculas (salvo casos especial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emántica (interpretación) precisa (sin ambigüedad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nstrucciones con significado/efecto bien defini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292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U.print(“n° de hombres? ”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e en la pantalla la fras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“n° de hombres? 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U.print(“...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unción (método) que escribe parámetro (argumento) en la pantalla del 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507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h = 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ee un número entero desde el teclado y lo guarda en la variable 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quival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 = U.readInt(); //asig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//fr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un comentario que contiene observaciones de utilidad para el programador, pero que es ignorado por el computador al ejecutar las instrucciones del progra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h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lara (define) h como una variable ent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variab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ción simbólica de un valor (númer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a una ubicación (celda) en la memoria del comput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u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or/número (del tipo indica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ede variar (cambiar) su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po nombr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p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 número entero (ejs:123, -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p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 número real (ejs: 5.8, 100.0, 0.000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bre (identificador): letra seguida de letras, dígitos o 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Explicaciones Detallad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507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h = U.readInt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1º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método (función) U.readIn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pera que el usuario ingrese un número (dígitos y en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e (obtiene) el nú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ega el número como result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2º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número se guarda en (asigna a) la variable 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Instrucción de Asigna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507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=100.0*h/(h+m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lcula 100.0*h/(h+m) y guarda el resultado en la variable 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=expresió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(calcular resulta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asignar (guardar) resultado a (en) la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¿expresió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escribe en una línea (hacia el lado) y no en varios nive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onent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variables y constantes (enteras y real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operadores binarios (+,-,*,/) y unarios (+,-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étodos (funciones) que entregan un número (Ej:readI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xpresiones con o sin parénte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Evaluación de Expres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operadores unarios (+,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operadores “multiplicativos” (*,/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º operadores “aditivos” (+,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caso de operadores de igual prioridad, evaluar de izq a 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j: 100.0*h/(h+m) equivale a (100.0*h)/(h+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aréntesis se usan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odificar orden de evaluación. Ej: 100.0*h/(h+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firmar orden de evaluación. Ej: (100.0*h)/(h+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ipo del result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ipo común. Ej: 1 / 2 es 0 (entero), 1.0 / 2.0 es 0.5 (re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al si operandos son de tipos distintos. Ej: 1.0/2 es 0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ota. ¿resultado de h/(h+m)*100.0?  ¿por qué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C1001- Computación I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2133720"/>
            <a:ext cx="3048120" cy="1904760"/>
          </a:xfrm>
          <a:prstGeom prst="roundRect">
            <a:avLst>
              <a:gd name="adj" fmla="val 16667"/>
            </a:avLst>
          </a:prstGeom>
          <a:solidFill>
            <a:srgbClr val="b3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57150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-720" y="1752480"/>
            <a:ext cx="5181480" cy="2667240"/>
          </a:xfrm>
          <a:prstGeom prst="cloudCallout">
            <a:avLst>
              <a:gd name="adj1" fmla="val -26749"/>
              <a:gd name="adj2" fmla="val 72138"/>
            </a:avLst>
          </a:prstGeom>
          <a:solidFill>
            <a:srgbClr val="e6ea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43828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azonamiento algorítmico/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pacidad modelamiento/ab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bilidad gral resolver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3568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52680" y="51055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48320" y="50292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715000" y="3886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0"/>
            <a:endCxn id="113" idx="2"/>
          </p:cNvCxnSpPr>
          <p:nvPr/>
        </p:nvCxnSpPr>
        <p:spPr>
          <a:xfrm flipH="1" flipV="1" rot="5400000">
            <a:off x="4571640" y="3733200"/>
            <a:ext cx="915120" cy="1524960"/>
          </a:xfrm>
          <a:prstGeom prst="curvedConnector5">
            <a:avLst>
              <a:gd name="adj1" fmla="val 49980"/>
              <a:gd name="adj2" fmla="val 49988"/>
              <a:gd name="adj3" fmla="val 499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172200" y="3886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952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49528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 rot="5400000">
            <a:off x="5257080" y="3962160"/>
            <a:ext cx="915120" cy="1067760"/>
          </a:xfrm>
          <a:prstGeom prst="curvedConnector5">
            <a:avLst>
              <a:gd name="adj1" fmla="val 58638"/>
              <a:gd name="adj2" fmla="val 49983"/>
              <a:gd name="adj3" fmla="val 5863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Explicaciones…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U.println(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cribe el valor de la variable p y “salta” a la sgte lín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1º evaluar expresión (ejs: p, 100-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º escribi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° posicionar el cursor al comienzo de la sgte línea en la pantal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(ln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xpresión aritmét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xpresión aritmética: operando operador operan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Operador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, -, *, 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rand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riable (ej: 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ante (ej: 10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resi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ón con/sin paréntesis (ejs: a*b, (a/b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Solución 2. Usando abreviacion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int 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U.read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homb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int 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U.read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muje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ouble p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100.0* h/(h+m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% de hombres = “+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% de mujeres = “+(100-p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valenci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int 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U.read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homb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equivalente 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“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° de hombres?”); int h=U.read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% de hombres = “+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 equivalente 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“% de hombres = “); U.println(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a calcular el área y perímetro de la figura formada por un cuadrado y un c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írculo inscri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riba un programa que establezca el siguiente diá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lado cuadrado? </a:t>
            </a:r>
            <a:r>
              <a:rPr b="0" lang="pt-BR" sz="2800" spc="-1" strike="noStrike">
                <a:solidFill>
                  <a:srgbClr val="ff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área=n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perímetro=n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637000"/>
            <a:ext cx="1440000" cy="1439640"/>
          </a:xfrm>
          <a:prstGeom prst="rect">
            <a:avLst/>
          </a:prstGeom>
          <a:solidFill>
            <a:srgbClr val="e6ea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2637000"/>
            <a:ext cx="1440000" cy="1439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ones 1 y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86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Solución 1: Sin abreviac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U.print(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lado cuadrado?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”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double x = U.readDouble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r = x/2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U.print(“área=“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U.println(x*x – 3.1416*r*r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U.print(“perímetro=”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4*x + 2*3.1416*r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Solución 2: Con abreviac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double x = U.readDouble(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lado cuadrado?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r = x/2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pi = 3.1416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U.println(“área=“+(x*x – pi*r*r)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U.println(“perímetro=”+</a:t>
            </a:r>
            <a:r>
              <a:rPr b="0" lang="es-CL" sz="21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ES" sz="2100" spc="-1" strike="noStrike">
                <a:solidFill>
                  <a:srgbClr val="000000"/>
                </a:solidFill>
                <a:latin typeface="Courier New"/>
              </a:rPr>
              <a:t>4*x + 2*pi*r)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Solución 3 (con algunas novedades útiles)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686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x=U.readDouble(“lado cuadrado? “), r=x/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área=“ 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ath.pow(x,2) – Math.PI*Math.pow(r,2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erímetro=” + (4*x + 2*Math.PI*r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alor predefinido d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л (3.14159265358979323846)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tante real (valor inmodificab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th.pow(r,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lcula y entrega r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predefinida (incorporada al lenguaje Jav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ntaxis: Math.pow(x,y), x e y: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mántica: 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con resultado 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grama Complet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todo programa debe estar contenido en una cl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class Nombre{…} y grabarse en archivo Nombre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encabezamiento del método principal (mai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entarios (observaciones opcionales)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... (hasta el final de la líne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Clase U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lase de la U con métodos para leer y escribir núme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lass U{ //en archivo U.jav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declaracion de entrada estandar (teclado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BufferedReader teclado = new BufferedReader(new InputStreamReader(System.in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metodos (funciones) para leer enteros y re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String readLine(String x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print(x); return teclado.read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int readInt(String x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Integer.parseInt(readLine(x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int readInt(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readInt(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double readDouble(String x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Double.parseDouble(readLine(x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static public double readDouble()throws IOException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turn readDouble(""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Clase U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metodos(funciones)para escribir frases,enteros y re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(String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(int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(double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ln(String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ln(int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println(double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//fin de clase 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Objetivo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olver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pec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f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ir programas que resuelvan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 largo plazo (pr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ósit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azonamientos algor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tmico y lóg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pacidades de abstracción y model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abilidad general para resolver probl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Metodologí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ases de cátedra y auxiliares centradas en proble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ercicios clases “obligatorios” (se necesitan 2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ontenido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Fundamentos de program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rogramación orientada a obje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Listas y tablas de valo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mputación numér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Evalua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F (nota final): 70%NC+30%NT (NC,NT 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≥ 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4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T (nota tareas): promedio 5 tareas (1 por cap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NC (nota control): prom ponderado contro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26920" y="3141720"/>
          <a:ext cx="6985080" cy="2722680"/>
        </p:xfrm>
        <a:graphic>
          <a:graphicData uri="http://schemas.openxmlformats.org/drawingml/2006/table">
            <a:tbl>
              <a:tblPr/>
              <a:tblGrid>
                <a:gridCol w="1524240"/>
                <a:gridCol w="1931760"/>
                <a:gridCol w="1584360"/>
                <a:gridCol w="1944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de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y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Reglas del curso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pe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elulares apagados, no conversar, mantener silenc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ar inform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ada en clases y publicada en u-cursos es oficial, y es su responsabilidad saberl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erden ingresar su e-mail en ucurs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 copi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s tareas son individuales y no se tolera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 la cop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zo de reclam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rrores, problemas con sus notas se pod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n reclamar hasta 30 días después de la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ublicaci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e la nota. Después no se aceptarán reclamos y no hay excep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Primer 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743200" y="5638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ir un programa que calcule los porcentajes de hombres y mujeres de acuerdo al siguiente diálogo con una persona (usuari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º de hombres? </a:t>
            </a:r>
            <a:r>
              <a:rPr b="0" lang="es-ES" sz="2800" spc="-1" strike="noStrike">
                <a:solidFill>
                  <a:srgbClr val="ff0000"/>
                </a:solidFill>
                <a:latin typeface="Courier New"/>
              </a:rPr>
              <a:t>499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º de mujeres? </a:t>
            </a:r>
            <a:r>
              <a:rPr b="0" lang="es-ES" sz="2800" spc="-1" strike="noStrike">
                <a:solidFill>
                  <a:srgbClr val="ff0000"/>
                </a:solidFill>
                <a:latin typeface="Courier New"/>
              </a:rPr>
              <a:t>136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 de hombres=78.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 de mujeres=21.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</cp:lastModifiedBy>
  <cp:lastPrinted>2006-03-02T13:33:10Z</cp:lastPrinted>
  <dcterms:modified xsi:type="dcterms:W3CDTF">2008-03-12T14:35:24Z</dcterms:modified>
  <cp:revision>44</cp:revision>
  <dc:subject/>
  <dc:title>  CC1001- Computación I </dc:title>
</cp:coreProperties>
</file>