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155-77F3-4A96-B359-1BA11AF7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98A-5594-48B7-B05A-E7D9DD82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ABA-2B38-44FD-937E-846B007B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45F-290A-4356-BE1A-7EB723B5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2EB-AE1A-4C55-B420-21F65EE5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E53-247A-4938-8AEC-B7503AA3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443-53CD-4A57-90EE-E6B2355A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807-9DB4-4072-9A92-B4187D24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E51-4079-4561-AFCE-223DACA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5B3-0735-4383-B199-7616D08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191-12C0-48EA-9CF1-23E8404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52E-3724-4A0A-984D-170AB443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A4B9-FB32-4EBA-BBCC-9A13B360A96F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Introducci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br>
              <a:rPr sz="4400"/>
            </a:b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tapas (pasos, instrucciones) q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be realizar (ejecutar) el computad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ara resolver un probl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¿ . . .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8748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Algoritmo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tapas (pasos, instrucciones) que debe realizar (ejecutar) el computador para resolver el probl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Escribir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(mostrar)</a:t>
            </a: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n la pantalla la frase “nº de homb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obtener) el n° ingresado por la persona usando el tecl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mostrar) en la pantalla “n° de muje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n° ingresado por la perso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Calcula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% (p) de hombres c/r a suma de hombres y muje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 la frase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hombres=“ y el n° 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mujer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“ y el n° 100-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 expresado en un lenguaje de progra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 en lenguaje Java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instrucciones princip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U.readInt(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(“n° de muje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U.readInt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 = 100.0 * h/(h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homb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muje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100-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213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3716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21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724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5300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80536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308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gener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idioma ingl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notación matemátic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presiones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00.0 * h/(h+m), p-1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unciones: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(...)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ntaxis (gramática, escritura) reglament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terminan con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con significados especiales (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, double, 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minúsculas (salvo casos especia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mántica (interpretación) precisa (sin ambigüedad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con significado/efecto bien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29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e en la pantalla la fras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“n° de hombres? 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print(“...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unción (método) que escribe parámetro (argumento) en la pantalla del 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e un número entero desde el teclado y lo guarda en la variable 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quival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 = U.readInt(); //asig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//fr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n comentario que contiene observaciones de utilidad para el programador, pero que es ignorado por el computador al ejecutar las instrucciones del progra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h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ara (define) h como una variable ent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vari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 una ubicación (celda) en la memoria del comput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or/número (del tipo indic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 variar (cambiar) su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entero (ejs:123, -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real (ejs: 5.8, 100.0, 0.00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bre (identificador): letra seguida de letras, dígitos o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h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1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método (función) U.readIn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ra que el usuario ingrese un número (dígitos y en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e (obtiene) el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ga el número como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2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número se guarda en (asigna a) la variable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Instrucción de Asign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=100.0*h/(h+m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100.0*h/(h+m) y guarda el resultado en la variable 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(calcular resul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asignar (guardar) resultado a (en) l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¿expres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escribe en una línea (hacia el lado) y no en varios nive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ariables y constantes (enteras y rea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dores binarios (+,-,*,/) y unarios (+,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étodos (funciones) que entregan un número (Ej:read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resiones con o sin parénte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valuación de Expres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operadores unarios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operadores “multiplicativos” (*,/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operadores “aditivos”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caso de operadores de igual prioridad, evaluar de izq a 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: 100.0*h/(h+m) equivale a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éntesis se usan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dificar orden de evaluación. Ej: 100.0*h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irmar orden de evaluación. Ej: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ipo del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común. Ej: 1 / 2 es 0 (entero), 1.0 / 2.0 es 0.5 (re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 si operandos son de tipos distintos. Ej: 1.0/2 es 0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. ¿resultado de h/(h+m)*100.0?  ¿por qué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2133720"/>
            <a:ext cx="3048120" cy="1904760"/>
          </a:xfrm>
          <a:prstGeom prst="roundRect">
            <a:avLst>
              <a:gd name="adj" fmla="val 16667"/>
            </a:avLst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-720" y="1752480"/>
            <a:ext cx="5181480" cy="2667240"/>
          </a:xfrm>
          <a:prstGeom prst="cloudCallout">
            <a:avLst>
              <a:gd name="adj1" fmla="val -26749"/>
              <a:gd name="adj2" fmla="val 72138"/>
            </a:avLst>
          </a:prstGeom>
          <a:solidFill>
            <a:srgbClr val="e6e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4382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50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3" idx="2"/>
          </p:cNvCxnSpPr>
          <p:nvPr/>
        </p:nvCxnSpPr>
        <p:spPr>
          <a:xfrm flipH="1" flipV="1" rot="5400000">
            <a:off x="4571640" y="3733200"/>
            <a:ext cx="915120" cy="1524960"/>
          </a:xfrm>
          <a:prstGeom prst="curvedConnector5">
            <a:avLst>
              <a:gd name="adj1" fmla="val 49980"/>
              <a:gd name="adj2" fmla="val 49988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722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rot="5400000">
            <a:off x="5257080" y="3962160"/>
            <a:ext cx="915120" cy="1067760"/>
          </a:xfrm>
          <a:prstGeom prst="curvedConnector5">
            <a:avLst>
              <a:gd name="adj1" fmla="val 58638"/>
              <a:gd name="adj2" fmla="val 49983"/>
              <a:gd name="adj3" fmla="val 586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xplicaciones…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ribe el valor de la variable p y “salta” a la sgte lín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º evaluar expresión (ejs: p, 100-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º escribi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° posicionar el cursor al comienzo de la sgte línea en la panta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(l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xpresión aritmé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presión aritmética: operando operador oper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Operador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, -, *,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(ej: 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nte (ej: 1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resi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ón con/sin paréntesis (ejs: a*b, (a/b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Usando abrevi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muje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100.0* h/(h+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mujeres = “+(100-p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 int h=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% de hombres = “); 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calcular el área y perímetro de la figura formada por un cuadrado y un c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írculo inscr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a un programa que establezc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ado cuadrado?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área=n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erímetro=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637000"/>
            <a:ext cx="1440000" cy="1439640"/>
          </a:xfrm>
          <a:prstGeom prst="rect">
            <a:avLst/>
          </a:prstGeom>
          <a:solidFill>
            <a:srgbClr val="e6ea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2637000"/>
            <a:ext cx="1440000" cy="1439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ones 1 y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Solución 1: Si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(“área=“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x*x – 3.1416*r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“perímetro=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3.1416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Solución 2: Co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pi = 3.1416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“área=“+(x*x – pi*r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ln(“perímetro=”+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pi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3 (con algunas novedades útiles)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x=U.readDouble(“lado cuadrado? “), r=x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área=“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h.pow(x,2) – Math.PI*Math.pow(r,2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erímetro=” + (4*x + 2*Math.PI*r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lor predefinid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л (3.14159265358979323846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ante real (valor inmodific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ow(r,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y entrega r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predefinida (incorporada al lenguaje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axis: Math.pow(x,y), x e y: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mántica: 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n resultad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 Complet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odo programa debe estar contenido en una cl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lass Nombre{…} y grabarse en archivo Nombre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encabezamiento del método principal (m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entarios (observaciones opcionales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... (hasta el final de la lín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lase de la U con métodos para leer y escribir núme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ass U{ //en archivo U.jav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declaracion de entrada estandar (tecl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BufferedReader teclado = new BufferedReader(new InputStreamReader(System.in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etodos (funciones) para leer enteros y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String readLin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Integer.parseInt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Int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Double.parseDouble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Double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metodos(funciones)para escribir frases,enteros y re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//fin de clase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Objetiv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pec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f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rgo plazo (p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ósi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zonamientos algo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tmico y lóg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es de abstracción y model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Metodologí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rcicios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ontenid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istas y tablas de val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mputación num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valu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F (nota final): 70%NC+30%NT (NC,NT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T (nota tareas): promedio 5 tareas (1 por ca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C (nota control): prom ponderado contr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3141720"/>
          <a:ext cx="6985080" cy="2722680"/>
        </p:xfrm>
        <a:graphic>
          <a:graphicData uri="http://schemas.openxmlformats.org/drawingml/2006/table">
            <a:tbl>
              <a:tblPr/>
              <a:tblGrid>
                <a:gridCol w="152424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y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elulares apagados, no conversar, mantener silen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r infor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ada en clases y publicada en u-cursos es oficial, y es su responsabilidad saber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n ingresar su e-mail en ucur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copi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tareas son individuales y no se toler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 la cop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zo de reclam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rores, problemas con sus notas se pod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n reclamar hasta 30 días despué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a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 la nota. Después no se aceptarán reclamos y no hay excep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imer 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calcule los porcentajes de hombres y mujeres de acuerdo al siguiente diálogo con una persona (usuari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homb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499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muje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136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hombres=78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mujeres=21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2T14:35:24Z</dcterms:modified>
  <cp:revision>44</cp:revision>
  <dc:subject/>
  <dc:title>  CC1001- Computación I </dc:title>
</cp:coreProperties>
</file>