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73D6-EC6E-4FDE-BB0F-8CCDF20C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6A19-9BC2-4804-AAAB-49049A30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1C71-86C5-4540-9A04-79B0B9D5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BD84-018C-40E7-89BB-BCC7CCDC4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9662-360D-442C-BE9C-2886DE1F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CD04-8EB8-4571-A6EB-9406BD2A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0D99-A909-405C-813A-A211E5CE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D4E5-7600-4E46-95D9-50C9618F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5AF4-E25D-4F84-9413-76BC7F95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9619-BD2D-4B90-B286-65C109E8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6225-DD0C-4565-B008-3D450132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3FBE-4708-4859-BF26-3E18CA5D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A506-0386-4EE1-8F03-5CBEAEACB935}" type="slidenum">
              <a:rPr b="0" lang="es-ES_tradnl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CC1001- Computación I</a:t>
            </a:r>
            <a:br>
              <a:rPr sz="4400"/>
            </a:b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Introducci</a:t>
            </a:r>
            <a:r>
              <a:rPr b="1" lang="es-ES_tradnl" sz="44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</a:t>
            </a:r>
            <a:br>
              <a:rPr sz="4400"/>
            </a:b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7920" y="43434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Valeria Herskov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Depto Ciencias de la Comput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vherskov@dcc.uchile.c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Algoritmo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tapas (pasos, instrucciones) qu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debe realizar (ejecutar) el computad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para resolver un proble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Pas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¿ . . . 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Algoritmo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87488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Algoritmo: 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Etapas (pasos, instrucciones) que debe realizar (ejecutar) el computador para resolver el problem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-529920">
              <a:lnSpc>
                <a:spcPct val="70000"/>
              </a:lnSpc>
              <a:spcBef>
                <a:spcPts val="476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Escribir 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(mostrar)</a:t>
            </a: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en la pantalla la frase “nº de hombres? ”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-529920">
              <a:lnSpc>
                <a:spcPct val="70000"/>
              </a:lnSpc>
              <a:spcBef>
                <a:spcPts val="476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Leer</a:t>
            </a: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 (obtener) el n° ingresado por la persona usando el teclad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-529920">
              <a:lnSpc>
                <a:spcPct val="70000"/>
              </a:lnSpc>
              <a:spcBef>
                <a:spcPts val="476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Escribir</a:t>
            </a: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 (mostrar) en la pantalla “n° de mujeres? ”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-529920">
              <a:lnSpc>
                <a:spcPct val="70000"/>
              </a:lnSpc>
              <a:spcBef>
                <a:spcPts val="476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Leer</a:t>
            </a: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 el n° ingresado por la person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-529920">
              <a:lnSpc>
                <a:spcPct val="70000"/>
              </a:lnSpc>
              <a:spcBef>
                <a:spcPts val="476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Calcular</a:t>
            </a: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 el % (p) de hombres c/r a suma de hombres y mujer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-529920">
              <a:lnSpc>
                <a:spcPct val="70000"/>
              </a:lnSpc>
              <a:spcBef>
                <a:spcPts val="476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Escribir una línea con la frase</a:t>
            </a: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 “% de hombres=“ y el n° 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-529920">
              <a:lnSpc>
                <a:spcPct val="70000"/>
              </a:lnSpc>
              <a:spcBef>
                <a:spcPts val="476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Escribir una línea con</a:t>
            </a: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 “% de mujeres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“ y el n° 100-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Progra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rograma: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lgoritmo expresado en un lenguaje de program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rograma en lenguaje Java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(instrucciones principal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(“n° de hombres? 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U.readInt(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</a:rPr>
              <a:t>U.print(“n° de mujeres? 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</a:rPr>
              <a:t>int m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 U.readInt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double p = 100.0 * h/(h+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(”% de hombres=”); 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</a:rPr>
              <a:t>U.println(p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(”% de mujeres=”); 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</a:rPr>
              <a:t>U.println(100-p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3213000"/>
            <a:ext cx="288720" cy="36036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af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3716280"/>
            <a:ext cx="288720" cy="36036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af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4221000"/>
            <a:ext cx="288720" cy="36036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af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724280"/>
            <a:ext cx="288720" cy="36036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af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5300640"/>
            <a:ext cx="288720" cy="36036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af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5805360"/>
            <a:ext cx="288720" cy="36036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af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6308640"/>
            <a:ext cx="288720" cy="36036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af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Lenguaje Java: </a:t>
            </a: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aracterísticas generales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n idioma inglé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palabras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,..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Uso de notación matemática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xpresiones: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100.0 * h/(h+m), p-1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funciones: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print(...)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readInt(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Sintaxis (gramática, escritura) reglamentad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instrucciones terminan con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palabras con significados especiales (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int, double, print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uso de minúsculas (salvo casos especial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Semántica (interpretación) precisa (sin ambigüedad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instrucciones con significado/efecto bien definid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467480" y="1905120"/>
            <a:ext cx="1292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Explicaciones Detallada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3200" spc="-1" strike="noStrike">
                <a:solidFill>
                  <a:srgbClr val="000000"/>
                </a:solidFill>
                <a:latin typeface="Courier New"/>
              </a:rPr>
              <a:t>U.print(“n° de hombres? ”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mántica: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scribe en la pantalla la frase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“n° de hombres? 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intaxis: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U.print(“...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Función (método) que escribe parámetro (argumento) en la pantalla del compu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Explicaciones Detallada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507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h = U.readI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ee un número entero desde el teclado y lo guarda en la variable 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Equivale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h; //declar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 = U.readInt(); //asig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No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//fr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s un comentario que contiene observaciones de utilidad para el programador, pero que es ignorado por el computador al ejecutar las instrucciones del progra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Explicaciones Detallada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713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h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mántica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lara (define) h como una variable ente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¿variabl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resentación simbólica de un valor (númer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resenta una ubicación (celda) en la memoria del comput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acidad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u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lor/número (del tipo indicad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ede variar (cambiar) su val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ntaxi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ipo nombr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p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 número entero (ejs:123, -4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p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 número real (ejs: 5.8, 100.0, 0.000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mbre (identificador): letra seguida de letras, dígitos o 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Explicaciones Detallada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50752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h = U.readInt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1º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método (función) U.readInt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pera que el usuario ingrese un número (dígitos y ent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e (obtiene) el núme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trega el número como result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2º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número se guarda en (asigna a) la variable 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intaxi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variable = U.readTipo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adTipo(): readInt() o readDouble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Instrucción de Asignació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50752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p=100.0*h/(h+m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lcula 100.0*h/(h+m) y guarda el resultado en la variable 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intaxis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variable=expresió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º evaluar expresión (calcular resultad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2º asignar (guardar) resultado a (en) la vari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¿expresió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escribe en una línea (hacia el lado) y no en varios nive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mponent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variables y constantes (enteras y real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operadores binarios (+,-,*,/) y unarios (+,-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étodos (funciones) que entregan un número (Ej:readIn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xpresiones con o sin parénte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Evaluación de Expresió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874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º operadores unarios (+,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2º operadores “multiplicativos” (*,/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3º operadores “aditivos” (+,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No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caso de operadores de igual prioridad, evaluar de izq a d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j: 100.0*h/(h+m) equivale a (100.0*h)/(h+m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aréntesis se usan p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odificar orden de evaluación. Ej: 100.0*h/(h+m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firmar orden de evaluación. Ej: (100.0*h)/(h+m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Tipo del result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ipo común. Ej: 1 / 2 es 0 (entero), 1.0 / 2.0 es 0.5 (rea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al si operandos son de tipos distintos. Ej: 1.0/2 es 0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Nota. ¿resultado de h/(h+m)*100.0?  ¿por qué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CC1001- Computación I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2133720"/>
            <a:ext cx="3048120" cy="1904760"/>
          </a:xfrm>
          <a:prstGeom prst="roundRect">
            <a:avLst>
              <a:gd name="adj" fmla="val 16667"/>
            </a:avLst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571500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-720" y="1752480"/>
            <a:ext cx="5181480" cy="2667240"/>
          </a:xfrm>
          <a:prstGeom prst="cloudCallout">
            <a:avLst>
              <a:gd name="adj1" fmla="val -26749"/>
              <a:gd name="adj2" fmla="val 72138"/>
            </a:avLst>
          </a:prstGeom>
          <a:solidFill>
            <a:srgbClr val="e6ea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2438280"/>
            <a:ext cx="502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azonamiento algorítmico/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pacidad modelamiento/abs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abilidad gral resolver probl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10280" y="5562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352680" y="51055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48320" y="5029200"/>
            <a:ext cx="1447560" cy="1447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715000" y="38862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5" idx="0"/>
            <a:endCxn id="113" idx="2"/>
          </p:cNvCxnSpPr>
          <p:nvPr/>
        </p:nvCxnSpPr>
        <p:spPr>
          <a:xfrm flipH="1" flipV="1" rot="5400000">
            <a:off x="4571640" y="3733200"/>
            <a:ext cx="915120" cy="1524960"/>
          </a:xfrm>
          <a:prstGeom prst="curvedConnector5">
            <a:avLst>
              <a:gd name="adj1" fmla="val 49980"/>
              <a:gd name="adj2" fmla="val 49988"/>
              <a:gd name="adj3" fmla="val 4998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6172200" y="38862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49528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05520" y="49528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/>
          <p:nvPr/>
        </p:nvCxnSpPr>
        <p:spPr>
          <a:xfrm rot="5400000">
            <a:off x="5257080" y="3962160"/>
            <a:ext cx="915120" cy="1067760"/>
          </a:xfrm>
          <a:prstGeom prst="curvedConnector5">
            <a:avLst>
              <a:gd name="adj1" fmla="val 58638"/>
              <a:gd name="adj2" fmla="val 49983"/>
              <a:gd name="adj3" fmla="val 5863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Explicaciones…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U.println(p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Semántica: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scribe el valor de la variable p y “salta” a la sgte lín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1º evaluar expresión (ejs: p, 100-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2º escribir result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° posicionar el cursor al comienzo de la sgte línea en la pantal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.print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(ln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expresión aritmétic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xpresión aritmética: operando operador operan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Operador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+, -, *, 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erand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riable (ej: 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tante (ej: 100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presi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ón con/sin paréntesis (ejs: a*b, (a/b)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Solución 2. Usando abreviaciones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int 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 U.readInt(“n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° de hombres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int 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 U.readInt(“n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° de mujeres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double p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 100.0* h/(h+m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% de hombres = “+p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% de mujeres = “+(100-p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quivalenci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int 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 U.readInt(“n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° de hombres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s equivalente 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(“n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° de hombres?”); int h=U.readI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% de hombres = “+p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s equivalente 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(“% de hombres = “); U.println(p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ara calcular el área y perímetro de la figura formada por un cuadrado y un c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írculo inscri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criba un programa que establezca el siguiente diálog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lado cuadrado? </a:t>
            </a:r>
            <a:r>
              <a:rPr b="0" lang="pt-BR" sz="2800" spc="-1" strike="noStrike">
                <a:solidFill>
                  <a:srgbClr val="ff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área=n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perímetro=n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637000"/>
            <a:ext cx="1440000" cy="1439640"/>
          </a:xfrm>
          <a:prstGeom prst="rect">
            <a:avLst/>
          </a:prstGeom>
          <a:solidFill>
            <a:srgbClr val="e6ea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48000" y="2637000"/>
            <a:ext cx="1440000" cy="1439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ones 1 y 2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6868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Verdana"/>
              </a:rPr>
              <a:t>Solución 1: Sin abreviacion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U.print(</a:t>
            </a:r>
            <a:r>
              <a:rPr b="0" lang="es-CL" sz="21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lado cuadrado?</a:t>
            </a:r>
            <a:r>
              <a:rPr b="0" lang="es-CL" sz="2100" spc="-1" strike="noStrike">
                <a:solidFill>
                  <a:srgbClr val="000000"/>
                </a:solidFill>
                <a:latin typeface="Courier New"/>
              </a:rPr>
              <a:t>”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double x = U.readDouble(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double r = x/2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U.print(“área=“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U.println(x*x – 3.1416*r*r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U.print(“perímetro=”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urier New"/>
              </a:rPr>
              <a:t>U.println(</a:t>
            </a: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4*x + 2*3.1416*r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Verdana"/>
              </a:rPr>
              <a:t>Solución 2: Con abreviacion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double x = U.readDouble(</a:t>
            </a:r>
            <a:r>
              <a:rPr b="0" lang="es-CL" sz="21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lado cuadrado?</a:t>
            </a:r>
            <a:r>
              <a:rPr b="0" lang="es-CL" sz="21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double r = x/2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double pi = 3.1416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U.println(“área=“+(x*x – pi*r*r)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U.println(“perímetro=”+</a:t>
            </a:r>
            <a:r>
              <a:rPr b="0" lang="es-CL" sz="21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4*x + 2*pi*r)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Solución 3 (con algunas novedades útiles)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686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x=U.readDouble(“lado cuadrado? “), r=x/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área=“ +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ath.pow(x,2) – Math.PI*Math.pow(r,2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perímetro=” + (4*x + 2*Math.PI*r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ath.P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valor predefinido de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л (3.14159265358979323846)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stante real (valor inmodificabl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ath.pow(r,2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lcula y entrega r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unción predefinida (incorporada al lenguaje Jav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ntaxis: Math.pow(x,y), x e y: expres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mántica: x</a:t>
            </a:r>
            <a:r>
              <a:rPr b="0" lang="es-ES" sz="2000" spc="-1" strike="noStrike" baseline="30000">
                <a:solidFill>
                  <a:srgbClr val="000000"/>
                </a:solidFill>
                <a:latin typeface="Verdana"/>
              </a:rPr>
              <a:t>y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con resultado re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Programa Completo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todo programa debe estar contenido en una cl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class Nombre{…} y grabarse en archivo Nombre.ja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lass Progra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encabezamiento del método principal (mai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//instruc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comentarios (observaciones opcionales)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//... (hasta el final de la líne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Clase U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Clase de la U con métodos para leer y escribir númer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class U{ //en archivo U.jav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declaracion de entrada estandar (teclado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static public BufferedReader teclado = new BufferedReader(new InputStreamReader(System.in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metodos (funciones) para leer enteros y rea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static public String readLine(String x)throws IOException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print(x); return teclado.readLin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static public int readInt(String x)throws IOException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turn Integer.parseInt(readLine(x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static public int readInt()throws IOException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turn readInt("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static public double readDouble(String x)throws IOException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turn Double.parseDouble(readLine(x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static public double readDouble()throws IOException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turn readDouble("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Clase U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//metodos(funciones)para escribir frases,enteros y rea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print(String x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print(int x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print(double x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println(String x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println(int x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println(double x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//fin de clase 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Objetivo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Gener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solver proble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pec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fic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ribir programas que resuelvan proble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 largo plazo (pro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ósito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azonamientos algor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tmico y lóg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pacidades de abstracción y modela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abilidad general para resolver proble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Metodologí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Pedagogí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rientación al aprendiza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lases de cátedra y auxiliares centradas en problem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jercicios clases “obligatorios” (se necesitan 2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enguajes Java y Matla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mbiente Internet/we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Contenido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Fundamentos de program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Programación orientada a objet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Listas y tablas de valo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Computación numéri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Evaluació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NF (nota final): 70%NC+30%NT (NC,NT </a:t>
            </a:r>
            <a:r>
              <a:rPr b="0" lang="es-E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≥ </a:t>
            </a: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4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NT (nota tareas): promedio 5 tareas (1 por cap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NC (nota control): prom ponderado control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26920" y="3141720"/>
          <a:ext cx="6985080" cy="2722680"/>
        </p:xfrm>
        <a:graphic>
          <a:graphicData uri="http://schemas.openxmlformats.org/drawingml/2006/table">
            <a:tbl>
              <a:tblPr/>
              <a:tblGrid>
                <a:gridCol w="1524240"/>
                <a:gridCol w="1931760"/>
                <a:gridCol w="1584360"/>
                <a:gridCol w="194472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m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nde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y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a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Reglas del curso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spe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elulares apagados, no conversar, mantener silenc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tar inform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inform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ada en clases y publicada en u-cursos es oficial, y es su responsabilidad saberl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-4572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erden ingresar su e-mail en ucurs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 copi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s tareas son individuales y no se tolerar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 la cop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lazo de reclam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rrores, problemas con sus notas se podr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n reclamar hasta 30 días después de la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ublicaci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de la nota. Después no se aceptarán reclamos y no hay excep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Primer Progra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743200" y="56383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scribir un programa que calcule los porcentajes de hombres y mujeres de acuerdo al siguiente diálogo con una persona (usuari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nº de hombres? </a:t>
            </a:r>
            <a:r>
              <a:rPr b="0" lang="es-ES" sz="2800" spc="-1" strike="noStrike">
                <a:solidFill>
                  <a:srgbClr val="ff0000"/>
                </a:solidFill>
                <a:latin typeface="Courier New"/>
              </a:rPr>
              <a:t>499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erso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nº de mujeres? </a:t>
            </a:r>
            <a:r>
              <a:rPr b="0" lang="es-ES" sz="2800" spc="-1" strike="noStrike">
                <a:solidFill>
                  <a:srgbClr val="ff0000"/>
                </a:solidFill>
                <a:latin typeface="Courier New"/>
              </a:rPr>
              <a:t>136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erso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 de hombres=78.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 de mujeres=21.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4:31:24Z</dcterms:created>
  <dc:creator>Valeria Herskovic</dc:creator>
  <dc:description/>
  <dc:language>en-US</dc:language>
  <cp:lastModifiedBy>Vale</cp:lastModifiedBy>
  <cp:lastPrinted>2006-03-02T13:33:10Z</cp:lastPrinted>
  <dcterms:modified xsi:type="dcterms:W3CDTF">2008-03-12T14:35:24Z</dcterms:modified>
  <cp:revision>44</cp:revision>
  <dc:subject/>
  <dc:title>  CC1001- Computación I </dc:title>
</cp:coreProperties>
</file>