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AFB-AB60-4404-889C-EAED3348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7BF-8823-4ED0-908D-B9B77147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3C1-B85B-4476-A7E5-FCD41747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5A1-D0E8-4020-9B52-C243D6B1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460-B4FB-4F2F-892A-8CC378B9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FB5-B5D6-4FE3-8CB8-2413192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831-83C6-4F2B-A6BA-E029A5E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C07-1EFA-4352-BF46-A83EFABD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DD1-6EF9-444A-BDD4-FBF58E3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9E0-38F4-4C9A-A28D-090BC7D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C32-2F42-4818-B711-5F84A0C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52D-7206-46A4-97CE-9A87B2B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B31B-E527-4579-B190-8CAA983D68AC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8748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Algoritmo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tapas (pasos, instrucciones) que debe realizar (ejecutar) el computador para resolver el probl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scribir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(mostrar)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n la pantalla la frase “nº de homb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obtener) el n° ingresado por la persona usando el tecl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mostrar) en la pantalla “n° de muje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n° ingresado por la perso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Calcula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% (p) de hombres c/r a suma de hombres y muje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 la frase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hombres=“ y el n° 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muje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“ y el n° 100-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 en lenguaje Java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U.readInt(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(“n° de muje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U.readInt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 = 100.0 * h/(h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homb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muje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100-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213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716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21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724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300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80536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308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gener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00.0 * h/(h+m), p-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, double, 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“n° de hombres? 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e un número entero desde el teclado y lo guarda en la variable 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quival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 = U.readInt(); //asig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//fr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 comentario que contiene observaciones de utilidad para el programador, pero que es ignorado por el computador al ejecutar las instrucciones del progr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h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a (define) h como una variable ent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entero (ejs:123, 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real (ejs: 5.8, 100.0, 0.0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h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método (función) U.readIn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número se guarda en (asigna a) la variable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Instrucción de Asign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=100.0*h/(h+m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100.0*h/(h+m) y guarda el resultado en la variable 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(calcular resul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¿expres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escribe en una línea (hacia el lado) y no en varios nive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riables y constantes (enteras y rea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es binarios (+,-,*,/) y unarios (+,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étodos (funciones) que entregan un número (Ej:read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ones con o sin parénte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valuación de Expres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operadores unarios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operadores “multiplicativos” (*,/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operadores “aditivos”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: 100.0*h/(h+m) equivale a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dificar orden de evaluación. Ej: 100.0*h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irmar orden de evaluación. Ej: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ipo del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común. Ej: 1 / 2 es 0 (entero), 1.0 / 2.0 es 0.5 (re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si operandos son de tipos distintos. Ej: 1.0/2 es 0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. ¿resultado de h/(h+m)*100.0?  ¿por qué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xplicaciones…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ribe el valor de la variable p y “salta” a la sgte lín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(ejs: p, 100-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° posicionar el cursor al comienzo de la sgte línea en la panta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(l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xpresión aritmé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presión aritmética: operando operador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Operador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(ej: 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nte (ej: 1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resi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ón con/sin paréntesis (ejs: a*b, (a/b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Usando abrevi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muje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100.0* h/(h+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mujeres = “+(100-p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 int h=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% de hombres = “); 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calcular el área y perímetro de la figura formada por un cuadrado y un c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írculo inscr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a un programa que establezc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ado cuadrado?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área=n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erímetro=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637000"/>
            <a:ext cx="1440000" cy="1439640"/>
          </a:xfrm>
          <a:prstGeom prst="rect">
            <a:avLst/>
          </a:prstGeom>
          <a:solidFill>
            <a:srgbClr val="e6ea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637000"/>
            <a:ext cx="1440000" cy="1439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ones 1 y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Solución 1: Si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(“área=“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x*x – 3.1416*r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“perímetro=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3.1416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Solución 2: Co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pi = 3.1416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“área=“+(x*x – pi*r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ln(“perímetro=”+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pi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3 (con algunas novedades útiles)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x=U.readDouble(“lado cuadrado? “), r=x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área=“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.pow(x,2) – Math.PI*Math.pow(r,2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erímetro=” + (4*x + 2*Math.PI*r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л (3.14159265358979323846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ante real (valor inmodific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y entrega r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lase de la U con métodos para leer y escribir núm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ass U{ //en archivo U.ja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declaracion de entrada estandar (tecl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BufferedReader teclado = new BufferedReader(new InputStreamReader(System.in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etodos (funciones) para leer enteros y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String readLin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Integer.parseInt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Int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Double.parseDouble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Double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metodos(funciones)para escribir frases,enteros y re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//fin de clase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rcicios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5 tareas (1 por ca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3141720"/>
          <a:ext cx="6985080" cy="2722680"/>
        </p:xfrm>
        <a:graphic>
          <a:graphicData uri="http://schemas.openxmlformats.org/drawingml/2006/table">
            <a:tbl>
              <a:tblPr/>
              <a:tblGrid>
                <a:gridCol w="152424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y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elulares apagados, no conversar, mantener silen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n ingresar su e-mail en u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a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 la nota. Después no se aceptarán reclamos y no hay excep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imer 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calcule los porcentajes de hombres y mujeres de acuerdo al siguiente diálogo con una persona (usuari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homb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499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muje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136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hombres=78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mujeres=21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2T14:35:24Z</dcterms:modified>
  <cp:revision>44</cp:revision>
  <dc:subject/>
  <dc:title>  CC1001- Computación I </dc:title>
</cp:coreProperties>
</file>