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A26B-EAA6-49CD-827B-DBE2E79E9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C264-3992-45D3-A581-7AEA42D11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04A0-F3F7-4E0F-B6FB-338F6E8CA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F930-E5A8-473D-93F9-D5BD98BC6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0B9B-75C9-40AF-979F-F77403ADD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BD8E-496E-4938-8001-4AC39C112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D278-FE15-4BA1-819F-8FEA22841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8AF1-8445-4031-B43F-C705351CC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63C1-0A20-487E-A45A-00B077ACD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8F6B-9AF5-41C5-A90C-87F1D6A15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859E-E5BA-4E26-8B65-30DE89CC4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9619-9103-45C5-A356-30808E1AF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888AA-1316-4566-9412-565A83148B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88920" y="766800"/>
          <a:ext cx="7632720" cy="5603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766800"/>
                    <a:ext cx="7632720" cy="56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33320" y="554040"/>
          <a:ext cx="8253360" cy="6207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3320" y="554040"/>
                    <a:ext cx="8253360" cy="620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11200" y="538200"/>
          <a:ext cx="8269200" cy="582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538200"/>
                    <a:ext cx="8269200" cy="58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739800" y="550800"/>
          <a:ext cx="8082000" cy="628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9800" y="550800"/>
                    <a:ext cx="8082000" cy="628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84200" y="444600"/>
          <a:ext cx="8431200" cy="697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200" y="444600"/>
                    <a:ext cx="8431200" cy="697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11280" y="476280"/>
          <a:ext cx="7893000" cy="658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476280"/>
                    <a:ext cx="7893000" cy="658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712800" y="592200"/>
          <a:ext cx="7005600" cy="580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2800" y="592200"/>
                    <a:ext cx="7005600" cy="580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03200" y="444600"/>
          <a:ext cx="8848800" cy="609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444600"/>
                    <a:ext cx="8848800" cy="609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403200" y="403200"/>
          <a:ext cx="8807400" cy="6346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403200"/>
                    <a:ext cx="8807400" cy="634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96800" y="430200"/>
          <a:ext cx="8229600" cy="614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430200"/>
                    <a:ext cx="8229600" cy="61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704880" y="581040"/>
          <a:ext cx="7978680" cy="599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581040"/>
                    <a:ext cx="797868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685800" y="601560"/>
          <a:ext cx="8193240" cy="5510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01560"/>
                    <a:ext cx="8193240" cy="55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988920" y="655560"/>
          <a:ext cx="7336080" cy="582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655560"/>
                    <a:ext cx="7336080" cy="582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30360" y="630360"/>
          <a:ext cx="8202600" cy="576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630360"/>
                    <a:ext cx="8202600" cy="57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685800" y="1981080"/>
          <a:ext cx="7918560" cy="4140360"/>
        </p:xfrm>
        <a:graphic>
          <a:graphicData uri="http://schemas.openxmlformats.org/drawingml/2006/table">
            <a:tbl>
              <a:tblPr/>
              <a:tblGrid>
                <a:gridCol w="501480"/>
                <a:gridCol w="2160720"/>
                <a:gridCol w="1079640"/>
                <a:gridCol w="215640"/>
                <a:gridCol w="649440"/>
                <a:gridCol w="2158920"/>
                <a:gridCol w="1152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ul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ul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 n=2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&lt;=3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ln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1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&lt;=3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ln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5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&lt;=3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ln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1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&lt;=3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517680" y="517680"/>
          <a:ext cx="8350200" cy="552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517680"/>
                    <a:ext cx="8350200" cy="55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11200" y="523800"/>
          <a:ext cx="8350200" cy="585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523800"/>
                    <a:ext cx="8350200" cy="585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287360" y="685800"/>
          <a:ext cx="6642360" cy="53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7360" y="685800"/>
                    <a:ext cx="6642360" cy="53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1T13:00:51Z</dcterms:created>
  <dc:creator>jalvarez</dc:creator>
  <dc:description/>
  <dc:language>en-US</dc:language>
  <cp:lastModifiedBy>jalvarez</cp:lastModifiedBy>
  <cp:lastPrinted>2005-01-12T14:41:26Z</cp:lastPrinted>
  <dcterms:modified xsi:type="dcterms:W3CDTF">2008-03-19T14:56:58Z</dcterms:modified>
  <cp:revision>31</cp:revision>
  <dc:subject/>
  <dc:title>Sin título de diapositiva</dc:title>
</cp:coreProperties>
</file>