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F37-DAA6-4931-9D6F-33818D41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09D-9700-4B35-A166-09708638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D822-C9E1-4459-9A18-9F7DEC52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A4D-27DA-4416-A656-98F27811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19C1-C6F1-419F-9928-220108EA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939-8885-4619-B23D-5580E7C1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EA58-66FA-4338-B21B-ECA97917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BB5-4208-40D3-B396-0949061D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388-1215-4F9A-A069-624CC8FA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5D9-3978-4FDE-8551-930BD5A9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11F-8F75-4B42-B56E-F30B77B1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AD3-89B9-4C4A-9B2E-F4E90DF2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9290-08BA-4B80-8B47-9ABE1E558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88920" y="766800"/>
          <a:ext cx="7632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766800"/>
                    <a:ext cx="7632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3320" y="554040"/>
          <a:ext cx="8253360" cy="62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53360" cy="62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1200" y="538200"/>
          <a:ext cx="826920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38200"/>
                    <a:ext cx="826920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39800" y="550800"/>
          <a:ext cx="808200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550800"/>
                    <a:ext cx="808200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84200" y="444600"/>
          <a:ext cx="8431200" cy="69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44600"/>
                    <a:ext cx="8431200" cy="69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476280"/>
          <a:ext cx="7893000" cy="65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6280"/>
                    <a:ext cx="7893000" cy="65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3200" y="444600"/>
          <a:ext cx="8848800" cy="60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44600"/>
                    <a:ext cx="8848800" cy="60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03200" y="403200"/>
          <a:ext cx="880740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03200"/>
                    <a:ext cx="880740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6800" y="430200"/>
          <a:ext cx="82296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0200"/>
                    <a:ext cx="82296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01560"/>
          <a:ext cx="8193240" cy="55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1560"/>
                    <a:ext cx="819324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7360" y="685800"/>
          <a:ext cx="664236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685800"/>
                    <a:ext cx="664236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08-03-19T14:56:58Z</dcterms:modified>
  <cp:revision>31</cp:revision>
  <dc:subject/>
  <dc:title>Sin título de diapositiva</dc:title>
</cp:coreProperties>
</file>