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9BF6-A9E9-42BC-9AB4-D9AE86A50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D129-91BE-4CF0-A204-778D5DCBD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8680-BD0E-4F75-9C25-C1CB044FC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CEF5-F762-45F6-A15C-4CF5B7828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EA5A-E09E-4BF5-8F4D-1D569D257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4CC9-242B-49DA-B9BE-D8228AA73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65C1-6626-49D2-B28C-770B10A21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481C-EE7C-4C55-8184-B9FB4031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0C58-DDF1-4447-BCCA-693821B8D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828A-943D-41BC-8825-0DFB582E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3937-1047-405C-9406-83C28BE0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BA73-DF63-4A28-83A8-1F39EDCE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FAD71-BC64-43F4-B2C5-DCAFDF29C0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88920" y="766800"/>
          <a:ext cx="7632720" cy="560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766800"/>
                    <a:ext cx="7632720" cy="56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33320" y="554040"/>
          <a:ext cx="8253360" cy="620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3320" y="554040"/>
                    <a:ext cx="8253360" cy="620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11200" y="538200"/>
          <a:ext cx="8269200" cy="582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538200"/>
                    <a:ext cx="8269200" cy="58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39800" y="550800"/>
          <a:ext cx="8082000" cy="628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800" y="550800"/>
                    <a:ext cx="8082000" cy="62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84200" y="444600"/>
          <a:ext cx="8431200" cy="697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444600"/>
                    <a:ext cx="8431200" cy="697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11280" y="476280"/>
          <a:ext cx="7893000" cy="658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476280"/>
                    <a:ext cx="7893000" cy="658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712800" y="592200"/>
          <a:ext cx="7005600" cy="580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0" y="592200"/>
                    <a:ext cx="7005600" cy="580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03200" y="444600"/>
          <a:ext cx="8848800" cy="609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44600"/>
                    <a:ext cx="8848800" cy="609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403200" y="403200"/>
          <a:ext cx="8807400" cy="634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03200"/>
                    <a:ext cx="8807400" cy="634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96800" y="430200"/>
          <a:ext cx="8229600" cy="614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430200"/>
                    <a:ext cx="8229600" cy="61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04880" y="581040"/>
          <a:ext cx="797868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581040"/>
                    <a:ext cx="797868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85800" y="601560"/>
          <a:ext cx="8193240" cy="5510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1560"/>
                    <a:ext cx="8193240" cy="55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988920" y="655560"/>
          <a:ext cx="7336080" cy="582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655560"/>
                    <a:ext cx="7336080" cy="58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30360" y="630360"/>
          <a:ext cx="8202600" cy="576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630360"/>
                    <a:ext cx="8202600" cy="57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685800" y="1981080"/>
          <a:ext cx="7918560" cy="4140360"/>
        </p:xfrm>
        <a:graphic>
          <a:graphicData uri="http://schemas.openxmlformats.org/drawingml/2006/table">
            <a:tbl>
              <a:tblPr/>
              <a:tblGrid>
                <a:gridCol w="501480"/>
                <a:gridCol w="2160720"/>
                <a:gridCol w="1079640"/>
                <a:gridCol w="215640"/>
                <a:gridCol w="649440"/>
                <a:gridCol w="2158920"/>
                <a:gridCol w="1152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 n=2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l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l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5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l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1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17680" y="517680"/>
          <a:ext cx="8350200" cy="552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517680"/>
                    <a:ext cx="8350200" cy="55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11200" y="523800"/>
          <a:ext cx="8350200" cy="585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523800"/>
                    <a:ext cx="8350200" cy="585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287360" y="685800"/>
          <a:ext cx="664236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7360" y="685800"/>
                    <a:ext cx="664236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13:00:51Z</dcterms:created>
  <dc:creator>jalvarez</dc:creator>
  <dc:description/>
  <dc:language>en-US</dc:language>
  <cp:lastModifiedBy>jalvarez</cp:lastModifiedBy>
  <cp:lastPrinted>2005-01-12T14:41:26Z</cp:lastPrinted>
  <dcterms:modified xsi:type="dcterms:W3CDTF">2008-03-19T14:56:58Z</dcterms:modified>
  <cp:revision>31</cp:revision>
  <dc:subject/>
  <dc:title>Sin título de diapositiva</dc:title>
</cp:coreProperties>
</file>