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EA7-3DCC-4CAD-AE5D-9E7FB9DA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334-30FE-48BD-9BC8-F890A03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912-4ABC-4AF2-A293-2D239737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259-CAE4-4538-8832-817D1F1E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F68-EEC4-4B4A-977B-14902FC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EEE-E5C0-41F2-9B9A-63195127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FB4-4BEF-4155-9527-5D8A4BC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A6A-A164-4042-ADB7-2413BBF1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7D7-7664-44FA-8305-E3DFFD61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E97C-BDD2-49B5-82B8-275B43D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BCB-B19B-4D61-A6CD-C0A82486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283-D0BB-43A7-A57C-1FC22BF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F90-8184-4530-A8BB-7B63DAE1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ransferencia de Energía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lor de fermentación y balance de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ermentaciones se deben llevar a cabo con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ivos pur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do que la presencia de otros microorganismos puede producir competencia por los nutrientes y/o producción de compuestos que inhiban la producción de productos de interés, por ello 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esita que al inic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 fermentación el sistema 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cuentre libre de m.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procesos que necesitan qu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efluentes se encuentren libre de m.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es el caso de las etapas finales de los procesos d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tamientos de agua servi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Le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444600" indent="-4446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antener las condiciones de asepsia se pueden  aplicar proceso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erilización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rradicación, remoción, destrucción o inactivación de todo tipo de vida, de tal manera que las células remanentes no puedan reproducirse, es decir, un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liminació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pacidad de reproducció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nfección: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moción, destrucción o inactivación de esas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élul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podría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usar  deterior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medio (no todas las célul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eurización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moción, destrucción o inactivación de todo los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atógenos viable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aturales por medio de tratamiento térmico tanto para sólidos como líquidos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lementos que se deben ester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acceso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gu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t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c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 que circula por el fermentad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7400" y="152280"/>
            <a:ext cx="46483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Métodos de 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8360" y="685800"/>
            <a:ext cx="8305560" cy="6172200"/>
            <a:chOff x="468360" y="685800"/>
            <a:chExt cx="8305560" cy="6172200"/>
          </a:xfrm>
        </p:grpSpPr>
        <p:grpSp>
          <p:nvGrpSpPr>
            <p:cNvPr id="60" name=""/>
            <p:cNvGrpSpPr/>
            <p:nvPr/>
          </p:nvGrpSpPr>
          <p:grpSpPr>
            <a:xfrm>
              <a:off x="473760" y="690480"/>
              <a:ext cx="8292960" cy="6162480"/>
              <a:chOff x="473760" y="690480"/>
              <a:chExt cx="8292960" cy="61624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473760" y="690480"/>
                <a:ext cx="1783440" cy="602280"/>
                <a:chOff x="473760" y="690480"/>
                <a:chExt cx="1783440" cy="602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27760" y="690480"/>
                  <a:ext cx="167508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éto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73760" y="690480"/>
                  <a:ext cx="17834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257560" y="690480"/>
                <a:ext cx="1455840" cy="602280"/>
                <a:chOff x="2257560" y="690480"/>
                <a:chExt cx="1455840" cy="602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311560" y="690480"/>
                  <a:ext cx="134748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57560" y="690480"/>
                  <a:ext cx="1455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714120" y="690480"/>
                <a:ext cx="2086200" cy="602280"/>
                <a:chOff x="3714120" y="690480"/>
                <a:chExt cx="2086200" cy="602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768120" y="690480"/>
                  <a:ext cx="197784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s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714120" y="690480"/>
                  <a:ext cx="208620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800680" y="690480"/>
                <a:ext cx="2966040" cy="602280"/>
                <a:chOff x="5800680" y="690480"/>
                <a:chExt cx="2966040" cy="602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854680" y="690480"/>
                  <a:ext cx="285804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a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800680" y="690480"/>
                  <a:ext cx="29660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73760" y="1292760"/>
                <a:ext cx="1783440" cy="926280"/>
                <a:chOff x="473760" y="1292760"/>
                <a:chExt cx="1783440" cy="926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27760" y="1292760"/>
                  <a:ext cx="16750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alor Húme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(Vapo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73760" y="1292760"/>
                  <a:ext cx="17834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57560" y="1292760"/>
                <a:ext cx="1455840" cy="926280"/>
                <a:chOff x="2257560" y="1292760"/>
                <a:chExt cx="1455840" cy="9262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11560" y="1292760"/>
                  <a:ext cx="13474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°C (250F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ps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inuto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57560" y="1292760"/>
                  <a:ext cx="14558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714120" y="1292760"/>
                <a:ext cx="2086200" cy="926280"/>
                <a:chOff x="3714120" y="1292760"/>
                <a:chExt cx="2086200" cy="9262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68120" y="1292760"/>
                  <a:ext cx="19778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Medios Líqui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Sóli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14120" y="1292760"/>
                  <a:ext cx="208620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800680" y="1292760"/>
                <a:ext cx="2966040" cy="926280"/>
                <a:chOff x="5800680" y="1292760"/>
                <a:chExt cx="2966040" cy="9262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854680" y="1292760"/>
                  <a:ext cx="28580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Eficiente</a:t>
                  </a: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800680" y="1292760"/>
                  <a:ext cx="29660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73760" y="2219400"/>
                <a:ext cx="1783440" cy="926640"/>
                <a:chOff x="473760" y="2219400"/>
                <a:chExt cx="1783440" cy="926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27760" y="2219400"/>
                  <a:ext cx="16750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or Sec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73760" y="2219400"/>
                  <a:ext cx="17834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257560" y="2219400"/>
                <a:ext cx="1455840" cy="926640"/>
                <a:chOff x="2257560" y="2219400"/>
                <a:chExt cx="1455840" cy="926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311560" y="2219400"/>
                  <a:ext cx="13474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°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h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257560" y="2219400"/>
                  <a:ext cx="14558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714120" y="2219400"/>
                <a:ext cx="2086200" cy="926640"/>
                <a:chOff x="3714120" y="2219400"/>
                <a:chExt cx="2086200" cy="926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768120" y="2219400"/>
                  <a:ext cx="19778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ementos de Vid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14120" y="2219400"/>
                  <a:ext cx="208620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800680" y="2219400"/>
                <a:ext cx="2966040" cy="926640"/>
                <a:chOff x="5800680" y="2219400"/>
                <a:chExt cx="2966040" cy="926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854680" y="2219400"/>
                  <a:ext cx="28580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ás caro que el calor húmedo y más lento, dado que los m.o son más resistentes al calor sec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800680" y="2219400"/>
                  <a:ext cx="29660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73760" y="3146400"/>
                <a:ext cx="1783440" cy="764280"/>
                <a:chOff x="473760" y="3146400"/>
                <a:chExt cx="1783440" cy="764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27760" y="3146400"/>
                  <a:ext cx="1675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</a:rPr>
                    <a:t>Filtr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73760" y="3146400"/>
                  <a:ext cx="17834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257560" y="3146400"/>
                <a:ext cx="1455840" cy="764280"/>
                <a:chOff x="2257560" y="3146400"/>
                <a:chExt cx="1455840" cy="76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11560" y="3146400"/>
                  <a:ext cx="1347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 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57560" y="3146400"/>
                  <a:ext cx="14558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714120" y="3146400"/>
                <a:ext cx="2086200" cy="764280"/>
                <a:chOff x="3714120" y="3146400"/>
                <a:chExt cx="2086200" cy="76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768120" y="3146400"/>
                  <a:ext cx="19778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714120" y="3146400"/>
                  <a:ext cx="20862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800680" y="3146400"/>
                <a:ext cx="2966040" cy="764280"/>
                <a:chOff x="5800680" y="3146400"/>
                <a:chExt cx="2966040" cy="764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854680" y="3146400"/>
                  <a:ext cx="28580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a productos sensibles a la temperatura, tales como enzimas, air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800680" y="3146400"/>
                  <a:ext cx="29660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73760" y="3910680"/>
                <a:ext cx="1783440" cy="1088640"/>
                <a:chOff x="473760" y="3910680"/>
                <a:chExt cx="1783440" cy="1088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7760" y="3910680"/>
                  <a:ext cx="167508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entes Quí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73760" y="3910680"/>
                  <a:ext cx="17834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257560" y="3910680"/>
                <a:ext cx="1455840" cy="1088640"/>
                <a:chOff x="2257560" y="3910680"/>
                <a:chExt cx="1455840" cy="1088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311560" y="3910680"/>
                  <a:ext cx="134748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57560" y="3910680"/>
                  <a:ext cx="14558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714120" y="3910680"/>
                <a:ext cx="2086200" cy="1088640"/>
                <a:chOff x="3714120" y="3910680"/>
                <a:chExt cx="2086200" cy="1088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768120" y="3910680"/>
                  <a:ext cx="197784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utiliza en medios, pues puede permanecer e inhabilitar el crecimiento de los m.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14120" y="3910680"/>
                  <a:ext cx="208620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800680" y="3910680"/>
                <a:ext cx="2966040" cy="1088640"/>
                <a:chOff x="5800680" y="3910680"/>
                <a:chExt cx="2966040" cy="1088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854680" y="3910680"/>
                  <a:ext cx="285804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apacidad Oxidativa o alcalina:       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Cloració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que requiere de etapas 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eriores para eliminar el clor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</a:t>
                  </a: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Ozonificació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800680" y="3910680"/>
                  <a:ext cx="29660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73760" y="4999680"/>
                <a:ext cx="1783440" cy="926280"/>
                <a:chOff x="473760" y="4999680"/>
                <a:chExt cx="1783440" cy="92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27760" y="4999680"/>
                  <a:ext cx="16750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cá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3760" y="4999680"/>
                  <a:ext cx="17834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257560" y="4999680"/>
                <a:ext cx="1455840" cy="926280"/>
                <a:chOff x="2257560" y="4999680"/>
                <a:chExt cx="1455840" cy="926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311560" y="4999680"/>
                  <a:ext cx="13474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57560" y="4999680"/>
                  <a:ext cx="14558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714120" y="4999680"/>
                <a:ext cx="2086200" cy="926280"/>
                <a:chOff x="3714120" y="4999680"/>
                <a:chExt cx="2086200" cy="926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768120" y="4999680"/>
                  <a:ext cx="19778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14120" y="4999680"/>
                  <a:ext cx="208620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800680" y="4999680"/>
                <a:ext cx="2966040" cy="926280"/>
                <a:chOff x="5800680" y="4999680"/>
                <a:chExt cx="2966040" cy="926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854680" y="4999680"/>
                  <a:ext cx="28580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75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b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ltrason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ifugación a alta veloc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800680" y="4999680"/>
                  <a:ext cx="29660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73760" y="5926320"/>
                <a:ext cx="1783440" cy="926640"/>
                <a:chOff x="473760" y="5926320"/>
                <a:chExt cx="1783440" cy="926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27760" y="5926320"/>
                  <a:ext cx="16750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diación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ltraviole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yos 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3760" y="5926320"/>
                  <a:ext cx="17834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257560" y="5926320"/>
                <a:ext cx="1455840" cy="926640"/>
                <a:chOff x="2257560" y="5926320"/>
                <a:chExt cx="1455840" cy="926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311560" y="5926320"/>
                  <a:ext cx="13474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257560" y="5926320"/>
                  <a:ext cx="14558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14120" y="5926320"/>
                <a:ext cx="2086200" cy="926640"/>
                <a:chOff x="3714120" y="5926320"/>
                <a:chExt cx="2086200" cy="926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68120" y="5926320"/>
                  <a:ext cx="19778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14120" y="5926320"/>
                  <a:ext cx="208620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800680" y="5926320"/>
                <a:ext cx="2966040" cy="926640"/>
                <a:chOff x="5800680" y="5926320"/>
                <a:chExt cx="2966040" cy="926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854680" y="5926320"/>
                  <a:ext cx="28580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gradación del D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tilizada en tratamiento de efluentes con flujos baj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800680" y="5926320"/>
                  <a:ext cx="29660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68360" y="685800"/>
              <a:ext cx="830556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de aire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30492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terilización de 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ermentadores se necesita suministrar aire a velocidades del orden de 0.5 vvm (volumenes de aire por volumen de fermentador por minuto).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tilizar calentamiento resulta impract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entración standard de m.o en el aire es del orden de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o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étodos más utilizados para realizar una esterilización del aire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 prof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 de membrana (absol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40000" y="4797360"/>
            <a:ext cx="2195640" cy="1647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56360" y="3500280"/>
            <a:ext cx="20318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380880"/>
            <a:ext cx="44784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ltros prof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filtros que se encuentran rellenos de vibra de vidrio que presenta la ventaja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omprimen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tienen hum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 combust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de estos filtros es que se produzca un contacto entre los m.o. y la fibra, este contacto puede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Intercep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Impacto por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Flujo turbulento del 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Movimientos Browniano (Difu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Atracción electrostá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956720" y="333360"/>
          <a:ext cx="790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33360"/>
                    <a:ext cx="79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724280" y="4419720"/>
          <a:ext cx="4419720" cy="15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419720"/>
                    <a:ext cx="44197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003640" y="549360"/>
            <a:ext cx="28958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808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caimiento del número de m.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ecaimiento del número de m.o dependerá de la profundidad del lecho, resultando una variación de primer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225520" y="1873080"/>
                <a:ext cx="20257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3962520" y="2895480"/>
          <a:ext cx="49924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49924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3733920"/>
            <a:ext cx="33526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m.o a la entrada y salida, respectivament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se utilizan filtros de 1 a 2 metro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838080"/>
            <a:ext cx="70866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eficiencia de un filtro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en base al largo necesario para alcanzar el x% de remoción de m.o. Generalmente se tabular para 90% de remoción. 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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N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 – 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- exp (-k*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sea una eficiencia del 90% se reporta L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76280"/>
            <a:ext cx="7684920" cy="55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requiere diseñar el sistema de esterilización de un reactor de 50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, el cual opera a una velocidad de dilución de 0.2 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 Considere que la concentración inicial de m.o en el medio de cultivo es de 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m.o/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esterilización tanto del medio como del aire debe realizarse en forma continua durante 5 semanas. Los niveles de esterilidad deben ser tales que la probabilidad de contaminación sea de 1 en 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flujo del aire en el fermentador será de 0.5 vvm (a 100 cm/seg). Se utilizará un filtro profundo de fibra de vidrio para esterilizar el aire, en forma continua. Dicho filtro se caracteriza por poseer un L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de 0.06 mts a 100 cm/seg. Si la concentración de m.o. en el aire es de 12 *10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m.o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 Determine el largo del fil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28600"/>
            <a:ext cx="822960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alor  de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¿ Cómo calcular el Calor de fer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calor de fermentación, 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se puede calcular en base  a balances de energía en los cuales se conside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a oxid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ormación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lgunas formas simples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0920" y="0"/>
            <a:ext cx="8381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Filtros de membrana (absol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on membranas que tienen un determinado tamaño de poros, pero resulta prácticamente imposible construir un filtro para aire donde el tamaño de poros este control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Generalmente oscilan entre 0.5-1.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y 0.22-0.45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almente son de Polivinilalcohol (P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ventaj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equeña caída de presión produce una gran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n frágiles y de cort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uentes de aire deben estar libres de aceit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372360" y="2762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Química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189000"/>
            <a:ext cx="8425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Esteriliza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se utiliza ampliament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la mayoría de los desinfectantes tienen baja acción. Adicionalmente pueden interferir en el crecimiento de los m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buscan agent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úen en forma ráp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ca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inflam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explo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tóx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ás utilizad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piolact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o de etileno (en medio f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nol o compuestos fenílicos (Crestol, ortofenil fen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es: Etanol, Meta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ógenos: Hipoclorito, Cloroamina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n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onsidera que la fracción de sustrato que se convierte a células es muy pequeñ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reacción de la secuencia metabólica principal. Este calor se calcula por los métodos termodinámicos clásicos, basados en calores de combustión y 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 indispensable considerar la formación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na forma simplificada es la propuesta por Cooney et al. (196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0.12 * N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2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milimoles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O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Demand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8600"/>
            <a:ext cx="82296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alance de energía en todo el fermentador, que desprecia la acumulación. Se supone que los calores de las corrientes de entrada y salida y son desprec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Ag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Pérdida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transferido por el sistema de enfriamiento. Este térmico será significativo en células que crezcan a altas t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em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8-1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&gt;&gt;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0.8-2.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istemas de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838080"/>
          <a:ext cx="5715000" cy="5370480"/>
        </p:xfrm>
        <a:graphic>
          <a:graphicData uri="http://schemas.openxmlformats.org/drawingml/2006/table">
            <a:tbl>
              <a:tblPr/>
              <a:tblGrid>
                <a:gridCol w="1828800"/>
                <a:gridCol w="3886200"/>
              </a:tblGrid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 y limi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aqu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 utiliza en equipos de tamaño pilo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to costo y área de transferencia limi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rpent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jo costo y gran área de transferencia (pero en algunos casos no alcanza a ser sufic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uvi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y eficaz, se usa en conjunto con los serpenti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ador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el serpentín no es sufic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los costos y peligro de contaminación e insuficiencia de aire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924520" y="762120"/>
          <a:ext cx="321948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4520" y="762120"/>
                    <a:ext cx="32194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629400" y="3581280"/>
          <a:ext cx="228600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581280"/>
                    <a:ext cx="22860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229600" cy="68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de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diseño de equipo de enfriamiento se basan en la ecu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sum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: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alcula según la fermentación (aeróbica o anaerób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= 0.1 * 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o se puede desprec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Se puede estimar como las pérdidas de calor por las paredes de un cuerpo cilíndrico, suponiendo que tanto la temperatura interna como externa son constantes. 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= h*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D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H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 (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h: Coeficiente de convección [ 10 –25 Kcal/h 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Diametro del tanque.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Altura del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Tª fermentador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Tª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28600"/>
            <a:ext cx="8229600" cy="64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(cont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uego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–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1.1*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*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D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H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 (T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el caso de serpentines, se requiere de un serpentín que utilice generalmente agua como refrigerante. Dicha agua se calienta entre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y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U*A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*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: Coef. Global de transferencia de calor [400-800 Kcal/h m</a:t>
            </a:r>
            <a:r>
              <a:rPr b="0" lang="es-E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º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Area de transferencia de calor del serpentí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T : Temperatura media logarítmica entre (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y (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8229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(cont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fermentadores industriales la remoción de calor puede resultar cost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fermentadores pequeños, el enfriamiento no es problema, algunas veces hay que adicionar  calor para mantener las condiciones isotérmicas, debido a que las pérdidas se hacen más signific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</a:t>
            </a:r>
            <a:br>
              <a:rPr sz="4400"/>
            </a:br>
            <a:br>
              <a:rPr sz="4400"/>
            </a:b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erment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Maria Elena Lienqueo</cp:lastModifiedBy>
  <dcterms:modified xsi:type="dcterms:W3CDTF">2008-06-14T00:10:53Z</dcterms:modified>
  <cp:revision>78</cp:revision>
  <dc:subject/>
  <dc:title>Agitacion y Aireación de Fermentadores</dc:title>
</cp:coreProperties>
</file>