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9747-0FF2-445B-AF3D-DD03529C3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9684-46D6-4BB4-8E53-4A3EDA68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C0DD-4B50-4E58-986E-54224C76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982A-C057-4EF1-A26A-CA6562A06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4D03-6C8C-4A7C-9493-1749997D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55EC-ECF2-429D-B0B3-AF62D4D9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08F5-BE66-42AE-8DA8-6D445111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41A6-B184-43C1-A5AB-E81DFCF8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192B-C140-43DA-8C38-585FF993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FF11-0D2F-4E43-8071-90DB7789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6826-B2E5-4DEC-BD76-B6448B54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596E-0C07-486A-A3B6-A61A714F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9F7D-D121-444D-8CA1-EEFEC9AF0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ormas de Oper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560" y="1341000"/>
            <a:ext cx="7696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ultivo b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Quimost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258920" y="2924280"/>
          <a:ext cx="5904000" cy="35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924280"/>
                    <a:ext cx="5904000" cy="35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228600"/>
            <a:ext cx="8915400" cy="54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fectos difu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ido a que las células se encuentran inmovilizadas se presentan resistencia a la transferencia de m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ha resistencia se puede evaluar en base a un “Factor de efectividad”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lim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a limitación, las células adheridas no aportan dado que cuesta mucho que  los nutrientes y/o productos difun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49400" y="2792520"/>
                <a:ext cx="85420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locidad de reacción incluyendo efecto de la resistencia a la transferencia de mas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elocidad de reacción sin incluir el efecto de la resistencia a la transferencia de mas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alance de célul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05264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élulas entran – Células que salen + Crecimiento celular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uerte celular  = Acumulación Celu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384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04920" y="4149720"/>
                <a:ext cx="8839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152280" y="4876920"/>
            <a:ext cx="541044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niendo qu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entrada es estéril, x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de muerte es despreciable,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&lt;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o estacionario y volumen constante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292720" y="6040440"/>
                <a:ext cx="24382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395280" y="2276640"/>
            <a:ext cx="792468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Supuest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Las células en solución dan células en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Las células inmovilizadas dan células en suspensión que se extraen del medio, de manera que x</a:t>
            </a:r>
            <a:r>
              <a:rPr b="0" lang="es-ES" sz="2000" spc="-1" strike="noStrike" baseline="-25000">
                <a:solidFill>
                  <a:srgbClr val="ff0000"/>
                </a:solidFill>
                <a:latin typeface="Times New Roman"/>
              </a:rPr>
              <a:t>im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 se mantiene constante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304920"/>
            <a:ext cx="9144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o el balance de masa queda de la siguiente for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2.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aquí, despej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2.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990720" y="1143000"/>
                <a:ext cx="67053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124080" y="2819520"/>
                <a:ext cx="28195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1042920" y="4221000"/>
            <a:ext cx="617220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 ≠ </a:t>
            </a:r>
            <a:r>
              <a:rPr b="0" lang="es-MX" sz="36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cífic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MX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MX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MX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MX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 &gt; </a:t>
            </a:r>
            <a:r>
              <a:rPr b="0" lang="es-MX" sz="36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lastslide"/>
          </p:cNvPr>
          <p:cNvSpPr/>
          <p:nvPr/>
        </p:nvSpPr>
        <p:spPr>
          <a:xfrm>
            <a:off x="8153280" y="6324480"/>
            <a:ext cx="762120" cy="228600"/>
          </a:xfrm>
          <a:custGeom>
            <a:avLst/>
            <a:gdLst>
              <a:gd name="textAreaLeft" fmla="*/ 14760 w 762120"/>
              <a:gd name="textAreaRight" fmla="*/ 747360 w 762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932" h="21600">
                <a:moveTo>
                  <a:pt x="0" y="0"/>
                </a:moveTo>
                <a:lnTo>
                  <a:pt x="71932" y="0"/>
                </a:lnTo>
                <a:lnTo>
                  <a:pt x="71932" y="21600"/>
                </a:lnTo>
                <a:lnTo>
                  <a:pt x="0" y="21600"/>
                </a:lnTo>
                <a:close/>
              </a:path>
              <a:path fill="lightenLess" w="71932" h="21600">
                <a:moveTo>
                  <a:pt x="0" y="0"/>
                </a:moveTo>
                <a:lnTo>
                  <a:pt x="71932" y="0"/>
                </a:lnTo>
                <a:lnTo>
                  <a:pt x="70532" y="1400"/>
                </a:lnTo>
                <a:lnTo>
                  <a:pt x="1400" y="1400"/>
                </a:lnTo>
                <a:close/>
              </a:path>
              <a:path fill="darken" w="71932" h="21600">
                <a:moveTo>
                  <a:pt x="71932" y="0"/>
                </a:moveTo>
                <a:lnTo>
                  <a:pt x="71932" y="21600"/>
                </a:lnTo>
                <a:lnTo>
                  <a:pt x="70532" y="20200"/>
                </a:lnTo>
                <a:lnTo>
                  <a:pt x="70532" y="1400"/>
                </a:lnTo>
                <a:close/>
              </a:path>
              <a:path fill="darkenLess" w="71932" h="21600">
                <a:moveTo>
                  <a:pt x="71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32" y="20200"/>
                </a:lnTo>
                <a:close/>
              </a:path>
              <a:path fill="lighten" w="71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932" h="21600">
                <a:moveTo>
                  <a:pt x="39465" y="10800"/>
                </a:moveTo>
                <a:lnTo>
                  <a:pt x="28960" y="17806"/>
                </a:lnTo>
                <a:lnTo>
                  <a:pt x="28960" y="3794"/>
                </a:lnTo>
                <a:close/>
              </a:path>
              <a:path fill="darken" w="71932" h="21600">
                <a:moveTo>
                  <a:pt x="41310" y="3794"/>
                </a:moveTo>
                <a:lnTo>
                  <a:pt x="41310" y="17806"/>
                </a:lnTo>
                <a:lnTo>
                  <a:pt x="42973" y="17806"/>
                </a:lnTo>
                <a:lnTo>
                  <a:pt x="42973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916360" y="5300640"/>
                <a:ext cx="18968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alance de Sustrato limitant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125360"/>
            <a:ext cx="8534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ustrato entran – Sustrato salen -  Sustrato consumido crecimiento – Sustrato utilizado  mantención – Formación de producto =  Acumulación de Sustr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8397720" cy="741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657600" y="4419720"/>
                <a:ext cx="1058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382760" y="5345280"/>
                <a:ext cx="554040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s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3900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3657600"/>
            <a:ext cx="800100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de mantención es despreciable, m  &lt;&lt;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Y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x/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productos asociados al crecimiento,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o estacionari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457200"/>
            <a:ext cx="8610480" cy="40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ividiendo por V y reagrup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2.7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ividiendo por x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ecuación [2.7] se tie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843280" y="1268280"/>
                <a:ext cx="3112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556000" y="5157720"/>
                <a:ext cx="28494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0" y="3900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lastslide"/>
          </p:cNvPr>
          <p:cNvSpPr/>
          <p:nvPr/>
        </p:nvSpPr>
        <p:spPr>
          <a:xfrm>
            <a:off x="7380360" y="5013360"/>
            <a:ext cx="304560" cy="76320"/>
          </a:xfrm>
          <a:custGeom>
            <a:avLst/>
            <a:gdLst>
              <a:gd name="textAreaLeft" fmla="*/ 4680 w 304560"/>
              <a:gd name="textAreaRight" fmla="*/ 299880 w 30456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85893" h="21600">
                <a:moveTo>
                  <a:pt x="0" y="0"/>
                </a:moveTo>
                <a:lnTo>
                  <a:pt x="85893" y="0"/>
                </a:lnTo>
                <a:lnTo>
                  <a:pt x="85893" y="21600"/>
                </a:lnTo>
                <a:lnTo>
                  <a:pt x="0" y="21600"/>
                </a:lnTo>
                <a:close/>
              </a:path>
              <a:path fill="lightenLess" w="85893" h="21600">
                <a:moveTo>
                  <a:pt x="0" y="0"/>
                </a:moveTo>
                <a:lnTo>
                  <a:pt x="85893" y="0"/>
                </a:lnTo>
                <a:lnTo>
                  <a:pt x="84493" y="1400"/>
                </a:lnTo>
                <a:lnTo>
                  <a:pt x="1400" y="1400"/>
                </a:lnTo>
                <a:close/>
              </a:path>
              <a:path fill="darken" w="85893" h="21600">
                <a:moveTo>
                  <a:pt x="85893" y="0"/>
                </a:moveTo>
                <a:lnTo>
                  <a:pt x="85893" y="21600"/>
                </a:lnTo>
                <a:lnTo>
                  <a:pt x="84493" y="20200"/>
                </a:lnTo>
                <a:lnTo>
                  <a:pt x="84493" y="1400"/>
                </a:lnTo>
                <a:close/>
              </a:path>
              <a:path fill="darkenLess" w="85893" h="21600">
                <a:moveTo>
                  <a:pt x="858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493" y="20200"/>
                </a:lnTo>
                <a:close/>
              </a:path>
              <a:path fill="lighten" w="858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5893" h="21600">
                <a:moveTo>
                  <a:pt x="35940" y="3794"/>
                </a:moveTo>
                <a:lnTo>
                  <a:pt x="49953" y="10800"/>
                </a:lnTo>
                <a:lnTo>
                  <a:pt x="3594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lastslide"/>
          </p:cNvPr>
          <p:cNvSpPr/>
          <p:nvPr/>
        </p:nvSpPr>
        <p:spPr>
          <a:xfrm>
            <a:off x="7524720" y="2781360"/>
            <a:ext cx="304920" cy="76320"/>
          </a:xfrm>
          <a:custGeom>
            <a:avLst/>
            <a:gdLst>
              <a:gd name="textAreaLeft" fmla="*/ 4680 w 304920"/>
              <a:gd name="textAreaRight" fmla="*/ 300240 w 30492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85994" h="21600">
                <a:moveTo>
                  <a:pt x="0" y="0"/>
                </a:moveTo>
                <a:lnTo>
                  <a:pt x="85994" y="0"/>
                </a:lnTo>
                <a:lnTo>
                  <a:pt x="85994" y="21600"/>
                </a:lnTo>
                <a:lnTo>
                  <a:pt x="0" y="21600"/>
                </a:lnTo>
                <a:close/>
              </a:path>
              <a:path fill="lightenLess" w="85994" h="21600">
                <a:moveTo>
                  <a:pt x="0" y="0"/>
                </a:moveTo>
                <a:lnTo>
                  <a:pt x="85994" y="0"/>
                </a:lnTo>
                <a:lnTo>
                  <a:pt x="84594" y="1400"/>
                </a:lnTo>
                <a:lnTo>
                  <a:pt x="1400" y="1400"/>
                </a:lnTo>
                <a:close/>
              </a:path>
              <a:path fill="darken" w="85994" h="21600">
                <a:moveTo>
                  <a:pt x="85994" y="0"/>
                </a:moveTo>
                <a:lnTo>
                  <a:pt x="85994" y="21600"/>
                </a:lnTo>
                <a:lnTo>
                  <a:pt x="84594" y="20200"/>
                </a:lnTo>
                <a:lnTo>
                  <a:pt x="84594" y="1400"/>
                </a:lnTo>
                <a:close/>
              </a:path>
              <a:path fill="darkenLess" w="85994" h="21600">
                <a:moveTo>
                  <a:pt x="8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594" y="20200"/>
                </a:lnTo>
                <a:close/>
              </a:path>
              <a:path fill="lighten" w="8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5994" h="21600">
                <a:moveTo>
                  <a:pt x="35991" y="3794"/>
                </a:moveTo>
                <a:lnTo>
                  <a:pt x="50004" y="10800"/>
                </a:lnTo>
                <a:lnTo>
                  <a:pt x="3599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403280" y="3213000"/>
                <a:ext cx="489744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611280" y="4653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956720" y="530064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.8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457200"/>
            <a:ext cx="8610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zando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modelo de crecimiento tipo Monod y la ecuación [2.8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900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484360" y="1844640"/>
                <a:ext cx="38862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s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⋅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m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7524720" y="2133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2.9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04920" y="533520"/>
          <a:ext cx="6933960" cy="55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6933960" cy="55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1600200" y="2286000"/>
            <a:ext cx="1905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n células Inmovili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380880"/>
            <a:ext cx="5410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 células Inmovili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914400"/>
            <a:ext cx="2438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Sin limitaciones Difu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2590920"/>
            <a:ext cx="2971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Con limitaciones Difu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5791320"/>
            <a:ext cx="4038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Velocidad de Dilución, D, hr</a:t>
            </a:r>
            <a:r>
              <a:rPr b="0" lang="es-ES" sz="2400" spc="-1" strike="noStrike" baseline="30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3962520"/>
            <a:ext cx="2362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6227640" y="1267920"/>
            <a:ext cx="649440" cy="73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circulación de Célul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ltivos de Perfusió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Uso : Cultivo de células ani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1066680"/>
            <a:ext cx="46483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La concentración de células siempre puede aumentarse 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irculando al reactor parte de la biomasa existente en la corriente de produc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ermite mantener un inóculo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lta concent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ayor estabilidad y menor efecto de las perturb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rástico incremento en la productividad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circulación de Célul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92720" y="5300640"/>
            <a:ext cx="385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“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” es un factor de concentración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c&gt;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“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”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 una fracción del flujo F que se recircul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0&lt;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</a:t>
            </a:r>
            <a:r>
              <a:rPr b="1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549760" y="838080"/>
            <a:ext cx="35942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circulación de Célul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64000" y="1557360"/>
            <a:ext cx="378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“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” es un factor de concentración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c&gt;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“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”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 una fracción del flujo F que se recircula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&lt;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</a:t>
            </a:r>
            <a:r>
              <a:rPr b="1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4681440" cy="5472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076720" y="4653000"/>
            <a:ext cx="40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dor que separa sólo y parcialmente las cél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3419640" y="4149360"/>
            <a:ext cx="1296720" cy="93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42920" y="2349360"/>
            <a:ext cx="1441440" cy="2735280"/>
          </a:xfrm>
          <a:prstGeom prst="rect">
            <a:avLst/>
          </a:prstGeom>
          <a:noFill/>
          <a:ln w="57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1700280"/>
            <a:ext cx="3384720" cy="4321080"/>
          </a:xfrm>
          <a:prstGeom prst="rect">
            <a:avLst/>
          </a:prstGeom>
          <a:noFill/>
          <a:ln w="57240">
            <a:solidFill>
              <a:srgbClr val="00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Times New Roman"/>
              </a:rPr>
              <a:t>Modificaciones del Quimostat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ultivo continuo de células inmovil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ultivos de Perfusión-Recirculación de Cél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actores en Se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26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ona del Balance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286000"/>
            <a:ext cx="0" cy="838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2209680"/>
            <a:ext cx="0" cy="8384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563868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“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” es un factor de concentración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c&gt;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“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”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 una fracción del flujo F que se recircula,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</a:t>
            </a:r>
            <a:r>
              <a:rPr b="1" lang="en-US" sz="1200" spc="-1" strike="noStrike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762120"/>
          <a:ext cx="3249720" cy="45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62120"/>
                    <a:ext cx="324972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5638680" y="1676520"/>
            <a:ext cx="327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ótese que la corriente de reciclo contiene sustrato, en igual concentración que la que sale del reactor, debido a que el separador tiene efecto sobre sustr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alance de célul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836640"/>
            <a:ext cx="792468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élulas entran – Células que salen + Crecimiento celular – Muerte celular  = Acumulación Celu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uponiendo qu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entrada es estéril, x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de muerte es despreciable,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&lt;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o estacionario y volumen constante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3.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476360" y="1773360"/>
                <a:ext cx="66945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γ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γ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148360" y="4303800"/>
                <a:ext cx="15112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258920" y="5445000"/>
                <a:ext cx="60199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γ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340000" y="3789360"/>
                <a:ext cx="37339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γ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t xml:space="preserve">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971640" y="5229360"/>
            <a:ext cx="69339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do que c&gt;1 y 0&lt;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</a:t>
            </a:r>
            <a:r>
              <a:rPr b="0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+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*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</a:t>
            </a:r>
            <a:r>
              <a:rPr b="0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MX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D &gt;</a:t>
            </a:r>
            <a:r>
              <a:rPr b="1" lang="es-MX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lastslide"/>
          </p:cNvPr>
          <p:cNvSpPr/>
          <p:nvPr/>
        </p:nvSpPr>
        <p:spPr>
          <a:xfrm>
            <a:off x="7885080" y="4005360"/>
            <a:ext cx="304920" cy="75960"/>
          </a:xfrm>
          <a:custGeom>
            <a:avLst/>
            <a:gdLst>
              <a:gd name="textAreaLeft" fmla="*/ 4680 w 304920"/>
              <a:gd name="textAreaRight" fmla="*/ 300240 w 30492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86400" h="21600">
                <a:moveTo>
                  <a:pt x="0" y="0"/>
                </a:moveTo>
                <a:lnTo>
                  <a:pt x="86400" y="0"/>
                </a:lnTo>
                <a:lnTo>
                  <a:pt x="86400" y="21600"/>
                </a:lnTo>
                <a:lnTo>
                  <a:pt x="0" y="21600"/>
                </a:lnTo>
                <a:close/>
              </a:path>
              <a:path fill="lightenLess" w="86400" h="21600">
                <a:moveTo>
                  <a:pt x="0" y="0"/>
                </a:moveTo>
                <a:lnTo>
                  <a:pt x="86400" y="0"/>
                </a:lnTo>
                <a:lnTo>
                  <a:pt x="85000" y="1400"/>
                </a:lnTo>
                <a:lnTo>
                  <a:pt x="1400" y="1400"/>
                </a:lnTo>
                <a:close/>
              </a:path>
              <a:path fill="darken" w="86400" h="21600">
                <a:moveTo>
                  <a:pt x="86400" y="0"/>
                </a:moveTo>
                <a:lnTo>
                  <a:pt x="86400" y="21600"/>
                </a:lnTo>
                <a:lnTo>
                  <a:pt x="85000" y="20200"/>
                </a:lnTo>
                <a:lnTo>
                  <a:pt x="85000" y="1400"/>
                </a:lnTo>
                <a:close/>
              </a:path>
              <a:path fill="darkenLess" w="86400" h="21600">
                <a:moveTo>
                  <a:pt x="8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00" y="20200"/>
                </a:lnTo>
                <a:close/>
              </a:path>
              <a:path fill="lighten" w="8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400" h="21600">
                <a:moveTo>
                  <a:pt x="36194" y="3794"/>
                </a:moveTo>
                <a:lnTo>
                  <a:pt x="50206" y="10800"/>
                </a:lnTo>
                <a:lnTo>
                  <a:pt x="361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476360" y="620640"/>
                <a:ext cx="60390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γ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690560" y="1989000"/>
                <a:ext cx="56898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−</m:t>
                    </m:r>
                    <m:r>
                      <m:t xml:space="preserve">γ</m:t>
                    </m:r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μ</m:t>
                        </m:r>
                      </m:e>
                      <m:sub/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1187280" y="1413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iendo por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2602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orden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87280" y="3068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32720" y="386064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3.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alance de Sustrato limitant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143000"/>
            <a:ext cx="83818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ustrato entran – Sustrato salen -  Sustrato consumido crecimiento – Sustrato utilizado  mantención – Formación de producto =  Acumulación de Sustr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09480" y="3016080"/>
                <a:ext cx="7925040" cy="8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γ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s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γ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s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den>
                    </m:f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sSub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s</m:t>
                                    </m:r>
                                  </m:den>
                                </m:f>
                              </m:sub>
                            </m:sSub>
                          </m:den>
                        </m:f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564000" y="5516640"/>
                <a:ext cx="14428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611280" y="4292640"/>
            <a:ext cx="784836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de mantención es despreciable, m  &lt;&lt;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Y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x/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productos asociados al crecimiento,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o estacionari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alance de Sustrato limitante (cont..)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588960"/>
            <a:ext cx="838188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on esto se tien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3.3] en [3.6] se tiene (Probar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619280" y="1484280"/>
                <a:ext cx="532764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γ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s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γ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s</m:t>
                    </m:r>
                    <m:r>
                      <m:t xml:space="preserve">−</m:t>
                    </m:r>
                    <m:sSub>
                      <m:e>
                        <m:f>
                          <m:num>
                            <m:r>
                              <m:t xml:space="preserve">μ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s</m:t>
                                    </m:r>
                                  </m:den>
                                </m:f>
                              </m:sub>
                            </m:sSub>
                          </m:den>
                        </m:f>
                      </m:e>
                      <m:sub/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203640" y="2565360"/>
                <a:ext cx="209232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780000" y="4221000"/>
                <a:ext cx="217620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7093080" y="2781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3.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67640" y="1844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3.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880" y="76212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zando un modelo de crecimiento tipo Monod  (Prob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265480" y="1676520"/>
                <a:ext cx="331632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28600" y="3733920"/>
                <a:ext cx="673272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s</m:t>
                            </m:r>
                            <m:r>
                              <m:t xml:space="preserve">⋅</m:t>
                            </m:r>
                            <m:r>
                              <m:t xml:space="preserve">D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γ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γ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3" name="">
            <a:hlinkClick r:id="" action="ppaction://hlinkshowjump?jump=lastslide"/>
          </p:cNvPr>
          <p:cNvSpPr/>
          <p:nvPr/>
        </p:nvSpPr>
        <p:spPr>
          <a:xfrm>
            <a:off x="7543800" y="2057400"/>
            <a:ext cx="304920" cy="76320"/>
          </a:xfrm>
          <a:custGeom>
            <a:avLst/>
            <a:gdLst>
              <a:gd name="textAreaLeft" fmla="*/ 4680 w 304920"/>
              <a:gd name="textAreaRight" fmla="*/ 300240 w 30492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85994" h="21600">
                <a:moveTo>
                  <a:pt x="0" y="0"/>
                </a:moveTo>
                <a:lnTo>
                  <a:pt x="85994" y="0"/>
                </a:lnTo>
                <a:lnTo>
                  <a:pt x="85994" y="21600"/>
                </a:lnTo>
                <a:lnTo>
                  <a:pt x="0" y="21600"/>
                </a:lnTo>
                <a:close/>
              </a:path>
              <a:path fill="lightenLess" w="85994" h="21600">
                <a:moveTo>
                  <a:pt x="0" y="0"/>
                </a:moveTo>
                <a:lnTo>
                  <a:pt x="85994" y="0"/>
                </a:lnTo>
                <a:lnTo>
                  <a:pt x="84594" y="1400"/>
                </a:lnTo>
                <a:lnTo>
                  <a:pt x="1400" y="1400"/>
                </a:lnTo>
                <a:close/>
              </a:path>
              <a:path fill="darken" w="85994" h="21600">
                <a:moveTo>
                  <a:pt x="85994" y="0"/>
                </a:moveTo>
                <a:lnTo>
                  <a:pt x="85994" y="21600"/>
                </a:lnTo>
                <a:lnTo>
                  <a:pt x="84594" y="20200"/>
                </a:lnTo>
                <a:lnTo>
                  <a:pt x="84594" y="1400"/>
                </a:lnTo>
                <a:close/>
              </a:path>
              <a:path fill="darkenLess" w="85994" h="21600">
                <a:moveTo>
                  <a:pt x="8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594" y="20200"/>
                </a:lnTo>
                <a:close/>
              </a:path>
              <a:path fill="lighten" w="8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5994" h="21600">
                <a:moveTo>
                  <a:pt x="35991" y="3794"/>
                </a:moveTo>
                <a:lnTo>
                  <a:pt x="50004" y="10800"/>
                </a:lnTo>
                <a:lnTo>
                  <a:pt x="3599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lastslide"/>
          </p:cNvPr>
          <p:cNvSpPr/>
          <p:nvPr/>
        </p:nvSpPr>
        <p:spPr>
          <a:xfrm>
            <a:off x="8381880" y="4191120"/>
            <a:ext cx="304920" cy="75960"/>
          </a:xfrm>
          <a:custGeom>
            <a:avLst/>
            <a:gdLst>
              <a:gd name="textAreaLeft" fmla="*/ 4680 w 304920"/>
              <a:gd name="textAreaRight" fmla="*/ 300240 w 30492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86400" h="21600">
                <a:moveTo>
                  <a:pt x="0" y="0"/>
                </a:moveTo>
                <a:lnTo>
                  <a:pt x="86400" y="0"/>
                </a:lnTo>
                <a:lnTo>
                  <a:pt x="86400" y="21600"/>
                </a:lnTo>
                <a:lnTo>
                  <a:pt x="0" y="21600"/>
                </a:lnTo>
                <a:close/>
              </a:path>
              <a:path fill="lightenLess" w="86400" h="21600">
                <a:moveTo>
                  <a:pt x="0" y="0"/>
                </a:moveTo>
                <a:lnTo>
                  <a:pt x="86400" y="0"/>
                </a:lnTo>
                <a:lnTo>
                  <a:pt x="85000" y="1400"/>
                </a:lnTo>
                <a:lnTo>
                  <a:pt x="1400" y="1400"/>
                </a:lnTo>
                <a:close/>
              </a:path>
              <a:path fill="darken" w="86400" h="21600">
                <a:moveTo>
                  <a:pt x="86400" y="0"/>
                </a:moveTo>
                <a:lnTo>
                  <a:pt x="86400" y="21600"/>
                </a:lnTo>
                <a:lnTo>
                  <a:pt x="85000" y="20200"/>
                </a:lnTo>
                <a:lnTo>
                  <a:pt x="85000" y="1400"/>
                </a:lnTo>
                <a:close/>
              </a:path>
              <a:path fill="darkenLess" w="86400" h="21600">
                <a:moveTo>
                  <a:pt x="8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00" y="20200"/>
                </a:lnTo>
                <a:close/>
              </a:path>
              <a:path fill="lighten" w="8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400" h="21600">
                <a:moveTo>
                  <a:pt x="36194" y="3794"/>
                </a:moveTo>
                <a:lnTo>
                  <a:pt x="50206" y="10800"/>
                </a:lnTo>
                <a:lnTo>
                  <a:pt x="361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547640" y="2060640"/>
          <a:ext cx="619308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060640"/>
                    <a:ext cx="619308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2484360" y="83664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iles de los cultivos de perf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201400" y="6172200"/>
            <a:ext cx="47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 puede trabajar a D mayores que el Dc.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32767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*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19720" y="26668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533520"/>
            <a:ext cx="22096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, B y C Con recic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 y E: sin Recic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5943600" cy="48844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504120" y="2286000"/>
            <a:ext cx="2639880" cy="3086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55640" y="2637000"/>
            <a:ext cx="2087640" cy="1871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537372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n recic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332000" y="4508640"/>
            <a:ext cx="7128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jemplo (Tare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91440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cepa de levadura es cultivada en un fermentador de </a:t>
            </a: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 lt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l sistema de separación ha sido diseñado de tal manera que se recircula el </a:t>
            </a: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0%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 flujo de alimentación al reactor y la concentración de biomasa que se recircula es </a:t>
            </a: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4 vec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que entra al separadaor, la concentración de sustrato se mantiene igual en todas las corr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de crecimiento de esta levadura se puede representar por una expresión tipo Monod, cuyos parámetros son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s = 0.05 g/l</a:t>
            </a: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s-CL" sz="24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max</a:t>
            </a: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0.3 hr</a:t>
            </a:r>
            <a:r>
              <a:rPr b="0" lang="es-CL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-1</a:t>
            </a:r>
            <a:r>
              <a:rPr b="0" lang="es-CL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0" lang="es-CL" sz="24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x/s</a:t>
            </a: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e la concentración de biomasa y sustrato a la salida del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eparado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Considere que la alimentación fresca al fermentador tiene una concentración de sustrato de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10 g/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un flujo de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20 l/hr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 los valores obtenidos con un sistema sin recicl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cació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133720" y="2286000"/>
            <a:ext cx="4800600" cy="3809520"/>
            <a:chOff x="2133720" y="2286000"/>
            <a:chExt cx="4800600" cy="3809520"/>
          </a:xfrm>
        </p:grpSpPr>
        <p:sp>
          <p:nvSpPr>
            <p:cNvPr id="181" name=""/>
            <p:cNvSpPr/>
            <p:nvPr/>
          </p:nvSpPr>
          <p:spPr>
            <a:xfrm>
              <a:off x="2312640" y="5531400"/>
              <a:ext cx="4472640" cy="56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2" name=""/>
            <p:cNvGraphicFramePr/>
            <p:nvPr/>
          </p:nvGraphicFramePr>
          <p:xfrm>
            <a:off x="2133720" y="2286000"/>
            <a:ext cx="4800600" cy="32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33720" y="2286000"/>
                      <a:ext cx="4800600" cy="32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4" name=""/>
          <p:cNvSpPr/>
          <p:nvPr/>
        </p:nvSpPr>
        <p:spPr>
          <a:xfrm>
            <a:off x="4267080" y="3429000"/>
            <a:ext cx="1295640" cy="160020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25146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 de Biom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638320" y="297180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ultivo continuo de células inmoviliz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560" y="1523520"/>
            <a:ext cx="8305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Células inmovilizadas: son las células físicamente confinadas o localizadas en una región definida del espacio con 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retención de su actividad catalítica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 y, si es posible o necesario de su viabilidad, pudiéndose usar en forma 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repetitiva o continua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Uso: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Producción de vinagre por el proceso Shutzenbach (182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Tratamiento de efluentes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 (biofiltros y lodos activa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Cultivo de células mamíf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91440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Una cepa de levadura es cultivada en un fermentador de 30 lt. El sistema de separación ha sido diseñado de tal manera que la concentración de biomasa a la salida del separador es un 30% de la biomasa que entra en éste, la concentración de sustrato se mantiene igual en todas las corr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 </a:t>
            </a: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La velocidad de crecimiento de esta levadura se puede representar por una expresión tipo Monod, cuyos parámetr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s-CL" sz="2400" spc="-1" strike="noStrike" baseline="-25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 = 0.05 g/l</a:t>
            </a: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3333cc"/>
                </a:solidFill>
                <a:latin typeface="Symbol"/>
                <a:ea typeface="Symbol"/>
              </a:rPr>
              <a:t></a:t>
            </a:r>
            <a:r>
              <a:rPr b="0" lang="es-CL" sz="2400" spc="-1" strike="noStrike" baseline="-25000">
                <a:solidFill>
                  <a:srgbClr val="3333cc"/>
                </a:solidFill>
                <a:latin typeface="Times New Roman"/>
              </a:rPr>
              <a:t>max</a:t>
            </a: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 = 0.3 hr</a:t>
            </a:r>
            <a:r>
              <a:rPr b="0" lang="es-CL" sz="2400" spc="-1" strike="noStrike" baseline="30000">
                <a:solidFill>
                  <a:srgbClr val="3333cc"/>
                </a:solidFill>
                <a:latin typeface="Times New Roman"/>
              </a:rPr>
              <a:t>-1</a:t>
            </a: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y </a:t>
            </a:r>
            <a:r>
              <a:rPr b="0" lang="es-CL" sz="2400" spc="-1" strike="noStrike" baseline="-25000">
                <a:solidFill>
                  <a:srgbClr val="3333cc"/>
                </a:solidFill>
                <a:latin typeface="Times New Roman"/>
              </a:rPr>
              <a:t>x/s</a:t>
            </a: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 = 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Times New Roman"/>
              </a:rPr>
              <a:t>Calcule la concentración de biomasa y sustrato a la salida del fermentador,. Considere que la alimentación fresca al fermentador tiene una concentración de sustrato de 10 g/l y un flujo de 20 l/hr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Ind.  Planteé un balance general de Biom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2743200" y="1295280"/>
            <a:ext cx="2800440" cy="3657600"/>
            <a:chOff x="2743200" y="1295280"/>
            <a:chExt cx="2800440" cy="3657600"/>
          </a:xfrm>
        </p:grpSpPr>
        <p:sp>
          <p:nvSpPr>
            <p:cNvPr id="190" name=""/>
            <p:cNvSpPr/>
            <p:nvPr/>
          </p:nvSpPr>
          <p:spPr>
            <a:xfrm>
              <a:off x="2847600" y="4411080"/>
              <a:ext cx="2609280" cy="54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1" name=""/>
            <p:cNvGraphicFramePr/>
            <p:nvPr/>
          </p:nvGraphicFramePr>
          <p:xfrm>
            <a:off x="2743200" y="1295280"/>
            <a:ext cx="2800440" cy="310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1295280"/>
                      <a:ext cx="2800440" cy="310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3" name=""/>
          <p:cNvSpPr/>
          <p:nvPr/>
        </p:nvSpPr>
        <p:spPr>
          <a:xfrm>
            <a:off x="2438280" y="1752480"/>
            <a:ext cx="2133720" cy="289584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1042920" y="1989000"/>
          <a:ext cx="6897600" cy="420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989000"/>
                    <a:ext cx="6897600" cy="42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0" y="476280"/>
            <a:ext cx="88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Comparación de los modos de oper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ltivo en Seri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533520" y="781200"/>
            <a:ext cx="84582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dea en colocar dos o más fermentadores en serie. De esta manera se pue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r productos formados después del crecimiento (Sólo hay crecimiento en el primer fermentad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diar problemas fisiológicos interesantes (se agrega algún tipo de agent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04840" y="3581280"/>
            <a:ext cx="6934320" cy="29512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ltivo en Seri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380880"/>
            <a:ext cx="914400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den producirse 2 ca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alimentación al segu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ste caso F =  F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342900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alimentación al segundo re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`: es el mismo sustrato o podría ser un inhibidor o i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381560" y="3809880"/>
            <a:ext cx="4762440" cy="202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5" name=""/>
          <p:cNvGraphicFramePr/>
          <p:nvPr/>
        </p:nvGraphicFramePr>
        <p:xfrm>
          <a:off x="4229280" y="533520"/>
          <a:ext cx="4914720" cy="21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29280" y="533520"/>
                    <a:ext cx="491472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914400"/>
            <a:ext cx="75438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ara el primer re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mbos casos los balances son análogos a un solo fermentador, considerando todos los supuestos antes menciona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Biom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F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V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nce Sus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2904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200400" y="4641840"/>
                <a:ext cx="35053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0880" y="228600"/>
            <a:ext cx="83822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aso 1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Segundo Fermen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de cél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élulas entran – Células que salen + Crecimiento celular – Muerte celular  = Acumulación Celu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29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686040" y="6019920"/>
                <a:ext cx="13431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685800" y="3733920"/>
            <a:ext cx="7772400" cy="21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niendo qu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= F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de muerte es despreciabl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o Esta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956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0" y="2514600"/>
                <a:ext cx="89470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V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16" name=""/>
          <p:cNvGraphicFramePr/>
          <p:nvPr/>
        </p:nvGraphicFramePr>
        <p:xfrm>
          <a:off x="5334120" y="0"/>
          <a:ext cx="3543120" cy="15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0"/>
                    <a:ext cx="354312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57200" y="685800"/>
            <a:ext cx="845820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define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/V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D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jo que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≠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6724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676520" y="1789200"/>
                <a:ext cx="54864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2</m:t>
                            </m:r>
                          </m:e>
                          <m:sub/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392904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068640" y="2744640"/>
                <a:ext cx="27986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sSub>
                          <m:e>
                            <m:r>
                              <m:t xml:space="preserve">2</m:t>
                            </m:r>
                          </m:e>
                          <m:sub/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3" name="">
            <a:hlinkClick r:id="" action="ppaction://hlinkshowjump?jump=lastslide"/>
          </p:cNvPr>
          <p:cNvSpPr/>
          <p:nvPr/>
        </p:nvSpPr>
        <p:spPr>
          <a:xfrm>
            <a:off x="7848720" y="3352680"/>
            <a:ext cx="304560" cy="76320"/>
          </a:xfrm>
          <a:custGeom>
            <a:avLst/>
            <a:gdLst>
              <a:gd name="textAreaLeft" fmla="*/ 4680 w 304560"/>
              <a:gd name="textAreaRight" fmla="*/ 299880 w 30456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85893" h="21600">
                <a:moveTo>
                  <a:pt x="0" y="0"/>
                </a:moveTo>
                <a:lnTo>
                  <a:pt x="85893" y="0"/>
                </a:lnTo>
                <a:lnTo>
                  <a:pt x="85893" y="21600"/>
                </a:lnTo>
                <a:lnTo>
                  <a:pt x="0" y="21600"/>
                </a:lnTo>
                <a:close/>
              </a:path>
              <a:path fill="lightenLess" w="85893" h="21600">
                <a:moveTo>
                  <a:pt x="0" y="0"/>
                </a:moveTo>
                <a:lnTo>
                  <a:pt x="85893" y="0"/>
                </a:lnTo>
                <a:lnTo>
                  <a:pt x="84493" y="1400"/>
                </a:lnTo>
                <a:lnTo>
                  <a:pt x="1400" y="1400"/>
                </a:lnTo>
                <a:close/>
              </a:path>
              <a:path fill="darken" w="85893" h="21600">
                <a:moveTo>
                  <a:pt x="85893" y="0"/>
                </a:moveTo>
                <a:lnTo>
                  <a:pt x="85893" y="21600"/>
                </a:lnTo>
                <a:lnTo>
                  <a:pt x="84493" y="20200"/>
                </a:lnTo>
                <a:lnTo>
                  <a:pt x="84493" y="1400"/>
                </a:lnTo>
                <a:close/>
              </a:path>
              <a:path fill="darkenLess" w="85893" h="21600">
                <a:moveTo>
                  <a:pt x="858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493" y="20200"/>
                </a:lnTo>
                <a:close/>
              </a:path>
              <a:path fill="lighten" w="858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5893" h="21600">
                <a:moveTo>
                  <a:pt x="35940" y="3794"/>
                </a:moveTo>
                <a:lnTo>
                  <a:pt x="49953" y="10800"/>
                </a:lnTo>
                <a:lnTo>
                  <a:pt x="3594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7640" y="4572000"/>
            <a:ext cx="784872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cumple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D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,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do que hay ingreso de biomasa, generalmente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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8600" y="228600"/>
            <a:ext cx="853452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de Sustrato limi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trato entran – Sustrato salen -  Sustrato consumido crecimiento – Sustrato utilizado  mantención – Formación de producto =  Acumulación de Sus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de mantención es despreciable, m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&lt;&lt;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Y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x/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productos asociados al crecimiento, q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o esta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362320" y="4343400"/>
                <a:ext cx="419580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s</m:t>
                                    </m:r>
                                  </m:den>
                                </m:f>
                              </m:sub>
                            </m:sSub>
                          </m:den>
                        </m:f>
                      </m:e>
                      <m:sub/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590920" y="5486400"/>
                <a:ext cx="37335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sSub>
                          <m:e/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380880" y="5029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ej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ultivo continuo de células inmovilizadas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 (cont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305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Venta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Se pueden alcanzar elevadas concentraciones celulares </a:t>
            </a:r>
            <a:r>
              <a:rPr b="0" lang="es-ES_tradnl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 Altas productividades por unidad de volu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Se pueden eliminar las etapas de separación desde el medio líquido después de la fermentación </a:t>
            </a:r>
            <a:r>
              <a:rPr b="0" lang="es-ES_tradnl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 Reducción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Permite trabajar a velocidad de dilución mayores que la velocidad critica (Dc). ¿ Por qué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09480" y="228600"/>
            <a:ext cx="7239240" cy="62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aso 2: Alimentación adicional en el 2 fermen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´ puede s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ólo sustrato, no biomasa (x’ 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ctor, permite estudiar casos de in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dor, permite estudiar casos de repre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umple la condición qu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alance de Masa Global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1" lang="en-US" sz="32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F + F`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lastslide"/>
          </p:cNvPr>
          <p:cNvSpPr/>
          <p:nvPr/>
        </p:nvSpPr>
        <p:spPr>
          <a:xfrm>
            <a:off x="7772400" y="5562720"/>
            <a:ext cx="304920" cy="75960"/>
          </a:xfrm>
          <a:custGeom>
            <a:avLst/>
            <a:gdLst>
              <a:gd name="textAreaLeft" fmla="*/ 4680 w 304920"/>
              <a:gd name="textAreaRight" fmla="*/ 300240 w 30492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86400" h="21600">
                <a:moveTo>
                  <a:pt x="0" y="0"/>
                </a:moveTo>
                <a:lnTo>
                  <a:pt x="86400" y="0"/>
                </a:lnTo>
                <a:lnTo>
                  <a:pt x="86400" y="21600"/>
                </a:lnTo>
                <a:lnTo>
                  <a:pt x="0" y="21600"/>
                </a:lnTo>
                <a:close/>
              </a:path>
              <a:path fill="lightenLess" w="86400" h="21600">
                <a:moveTo>
                  <a:pt x="0" y="0"/>
                </a:moveTo>
                <a:lnTo>
                  <a:pt x="86400" y="0"/>
                </a:lnTo>
                <a:lnTo>
                  <a:pt x="85000" y="1400"/>
                </a:lnTo>
                <a:lnTo>
                  <a:pt x="1400" y="1400"/>
                </a:lnTo>
                <a:close/>
              </a:path>
              <a:path fill="darken" w="86400" h="21600">
                <a:moveTo>
                  <a:pt x="86400" y="0"/>
                </a:moveTo>
                <a:lnTo>
                  <a:pt x="86400" y="21600"/>
                </a:lnTo>
                <a:lnTo>
                  <a:pt x="85000" y="20200"/>
                </a:lnTo>
                <a:lnTo>
                  <a:pt x="85000" y="1400"/>
                </a:lnTo>
                <a:close/>
              </a:path>
              <a:path fill="darkenLess" w="86400" h="21600">
                <a:moveTo>
                  <a:pt x="8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00" y="20200"/>
                </a:lnTo>
                <a:close/>
              </a:path>
              <a:path fill="lighten" w="8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400" h="21600">
                <a:moveTo>
                  <a:pt x="36194" y="3794"/>
                </a:moveTo>
                <a:lnTo>
                  <a:pt x="50206" y="10800"/>
                </a:lnTo>
                <a:lnTo>
                  <a:pt x="361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181480" y="609480"/>
            <a:ext cx="39625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838080" y="457200"/>
            <a:ext cx="78487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de cél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élulas entran – Células que salen + Crecimiento celular – Muerte celular  = Acumulación Celu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niendo qu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rriente adicional no contiene biom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de muerte es despreciabl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o Esta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29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191120" y="4267080"/>
                <a:ext cx="135720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329580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600200" y="5562720"/>
                <a:ext cx="59436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2</m:t>
                            </m:r>
                          </m:e>
                          <m:sub/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38080" y="457200"/>
            <a:ext cx="784872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define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F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F’)/V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jo que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≠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196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297240" y="2046240"/>
                <a:ext cx="224316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sSub>
                          <m:e>
                            <m:r>
                              <m:t xml:space="preserve">2</m:t>
                            </m:r>
                          </m:e>
                          <m:sub/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0" name="">
            <a:hlinkClick r:id="" action="ppaction://hlinkshowjump?jump=lastslide"/>
          </p:cNvPr>
          <p:cNvSpPr/>
          <p:nvPr/>
        </p:nvSpPr>
        <p:spPr>
          <a:xfrm>
            <a:off x="7924680" y="2362320"/>
            <a:ext cx="304920" cy="75960"/>
          </a:xfrm>
          <a:custGeom>
            <a:avLst/>
            <a:gdLst>
              <a:gd name="textAreaLeft" fmla="*/ 4680 w 304920"/>
              <a:gd name="textAreaRight" fmla="*/ 300240 w 30492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86400" h="21600">
                <a:moveTo>
                  <a:pt x="0" y="0"/>
                </a:moveTo>
                <a:lnTo>
                  <a:pt x="86400" y="0"/>
                </a:lnTo>
                <a:lnTo>
                  <a:pt x="86400" y="21600"/>
                </a:lnTo>
                <a:lnTo>
                  <a:pt x="0" y="21600"/>
                </a:lnTo>
                <a:close/>
              </a:path>
              <a:path fill="lightenLess" w="86400" h="21600">
                <a:moveTo>
                  <a:pt x="0" y="0"/>
                </a:moveTo>
                <a:lnTo>
                  <a:pt x="86400" y="0"/>
                </a:lnTo>
                <a:lnTo>
                  <a:pt x="85000" y="1400"/>
                </a:lnTo>
                <a:lnTo>
                  <a:pt x="1400" y="1400"/>
                </a:lnTo>
                <a:close/>
              </a:path>
              <a:path fill="darken" w="86400" h="21600">
                <a:moveTo>
                  <a:pt x="86400" y="0"/>
                </a:moveTo>
                <a:lnTo>
                  <a:pt x="86400" y="21600"/>
                </a:lnTo>
                <a:lnTo>
                  <a:pt x="85000" y="20200"/>
                </a:lnTo>
                <a:lnTo>
                  <a:pt x="85000" y="1400"/>
                </a:lnTo>
                <a:close/>
              </a:path>
              <a:path fill="darkenLess" w="86400" h="21600">
                <a:moveTo>
                  <a:pt x="8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00" y="20200"/>
                </a:lnTo>
                <a:close/>
              </a:path>
              <a:path fill="lighten" w="8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400" h="21600">
                <a:moveTo>
                  <a:pt x="36194" y="3794"/>
                </a:moveTo>
                <a:lnTo>
                  <a:pt x="50206" y="10800"/>
                </a:lnTo>
                <a:lnTo>
                  <a:pt x="361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3962520"/>
            <a:ext cx="7467480" cy="15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cumple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D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mente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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,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puede trabajar a alta velocidad de crecimiento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" y="228600"/>
            <a:ext cx="822960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de Sustrato limi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trato entran – Sustrato salen -  Sustrato consumido crecimiento – Sustrato utilizado  mantención – Formación de producto =  Acumulación de Sus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de mantención es despreciable, m  &lt;&lt;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Y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x/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productos asociados al crecimiento, q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o esta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0976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751040" y="4584600"/>
                <a:ext cx="609912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⋅</m:t>
                    </m:r>
                    <m:r>
                      <m:t xml:space="preserve">s</m:t>
                    </m:r>
                    <m:r>
                      <m:t xml:space="preserve">'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s</m:t>
                                    </m:r>
                                  </m:den>
                                </m:f>
                              </m:sub>
                            </m:sSub>
                          </m:den>
                        </m:f>
                      </m:e>
                      <m:sub/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28600" y="4572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pejan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325600" y="1521000"/>
                <a:ext cx="36813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s</m:t>
                    </m:r>
                    <m:r>
                      <m:t xml:space="preserve">'</m:t>
                    </m:r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>
            <a:hlinkClick r:id="" action="ppaction://hlinkshowjump?jump=lastslide"/>
          </p:cNvPr>
          <p:cNvSpPr/>
          <p:nvPr/>
        </p:nvSpPr>
        <p:spPr>
          <a:xfrm>
            <a:off x="7924680" y="1981080"/>
            <a:ext cx="304920" cy="76320"/>
          </a:xfrm>
          <a:custGeom>
            <a:avLst/>
            <a:gdLst>
              <a:gd name="textAreaLeft" fmla="*/ 4680 w 304920"/>
              <a:gd name="textAreaRight" fmla="*/ 300240 w 30492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85994" h="21600">
                <a:moveTo>
                  <a:pt x="0" y="0"/>
                </a:moveTo>
                <a:lnTo>
                  <a:pt x="85994" y="0"/>
                </a:lnTo>
                <a:lnTo>
                  <a:pt x="85994" y="21600"/>
                </a:lnTo>
                <a:lnTo>
                  <a:pt x="0" y="21600"/>
                </a:lnTo>
                <a:close/>
              </a:path>
              <a:path fill="lightenLess" w="85994" h="21600">
                <a:moveTo>
                  <a:pt x="0" y="0"/>
                </a:moveTo>
                <a:lnTo>
                  <a:pt x="85994" y="0"/>
                </a:lnTo>
                <a:lnTo>
                  <a:pt x="84594" y="1400"/>
                </a:lnTo>
                <a:lnTo>
                  <a:pt x="1400" y="1400"/>
                </a:lnTo>
                <a:close/>
              </a:path>
              <a:path fill="darken" w="85994" h="21600">
                <a:moveTo>
                  <a:pt x="85994" y="0"/>
                </a:moveTo>
                <a:lnTo>
                  <a:pt x="85994" y="21600"/>
                </a:lnTo>
                <a:lnTo>
                  <a:pt x="84594" y="20200"/>
                </a:lnTo>
                <a:lnTo>
                  <a:pt x="84594" y="1400"/>
                </a:lnTo>
                <a:close/>
              </a:path>
              <a:path fill="darkenLess" w="85994" h="21600">
                <a:moveTo>
                  <a:pt x="8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594" y="20200"/>
                </a:lnTo>
                <a:close/>
              </a:path>
              <a:path fill="lighten" w="8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5994" h="21600">
                <a:moveTo>
                  <a:pt x="35991" y="3794"/>
                </a:moveTo>
                <a:lnTo>
                  <a:pt x="50004" y="10800"/>
                </a:lnTo>
                <a:lnTo>
                  <a:pt x="3599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533520" y="609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mie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867280" y="2286000"/>
                <a:ext cx="21337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429000" y="3429000"/>
                <a:ext cx="189540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sSub>
                          <m:e>
                            <m:r>
                              <m:t xml:space="preserve">2</m:t>
                            </m:r>
                          </m:e>
                          <m:sub/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715000" y="3419640"/>
                <a:ext cx="220968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sSub>
                          <m:e/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352680" y="4648320"/>
                <a:ext cx="190512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sSub>
                          <m:e>
                            <m:r>
                              <m:t xml:space="preserve">2</m:t>
                            </m:r>
                          </m:e>
                          <m:sub/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562720" y="4419720"/>
                <a:ext cx="24382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s</m:t>
                    </m:r>
                    <m:r>
                      <m:t xml:space="preserve">'</m:t>
                    </m:r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4" name=""/>
          <p:cNvGrpSpPr/>
          <p:nvPr/>
        </p:nvGrpSpPr>
        <p:grpSpPr>
          <a:xfrm>
            <a:off x="609480" y="1143000"/>
            <a:ext cx="7408800" cy="4495320"/>
            <a:chOff x="609480" y="1143000"/>
            <a:chExt cx="7408800" cy="4495320"/>
          </a:xfrm>
        </p:grpSpPr>
        <p:grpSp>
          <p:nvGrpSpPr>
            <p:cNvPr id="255" name=""/>
            <p:cNvGrpSpPr/>
            <p:nvPr/>
          </p:nvGrpSpPr>
          <p:grpSpPr>
            <a:xfrm>
              <a:off x="615240" y="1149840"/>
              <a:ext cx="7396200" cy="4480200"/>
              <a:chOff x="615240" y="1149840"/>
              <a:chExt cx="7396200" cy="448020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615240" y="1149840"/>
                <a:ext cx="2464920" cy="979560"/>
                <a:chOff x="615240" y="1149840"/>
                <a:chExt cx="2464920" cy="97956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69960" y="1149840"/>
                  <a:ext cx="235512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15240" y="1149840"/>
                  <a:ext cx="2464920" cy="97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3080520" y="1149840"/>
                <a:ext cx="2465640" cy="979560"/>
                <a:chOff x="3080520" y="1149840"/>
                <a:chExt cx="2465640" cy="97956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3135600" y="1149840"/>
                  <a:ext cx="235512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lance Biomasa**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080520" y="1149840"/>
                  <a:ext cx="2465640" cy="97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5546520" y="1149840"/>
                <a:ext cx="2464920" cy="979560"/>
                <a:chOff x="5546520" y="1149840"/>
                <a:chExt cx="2464920" cy="97956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5601240" y="1149840"/>
                  <a:ext cx="235512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lance Sustrato</a:t>
                  </a:r>
                  <a:r>
                    <a:rPr b="1" lang="es-MX" sz="18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*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546520" y="1149840"/>
                  <a:ext cx="2464920" cy="97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615240" y="2129760"/>
                <a:ext cx="2464920" cy="979560"/>
                <a:chOff x="615240" y="2129760"/>
                <a:chExt cx="2464920" cy="97956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669960" y="2129760"/>
                  <a:ext cx="235512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0" lang="es-MX" sz="18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r</a:t>
                  </a:r>
                  <a:r>
                    <a:rPr b="0" lang="es-MX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fermentad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15240" y="2129760"/>
                  <a:ext cx="2464920" cy="97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3080520" y="2129760"/>
                <a:ext cx="2465640" cy="979560"/>
                <a:chOff x="3080520" y="2129760"/>
                <a:chExt cx="2465640" cy="97956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3135600" y="2129760"/>
                  <a:ext cx="235512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</a:t>
                  </a:r>
                  <a:r>
                    <a:rPr b="0" lang="es-MX" sz="18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0" lang="es-MX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= F</a:t>
                  </a:r>
                  <a:r>
                    <a:rPr b="0" lang="es-MX" sz="18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0" lang="es-MX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/V</a:t>
                  </a:r>
                  <a:r>
                    <a:rPr b="0" lang="es-MX" sz="18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 </a:t>
                  </a:r>
                  <a:r>
                    <a:rPr b="0" lang="es-MX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=  </a:t>
                  </a:r>
                  <a:r>
                    <a:rPr b="0" lang="es-MX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0" lang="es-MX" sz="1800" spc="-1" strike="noStrike" baseline="-30000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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080520" y="2129760"/>
                  <a:ext cx="2465640" cy="97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5546520" y="2129760"/>
                <a:ext cx="2464920" cy="979560"/>
                <a:chOff x="5546520" y="2129760"/>
                <a:chExt cx="2464920" cy="97956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5601240" y="2129760"/>
                  <a:ext cx="2355120" cy="97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546520" y="2129760"/>
                  <a:ext cx="2464920" cy="97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615240" y="3110040"/>
                <a:ext cx="2464920" cy="1259280"/>
                <a:chOff x="615240" y="3110040"/>
                <a:chExt cx="2464920" cy="125928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669960" y="3110040"/>
                  <a:ext cx="2355120" cy="125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s-MX" sz="18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o</a:t>
                  </a:r>
                  <a:r>
                    <a:rPr b="0" lang="es-MX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fermentador </a:t>
                  </a:r>
                  <a:r>
                    <a:rPr b="1" lang="es-MX" sz="1800" spc="-1" strike="noStrike" u="sng">
                      <a:solidFill>
                        <a:srgbClr val="ff0000"/>
                      </a:solidFill>
                      <a:uFillTx/>
                      <a:latin typeface="Times New Roman"/>
                      <a:ea typeface="Times New Roman"/>
                    </a:rPr>
                    <a:t>sin</a:t>
                  </a:r>
                  <a:r>
                    <a:rPr b="0" lang="es-MX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alimentación adicion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15240" y="3110040"/>
                  <a:ext cx="2464920" cy="125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3080520" y="3110040"/>
                <a:ext cx="2465640" cy="1259280"/>
                <a:chOff x="3080520" y="3110040"/>
                <a:chExt cx="2465640" cy="12592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3135600" y="3110040"/>
                  <a:ext cx="2355120" cy="125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080520" y="3110040"/>
                  <a:ext cx="2465640" cy="125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5546520" y="3110040"/>
                <a:ext cx="2464920" cy="1259280"/>
                <a:chOff x="5546520" y="3110040"/>
                <a:chExt cx="2464920" cy="12592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5601240" y="3110040"/>
                  <a:ext cx="2355120" cy="125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546520" y="3110040"/>
                  <a:ext cx="2464920" cy="125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615240" y="4370040"/>
                <a:ext cx="2464920" cy="1260000"/>
                <a:chOff x="615240" y="4370040"/>
                <a:chExt cx="2464920" cy="126000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669960" y="4370040"/>
                  <a:ext cx="2355120" cy="126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s-MX" sz="18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o</a:t>
                  </a:r>
                  <a:r>
                    <a:rPr b="0" lang="es-MX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fermentador </a:t>
                  </a:r>
                  <a:r>
                    <a:rPr b="1" lang="es-MX" sz="1800" spc="-1" strike="noStrike" u="sng">
                      <a:solidFill>
                        <a:srgbClr val="ff0000"/>
                      </a:solidFill>
                      <a:uFillTx/>
                      <a:latin typeface="Times New Roman"/>
                      <a:ea typeface="Times New Roman"/>
                    </a:rPr>
                    <a:t>con </a:t>
                  </a:r>
                  <a:r>
                    <a:rPr b="0" lang="es-MX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imentación adicion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615240" y="4370040"/>
                  <a:ext cx="2464920" cy="126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3080520" y="4370040"/>
                <a:ext cx="2465640" cy="1260000"/>
                <a:chOff x="3080520" y="4370040"/>
                <a:chExt cx="2465640" cy="126000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3135600" y="4370040"/>
                  <a:ext cx="2355120" cy="126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080520" y="4370040"/>
                  <a:ext cx="2465640" cy="126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5546520" y="4370040"/>
                <a:ext cx="2464920" cy="1260000"/>
                <a:chOff x="5546520" y="4370040"/>
                <a:chExt cx="2464920" cy="126000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5601240" y="4370040"/>
                  <a:ext cx="2355120" cy="126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546520" y="4370040"/>
                  <a:ext cx="2464920" cy="126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2" name=""/>
            <p:cNvSpPr/>
            <p:nvPr/>
          </p:nvSpPr>
          <p:spPr>
            <a:xfrm>
              <a:off x="609480" y="1143000"/>
              <a:ext cx="7408800" cy="4495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60199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*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uerde los supuestos considerados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5800" y="457200"/>
            <a:ext cx="70866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Diseño Op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mbinación que requiere el menor volumen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r el 1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er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rmentador bajo sus condiciones óptimas, 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2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rmentador hasta alcanzar los niveles de conversión deseado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590920" y="2666880"/>
                <a:ext cx="33480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óptim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Ks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Ks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emplo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se tiene un microorganismo que sigue una cinética del tipo Monod, con los siguientes paráme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0,7 hr 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5 g/l    Y 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x/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0,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flujo de alimentación es de 500 l/hr con 85 g/l de sustrato, la concentración de sustrato y biomasa a la salida debe ser de 5 g/l y 52 g/l respectiv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se utilizan 2 fermentadores continuos perfectamente agitados en serie,¿Qué tamaño debe tener cada uno de los fermentadores, si se utiliza la configuración ópti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914400" y="4394160"/>
            <a:ext cx="7421040" cy="2463840"/>
            <a:chOff x="914400" y="4394160"/>
            <a:chExt cx="7421040" cy="2463840"/>
          </a:xfrm>
        </p:grpSpPr>
        <p:grpSp>
          <p:nvGrpSpPr>
            <p:cNvPr id="299" name=""/>
            <p:cNvGrpSpPr/>
            <p:nvPr/>
          </p:nvGrpSpPr>
          <p:grpSpPr>
            <a:xfrm>
              <a:off x="3124080" y="4394160"/>
              <a:ext cx="5211360" cy="2463840"/>
              <a:chOff x="3124080" y="4394160"/>
              <a:chExt cx="5211360" cy="2463840"/>
            </a:xfrm>
          </p:grpSpPr>
          <p:sp>
            <p:nvSpPr>
              <p:cNvPr id="300" name=""/>
              <p:cNvSpPr/>
              <p:nvPr/>
            </p:nvSpPr>
            <p:spPr>
              <a:xfrm>
                <a:off x="4312440" y="4846320"/>
                <a:ext cx="191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781320" y="6400800"/>
                <a:ext cx="10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964200" y="6583680"/>
                <a:ext cx="137124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X2 = 52 g/l, s2=5 g/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306600" y="5212080"/>
                <a:ext cx="1188360" cy="1005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4" name=""/>
              <p:cNvGrpSpPr/>
              <p:nvPr/>
            </p:nvGrpSpPr>
            <p:grpSpPr>
              <a:xfrm>
                <a:off x="3124080" y="4394160"/>
                <a:ext cx="1828440" cy="1640880"/>
                <a:chOff x="3124080" y="4394160"/>
                <a:chExt cx="1828440" cy="1640880"/>
              </a:xfrm>
            </p:grpSpPr>
            <p:sp>
              <p:nvSpPr>
                <p:cNvPr id="305" name=""/>
                <p:cNvSpPr/>
                <p:nvPr/>
              </p:nvSpPr>
              <p:spPr>
                <a:xfrm flipV="1">
                  <a:off x="4312440" y="4846320"/>
                  <a:ext cx="0" cy="36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124080" y="4485600"/>
                  <a:ext cx="1828440" cy="274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F = 500l/h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r>
                    <a:rPr b="0" lang="es-ES" sz="1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= 85 g/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946680" y="4394160"/>
                  <a:ext cx="0" cy="822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489480" y="5486400"/>
                  <a:ext cx="914040" cy="548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= ??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5592600" y="5664240"/>
                <a:ext cx="1188360" cy="1005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232680" y="4846320"/>
                <a:ext cx="0" cy="82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75480" y="5852160"/>
                <a:ext cx="914040" cy="54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= ?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592600" y="4480560"/>
                <a:ext cx="137124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, x1, s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13" name=""/>
                <p:cNvSpPr txBox="1"/>
                <p:nvPr/>
              </p:nvSpPr>
              <p:spPr>
                <a:xfrm>
                  <a:off x="914400" y="5181480"/>
                  <a:ext cx="2209680" cy="65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óptima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s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s</m:t>
                                  </m:r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emplo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sistema de 2 fermentadores FPA es utilizado para la producción de un metabolito secundario. El volumen del primer reactor es de 0.5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l sistema está siendo operado de tal modo que en el primer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mentador sólo se produce el crecimiento de biomasa y  el segundo  es utilizado para la síntesis del producto. La concentración de sustrato en la alimentación es de 10 kg/m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Los parámetros cinéticos y de recuperación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/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5 kg/kg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.0 kg/m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12 hr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025 kg/kg 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16 kg/kg hr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/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85 kg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umiendo que la síntesis de producto es despreciable en el primer fermentador y que el crecimiento bacteriano es despreciable en el segundo reactor. Determ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304920"/>
            <a:ext cx="762012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olumen del segundo fermentador si se desea una conversión global de sustrato superior al 95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ción de producto a la salida del segundo fermen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 se supone que en el 1 fermentador se consume el 40% del sustrato se cumple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s-C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1.78 g/l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es-C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6 g/l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= 0.051 m</a:t>
            </a:r>
            <a:r>
              <a:rPr b="0" lang="es-CL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209680" y="3124080"/>
            <a:ext cx="5211360" cy="2463840"/>
            <a:chOff x="2209680" y="3124080"/>
            <a:chExt cx="5211360" cy="2463840"/>
          </a:xfrm>
        </p:grpSpPr>
        <p:sp>
          <p:nvSpPr>
            <p:cNvPr id="318" name=""/>
            <p:cNvSpPr/>
            <p:nvPr/>
          </p:nvSpPr>
          <p:spPr>
            <a:xfrm>
              <a:off x="3398040" y="3576240"/>
              <a:ext cx="191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66920" y="5130720"/>
              <a:ext cx="10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49800" y="5313600"/>
              <a:ext cx="137124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ida F, x2, s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392200" y="3942000"/>
              <a:ext cx="1188360" cy="100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2209680" y="3124080"/>
              <a:ext cx="1828440" cy="1640880"/>
              <a:chOff x="2209680" y="3124080"/>
              <a:chExt cx="1828440" cy="1640880"/>
            </a:xfrm>
          </p:grpSpPr>
          <p:sp>
            <p:nvSpPr>
              <p:cNvPr id="323" name=""/>
              <p:cNvSpPr/>
              <p:nvPr/>
            </p:nvSpPr>
            <p:spPr>
              <a:xfrm flipV="1">
                <a:off x="3398040" y="3576240"/>
                <a:ext cx="0" cy="36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09680" y="3215520"/>
                <a:ext cx="182844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limentación Fresca, F, s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32280" y="3124080"/>
                <a:ext cx="0" cy="82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575080" y="4216320"/>
                <a:ext cx="914040" cy="54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ólo crecimiento  de Biomas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4678200" y="4394160"/>
              <a:ext cx="1188360" cy="100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318280" y="3576240"/>
              <a:ext cx="0" cy="82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861080" y="4582080"/>
              <a:ext cx="914040" cy="54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ólo Formación de Produc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678200" y="3210480"/>
              <a:ext cx="137124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, x1, s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Soportes utilizados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n la 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inmoviliza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ción de 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élu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305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3520" y="1066680"/>
          <a:ext cx="8305560" cy="4865400"/>
        </p:xfrm>
        <a:graphic>
          <a:graphicData uri="http://schemas.openxmlformats.org/drawingml/2006/table">
            <a:tbl>
              <a:tblPr/>
              <a:tblGrid>
                <a:gridCol w="2209680"/>
                <a:gridCol w="2666880"/>
                <a:gridCol w="3429000"/>
              </a:tblGrid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roorganis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por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.acét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etobacter 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uta de Mad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an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. cereviasia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inato de calc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dróge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baena cilind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drio Poro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icuerpos monoclon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drido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inato polilis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tam aguas residu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ltivo mix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raci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omparación entre comportamiento teórico v/s comportamiento real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rmentación e Ingeniería Metabó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empus Sans ITC"/>
              </a:rPr>
              <a:t>Dependiendo de cual es el nutriente limitante se pueden producir diferentes desviacion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empus Sans ITC"/>
              </a:rPr>
              <a:t>Carbono limita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empus Sans ITC"/>
              </a:rPr>
              <a:t>Nitrógeno y sulfato limita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empus Sans ITC"/>
              </a:rPr>
              <a:t>Potasio, magnesio y fosfato limita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empus Sans ITC"/>
              </a:rPr>
              <a:t>Medios complejos o indefini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arbono limitant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1143000"/>
            <a:ext cx="4800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ja  tasa de di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jo tasa de dilución inferiores al 25% de la tasa de dilución crítica (D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&lt; 0.25 * Dc = D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todo el carbono se utiliza en crecimiento, hay una part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-10%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que se utiliza en mantención. Esto implica que el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érmino de mantención 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be depreciar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5638680" y="1143000"/>
          <a:ext cx="327672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43000"/>
                    <a:ext cx="327672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5791320" y="4724280"/>
            <a:ext cx="3124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X: Biomasa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Y: y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- - - Ideal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324480" y="3505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" y="4570560"/>
            <a:ext cx="49528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ta tasa de di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roducen otros metabolitos intermedios (acetato, piruvato, etanol, etc.)  debido a la gran cantidad de carbono disponible, esto hace que se produzca una acumulación de ellos, pero no todo es crecimiento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19920" y="1371600"/>
            <a:ext cx="761760" cy="10666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1523880"/>
            <a:ext cx="762120" cy="10670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itrógeno y sulfato limitant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520" y="1916280"/>
            <a:ext cx="464796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ja tasa de di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 una acumulación de carbohidratos y lípidos que no se utilizan por carencia de N y SO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 provoca un aumento en el tamaño de las células y se genera un incremento aparente del yiel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 hay un aumento del número de células o de las proteínas en las célu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5410080" y="1600200"/>
          <a:ext cx="373392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1600200"/>
                    <a:ext cx="373392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5562720" y="5253120"/>
            <a:ext cx="3124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X: Biomasa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Y: y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- - - Ideal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91320" y="2209680"/>
            <a:ext cx="761760" cy="10670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609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otasio, magnesio y fosfato limitant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0880" y="1825560"/>
            <a:ext cx="5105520" cy="46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ja tasa de di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rtamiento análogo al caso anterior, las células bajo condiciones de limitación de nutrientes utilizan sólo la cantidad estrictamente necesaria para su creci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PO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án directamente asociados al contenido de ácidos nucleicos. Las células que crecen a una baja velocidad necesitan menos RNA que las que crecen a una alta velocidad de crecimiento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or lo cual se tienen más célu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5638680" y="1676520"/>
          <a:ext cx="32004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676520"/>
                    <a:ext cx="32004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0" y="2602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248520" y="5029200"/>
            <a:ext cx="3124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X: Biomasa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Y: y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- - - Ideal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19920" y="2438280"/>
            <a:ext cx="761760" cy="10670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609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dios complejos o indefinid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4724280" y="2133720"/>
          <a:ext cx="4229280" cy="30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133720"/>
                    <a:ext cx="4229280" cy="30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304920" y="2209680"/>
            <a:ext cx="403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tiene claro cual es el nutriente limitante, según el crecimiento de los micoorganismos se producen cambios en sus necesida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5410080"/>
            <a:ext cx="3124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: Bio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blemas en cultivo continu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mi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taminación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1143000"/>
            <a:ext cx="8458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a de los principales falencias asociadas al cultivo continuo es la contaminación que aumenta su probabilidad con el tiemp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 posible diseñar procesos que minimicen la contaminación al máximo posible, ej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        Trabajando a temperaturas extr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        pH extre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  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uentes de alimentación inusuales (hidrocarburos, etan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        Medios mínimos defin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4724280"/>
            <a:ext cx="8381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pueden producir tres cas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ue el contaminante crezca más lento que el m.o. de interé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Que el contaminante crezca más rápido que el m.o.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Sistema mix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4572000" y="2133720"/>
          <a:ext cx="4305240" cy="30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133720"/>
                    <a:ext cx="4305240" cy="30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914400" y="2286000"/>
            <a:ext cx="335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trabajar a una cualquier concentración de sustrato, inferior a S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contaminante crece más lento que el m.o. de interés.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315200" y="3200400"/>
            <a:ext cx="0" cy="137160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86600" y="4724280"/>
            <a:ext cx="739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7315200" y="4495320"/>
            <a:ext cx="0" cy="381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029200" y="5410080"/>
            <a:ext cx="3124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X: Biomasa de Inter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Y: contamin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638680" y="2666880"/>
            <a:ext cx="1676520" cy="1981440"/>
          </a:xfrm>
          <a:prstGeom prst="ellipse">
            <a:avLst/>
          </a:prstGeom>
          <a:noFill/>
          <a:ln cap="rnd" w="572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914400" y="2286000"/>
            <a:ext cx="3048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puede eliminar el contamin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 se puede traba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ontaminante crece más rápido que el m.o. de interé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15200" y="2743200"/>
            <a:ext cx="0" cy="137160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334120" y="5638680"/>
            <a:ext cx="31240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X: Biomasa de Inter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Z: conta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4648320" y="1981080"/>
          <a:ext cx="3752640" cy="29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375264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Métodos de Inmovilización de Célul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305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33520" y="1295280"/>
          <a:ext cx="8229600" cy="5038920"/>
        </p:xfrm>
        <a:graphic>
          <a:graphicData uri="http://schemas.openxmlformats.org/drawingml/2006/table">
            <a:tbl>
              <a:tblPr/>
              <a:tblGrid>
                <a:gridCol w="2590560"/>
                <a:gridCol w="563904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to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sorción superfic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drio, virutas de madera, resinas de intercambio, celulosas, sílica activad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herencia de las células a la </a:t>
                      </a:r>
                      <a:r>
                        <a:rPr b="1" lang="es-ES_tradnl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uperficie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del soporte inerte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s células permanente </a:t>
                      </a:r>
                      <a:r>
                        <a:rPr b="0" lang="es-ES_tradnl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ivas y activas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 una </a:t>
                      </a:r>
                      <a:r>
                        <a:rPr b="0" lang="es-ES_tradnl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dherencia débil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y que está </a:t>
                      </a:r>
                      <a:r>
                        <a:rPr b="0" lang="es-ES_tradnl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imitad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or el área del sopor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ede ser natural o induc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agreg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s células </a:t>
                      </a:r>
                      <a:r>
                        <a:rPr b="0" lang="es-ES_tradnl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e unen entre si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in la participación de un soporte sólido, formando agregados celular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ede ser natural o induc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Sistema mix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" y="1752480"/>
            <a:ext cx="44956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e de la velocidad de dilución a la que se este trabaja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ultivo batch cualquier m.o que tenga los nutrientes necesarios será capaz de crecer y acumularse, pero en continuo h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bilidades dependiendo de la tasa de dilu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4800600" y="1523880"/>
          <a:ext cx="408636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523880"/>
                    <a:ext cx="408636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6019920" y="5029200"/>
            <a:ext cx="3124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X: Biomasa de Inter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W: contamin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209680" y="2666880"/>
            <a:ext cx="4343400" cy="2730600"/>
            <a:chOff x="2209680" y="2666880"/>
            <a:chExt cx="4343400" cy="2730600"/>
          </a:xfrm>
        </p:grpSpPr>
        <p:sp>
          <p:nvSpPr>
            <p:cNvPr id="388" name=""/>
            <p:cNvSpPr/>
            <p:nvPr/>
          </p:nvSpPr>
          <p:spPr>
            <a:xfrm>
              <a:off x="5105520" y="2666880"/>
              <a:ext cx="1447560" cy="1524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09680" y="5029200"/>
              <a:ext cx="320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Zona en que conviene trabaj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4648320" y="4038480"/>
              <a:ext cx="68580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4360" y="-316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utaciones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4360" y="1052640"/>
            <a:ext cx="7848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573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plica de DNA es un proceso complejo y de alta preci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573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es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error en 10</a:t>
            </a:r>
            <a:r>
              <a:rPr b="1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plicaciones.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1573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i en un cultivo 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élulas/ 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1573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 cultivos continuos son largos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llegar a tener un número significativo de células mutadas.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573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573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mente estas mutaciones no son dañinas, dado que puede no alterar el crecimiento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1573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1573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 el mutante aprovecha mejor el sustrato que el m.o original, puede producirse la eliminación del m.o ori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1573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1573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s mutaciones más complejas son cuando se producen pérdidas de plasmidios.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Métodos de Inmovilización de Célul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305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33520" y="1066680"/>
          <a:ext cx="8229600" cy="5807160"/>
        </p:xfrm>
        <a:graphic>
          <a:graphicData uri="http://schemas.openxmlformats.org/drawingml/2006/table">
            <a:tbl>
              <a:tblPr/>
              <a:tblGrid>
                <a:gridCol w="2590560"/>
                <a:gridCol w="5639040"/>
              </a:tblGrid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to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finamiento mediante barr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ción de las células por medio de una </a:t>
                      </a:r>
                      <a:r>
                        <a:rPr b="0" lang="es-ES_tradnl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arrera semipermeable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que permite el paso selectivo de los nutrientes y productos de metabolismos celular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roencapsulación, emulsificación, membranas de microfiltración, ultrafiltración y dialisi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rapamiento en matriz poro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ámicas, carbón activado,  vidrio poroso, agar, alginato de calc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s células son </a:t>
                      </a:r>
                      <a:r>
                        <a:rPr b="0" lang="es-ES_tradnl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trapadas en una matriz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porosa, polimérica que las retiene. En dichas matrices tanto los nutrientes como los productos pueden atravesarl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Tipo de Bioreact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4560" y="1066320"/>
            <a:ext cx="8305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33520" y="1066680"/>
          <a:ext cx="8229600" cy="3124440"/>
        </p:xfrm>
        <a:graphic>
          <a:graphicData uri="http://schemas.openxmlformats.org/drawingml/2006/table">
            <a:tbl>
              <a:tblPr/>
              <a:tblGrid>
                <a:gridCol w="2590560"/>
                <a:gridCol w="563904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b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cho Fij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cho Fluidiz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cla por Agi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Quimosta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ctores de Fibra Hue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ultivo continuo de células inmoviliza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715000" y="609480"/>
            <a:ext cx="3429000" cy="4343400"/>
            <a:chOff x="5715000" y="609480"/>
            <a:chExt cx="3429000" cy="4343400"/>
          </a:xfrm>
        </p:grpSpPr>
        <p:sp>
          <p:nvSpPr>
            <p:cNvPr id="65" name=""/>
            <p:cNvSpPr/>
            <p:nvPr/>
          </p:nvSpPr>
          <p:spPr>
            <a:xfrm>
              <a:off x="5715000" y="4284720"/>
              <a:ext cx="3429000" cy="66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" name=""/>
            <p:cNvGraphicFramePr/>
            <p:nvPr/>
          </p:nvGraphicFramePr>
          <p:xfrm>
            <a:off x="5715000" y="609480"/>
            <a:ext cx="3000240" cy="3508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5000" y="609480"/>
                      <a:ext cx="3000240" cy="350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8" name=""/>
          <p:cNvSpPr/>
          <p:nvPr/>
        </p:nvSpPr>
        <p:spPr>
          <a:xfrm>
            <a:off x="152280" y="1447920"/>
            <a:ext cx="556272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er células inmovilizan que no salen del reac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élulas suspen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m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élulas inmoviliz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0000"/>
                </a:solidFill>
                <a:latin typeface="Symbol"/>
                <a:ea typeface="Symbol"/>
              </a:rPr>
              <a:t>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3429000"/>
            <a:ext cx="56386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uesto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as células inmovilizadas la velocidad de crecimiento será igual que las células suspendidas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800000"/>
                </a:solidFill>
                <a:latin typeface="Symbol"/>
                <a:ea typeface="Symbol"/>
              </a:rPr>
              <a:t></a:t>
            </a:r>
            <a:r>
              <a:rPr b="0" lang="es-ES" sz="3200" spc="-1" strike="noStrike" baseline="-30000">
                <a:solidFill>
                  <a:srgbClr val="800000"/>
                </a:solidFill>
                <a:latin typeface="Times New Roman"/>
                <a:ea typeface="Times New Roman"/>
              </a:rPr>
              <a:t>im</a:t>
            </a:r>
            <a:r>
              <a:rPr b="0" lang="es-E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=  </a:t>
            </a:r>
            <a:r>
              <a:rPr b="0" lang="es-ES" sz="3200" spc="-1" strike="noStrike">
                <a:solidFill>
                  <a:srgbClr val="800000"/>
                </a:solidFill>
                <a:latin typeface="Symbol"/>
                <a:ea typeface="Symbol"/>
              </a:rPr>
              <a:t>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09:44:33Z</dcterms:created>
  <dc:creator>Maria Elena Lienqueo C.</dc:creator>
  <dc:description/>
  <dc:language>en-US</dc:language>
  <cp:lastModifiedBy>Maria Elena Lienqueo</cp:lastModifiedBy>
  <dcterms:modified xsi:type="dcterms:W3CDTF">2008-05-26T00:13:26Z</dcterms:modified>
  <cp:revision>62</cp:revision>
  <dc:subject/>
  <dc:title>Cultivo Continuo</dc:title>
</cp:coreProperties>
</file>