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AD8-7106-4021-9988-9165A1E6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582-70C3-4949-97FC-B844BFE1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836-15F2-41CD-BC09-297E1DCD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847-9341-454C-B9F1-FC9CABFD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8ACE-DEF4-4AA6-A431-1491B9AC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BB1-053E-4D60-BC96-AA090D13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E72-2750-4BC6-BE76-9E4FEB85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EFD-8D61-4CC8-BF82-B8C35FE0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CE6-B56E-41BA-8E6F-A7E1470C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B59-62BD-4B09-BBC7-A330E4B4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910-8201-4A42-80DF-64A6FD7D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C5F-B3AB-4088-AB5B-209DDB4F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6EA0-3101-4CF9-94E6-042D39D14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abcysonline.com/Images/Pa_a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58480"/>
            <a:ext cx="6669000" cy="89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alendario 2008 mod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2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7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eación de molécula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8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3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7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Ingeniería de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9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8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lonamiento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COLES 11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13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9.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resión de recombinantes </a:t>
            </a:r>
            <a:r>
              <a:rPr b="0" i="1" lang="es-ES" sz="1200" spc="-1" strike="noStrike">
                <a:solidFill>
                  <a:srgbClr val="000000"/>
                </a:solidFill>
                <a:latin typeface="Tahoma"/>
              </a:rPr>
              <a:t>in v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l DNA clonado en células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isladas: caracterización del produc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upresión o inactivación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1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 genes en individ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mpletos. Mutagénesis por inser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Gene targetting.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18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Introducción de genes en animales y vege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(células germinales, células somáticas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élulas tronc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 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LUNES 23 (CR)            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ontrol 3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5 (CR)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8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Aplicación del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7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0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ilenciamiento génic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30 (CR)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1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eres vivos como biorrea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</a:t>
            </a: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 2 (CR)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l capítu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3360" y="684360"/>
            <a:ext cx="626760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6640" y="4500720"/>
            <a:ext cx="5243400" cy="4194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125360" y="611280"/>
            <a:ext cx="4762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3520" y="380880"/>
            <a:ext cx="6095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btención de una sonda nucleo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 partir de la proteína codificada por el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295280"/>
            <a:ext cx="6019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...-Met - Gln - Lys - Phe - Asn-…  secuencia pr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A        U      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G  CAG   AAG   UUC   AAC…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2096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       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tc.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22860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Guess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ligonucle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que codifica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495680"/>
            <a:ext cx="3733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n...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so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76960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716292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A  AAG  UUU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TAC   GTT  TTC  AAA  TTA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...ATG   CAA  AAG  TTT  AAT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6172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472428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1337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26708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1148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3809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51055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4419720"/>
            <a:ext cx="16002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Ag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desconoc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5181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59436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6324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67080" y="6095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096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10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81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895480" y="8000640"/>
            <a:ext cx="1295640" cy="2286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9720" y="792468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807732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7772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784872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815328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86400" y="7620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76920" y="8001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21337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o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7360" y="63007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13360" y="4284720"/>
            <a:ext cx="1600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57360" y="6156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57360" y="5508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65720" y="7524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4640" y="50767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4640" y="5219640"/>
            <a:ext cx="3743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57360" y="53640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45000" y="493236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28640" y="7380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28640" y="72360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13000" y="7020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49720" y="7164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7440" y="816444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astreo de genoteca de cDNA o g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68280" y="5148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49720" y="4716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09480" y="2286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Anticuerpos como sonda para el rastreo de genote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34290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38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3809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716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57400" y="3962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623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623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495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4495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096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02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6483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4876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4800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8108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193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1828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4400" y="129528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rot="12825000">
            <a:off x="38880" y="-17676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190512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828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rot="1731600">
            <a:off x="542160" y="158976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1523880"/>
            <a:ext cx="1981080" cy="838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002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1676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74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051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24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09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95480" y="1905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048120" y="1219320"/>
            <a:ext cx="1371600" cy="38088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9805200">
            <a:off x="4419360" y="685800"/>
            <a:ext cx="99000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0057200">
            <a:off x="4495680" y="76212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 rot="20502600">
            <a:off x="4595040" y="1199520"/>
            <a:ext cx="787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834976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834976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 rot="20118000">
            <a:off x="4721400" y="1285560"/>
            <a:ext cx="610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03" y="1563"/>
                </a:moveTo>
                <a:arcTo wR="10800" hR="10800" stAng="-7272805" swAng="7272805"/>
                <a:lnTo>
                  <a:pt x="10800" y="10800"/>
                </a:lnTo>
                <a:close/>
              </a:path>
              <a:path fill="none" w="21600" h="21600">
                <a:moveTo>
                  <a:pt x="5203" y="1563"/>
                </a:moveTo>
                <a:arcTo wR="10800" hR="10800" stAng="-7272805" swAng="727280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05520" y="17524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1560" y="2200320"/>
            <a:ext cx="1361880" cy="125280"/>
          </a:xfrm>
          <a:custGeom>
            <a:avLst/>
            <a:gdLst/>
            <a:ahLst/>
            <a:rect l="l" t="t" r="r" b="b"/>
            <a:pathLst>
              <a:path w="858" h="79">
                <a:moveTo>
                  <a:pt x="0" y="48"/>
                </a:moveTo>
                <a:cubicBezTo>
                  <a:pt x="55" y="30"/>
                  <a:pt x="22" y="28"/>
                  <a:pt x="48" y="54"/>
                </a:cubicBezTo>
                <a:cubicBezTo>
                  <a:pt x="53" y="59"/>
                  <a:pt x="60" y="62"/>
                  <a:pt x="66" y="66"/>
                </a:cubicBezTo>
                <a:cubicBezTo>
                  <a:pt x="108" y="38"/>
                  <a:pt x="94" y="30"/>
                  <a:pt x="114" y="60"/>
                </a:cubicBezTo>
                <a:cubicBezTo>
                  <a:pt x="122" y="58"/>
                  <a:pt x="130" y="57"/>
                  <a:pt x="138" y="54"/>
                </a:cubicBezTo>
                <a:cubicBezTo>
                  <a:pt x="145" y="51"/>
                  <a:pt x="149" y="43"/>
                  <a:pt x="156" y="42"/>
                </a:cubicBezTo>
                <a:cubicBezTo>
                  <a:pt x="161" y="41"/>
                  <a:pt x="191" y="52"/>
                  <a:pt x="198" y="54"/>
                </a:cubicBezTo>
                <a:cubicBezTo>
                  <a:pt x="223" y="37"/>
                  <a:pt x="234" y="44"/>
                  <a:pt x="258" y="60"/>
                </a:cubicBezTo>
                <a:cubicBezTo>
                  <a:pt x="285" y="55"/>
                  <a:pt x="299" y="44"/>
                  <a:pt x="324" y="36"/>
                </a:cubicBezTo>
                <a:cubicBezTo>
                  <a:pt x="357" y="47"/>
                  <a:pt x="387" y="31"/>
                  <a:pt x="420" y="42"/>
                </a:cubicBezTo>
                <a:cubicBezTo>
                  <a:pt x="445" y="79"/>
                  <a:pt x="416" y="48"/>
                  <a:pt x="480" y="54"/>
                </a:cubicBezTo>
                <a:cubicBezTo>
                  <a:pt x="493" y="55"/>
                  <a:pt x="503" y="68"/>
                  <a:pt x="516" y="72"/>
                </a:cubicBezTo>
                <a:cubicBezTo>
                  <a:pt x="524" y="47"/>
                  <a:pt x="532" y="39"/>
                  <a:pt x="558" y="48"/>
                </a:cubicBezTo>
                <a:cubicBezTo>
                  <a:pt x="602" y="33"/>
                  <a:pt x="582" y="39"/>
                  <a:pt x="618" y="30"/>
                </a:cubicBezTo>
                <a:cubicBezTo>
                  <a:pt x="642" y="42"/>
                  <a:pt x="660" y="54"/>
                  <a:pt x="690" y="48"/>
                </a:cubicBezTo>
                <a:cubicBezTo>
                  <a:pt x="697" y="47"/>
                  <a:pt x="696" y="35"/>
                  <a:pt x="702" y="30"/>
                </a:cubicBezTo>
                <a:cubicBezTo>
                  <a:pt x="707" y="26"/>
                  <a:pt x="714" y="26"/>
                  <a:pt x="720" y="24"/>
                </a:cubicBezTo>
                <a:cubicBezTo>
                  <a:pt x="726" y="28"/>
                  <a:pt x="732" y="41"/>
                  <a:pt x="738" y="36"/>
                </a:cubicBezTo>
                <a:cubicBezTo>
                  <a:pt x="748" y="28"/>
                  <a:pt x="750" y="0"/>
                  <a:pt x="750" y="0"/>
                </a:cubicBezTo>
                <a:cubicBezTo>
                  <a:pt x="792" y="42"/>
                  <a:pt x="748" y="29"/>
                  <a:pt x="822" y="48"/>
                </a:cubicBezTo>
                <a:cubicBezTo>
                  <a:pt x="830" y="46"/>
                  <a:pt x="839" y="47"/>
                  <a:pt x="846" y="42"/>
                </a:cubicBezTo>
                <a:cubicBezTo>
                  <a:pt x="852" y="38"/>
                  <a:pt x="858" y="24"/>
                  <a:pt x="858" y="2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2286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c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24382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2971800"/>
            <a:ext cx="776520" cy="646200"/>
          </a:xfrm>
          <a:custGeom>
            <a:avLst/>
            <a:gdLst/>
            <a:ahLst/>
            <a:rect l="l" t="t" r="r" b="b"/>
            <a:pathLst>
              <a:path w="489" h="407">
                <a:moveTo>
                  <a:pt x="58" y="132"/>
                </a:moveTo>
                <a:cubicBezTo>
                  <a:pt x="36" y="88"/>
                  <a:pt x="29" y="18"/>
                  <a:pt x="82" y="0"/>
                </a:cubicBezTo>
                <a:cubicBezTo>
                  <a:pt x="91" y="18"/>
                  <a:pt x="110" y="44"/>
                  <a:pt x="88" y="66"/>
                </a:cubicBezTo>
                <a:cubicBezTo>
                  <a:pt x="78" y="76"/>
                  <a:pt x="60" y="70"/>
                  <a:pt x="46" y="72"/>
                </a:cubicBezTo>
                <a:cubicBezTo>
                  <a:pt x="9" y="91"/>
                  <a:pt x="0" y="123"/>
                  <a:pt x="46" y="138"/>
                </a:cubicBezTo>
                <a:cubicBezTo>
                  <a:pt x="70" y="130"/>
                  <a:pt x="94" y="128"/>
                  <a:pt x="118" y="120"/>
                </a:cubicBezTo>
                <a:cubicBezTo>
                  <a:pt x="134" y="71"/>
                  <a:pt x="155" y="58"/>
                  <a:pt x="202" y="42"/>
                </a:cubicBezTo>
                <a:cubicBezTo>
                  <a:pt x="231" y="128"/>
                  <a:pt x="207" y="114"/>
                  <a:pt x="136" y="120"/>
                </a:cubicBezTo>
                <a:cubicBezTo>
                  <a:pt x="126" y="159"/>
                  <a:pt x="122" y="234"/>
                  <a:pt x="148" y="270"/>
                </a:cubicBezTo>
                <a:cubicBezTo>
                  <a:pt x="160" y="286"/>
                  <a:pt x="177" y="299"/>
                  <a:pt x="196" y="306"/>
                </a:cubicBezTo>
                <a:cubicBezTo>
                  <a:pt x="219" y="315"/>
                  <a:pt x="268" y="318"/>
                  <a:pt x="268" y="318"/>
                </a:cubicBezTo>
                <a:cubicBezTo>
                  <a:pt x="345" y="313"/>
                  <a:pt x="367" y="333"/>
                  <a:pt x="388" y="270"/>
                </a:cubicBezTo>
                <a:cubicBezTo>
                  <a:pt x="384" y="238"/>
                  <a:pt x="390" y="203"/>
                  <a:pt x="376" y="174"/>
                </a:cubicBezTo>
                <a:cubicBezTo>
                  <a:pt x="371" y="163"/>
                  <a:pt x="352" y="168"/>
                  <a:pt x="340" y="168"/>
                </a:cubicBezTo>
                <a:cubicBezTo>
                  <a:pt x="310" y="168"/>
                  <a:pt x="280" y="172"/>
                  <a:pt x="250" y="174"/>
                </a:cubicBezTo>
                <a:cubicBezTo>
                  <a:pt x="234" y="179"/>
                  <a:pt x="206" y="188"/>
                  <a:pt x="196" y="198"/>
                </a:cubicBezTo>
                <a:cubicBezTo>
                  <a:pt x="190" y="204"/>
                  <a:pt x="192" y="214"/>
                  <a:pt x="190" y="222"/>
                </a:cubicBezTo>
                <a:cubicBezTo>
                  <a:pt x="186" y="234"/>
                  <a:pt x="178" y="258"/>
                  <a:pt x="178" y="258"/>
                </a:cubicBezTo>
                <a:cubicBezTo>
                  <a:pt x="182" y="274"/>
                  <a:pt x="180" y="293"/>
                  <a:pt x="190" y="306"/>
                </a:cubicBezTo>
                <a:cubicBezTo>
                  <a:pt x="237" y="372"/>
                  <a:pt x="333" y="387"/>
                  <a:pt x="406" y="396"/>
                </a:cubicBezTo>
                <a:cubicBezTo>
                  <a:pt x="430" y="392"/>
                  <a:pt x="470" y="407"/>
                  <a:pt x="478" y="384"/>
                </a:cubicBezTo>
                <a:cubicBezTo>
                  <a:pt x="489" y="352"/>
                  <a:pt x="464" y="314"/>
                  <a:pt x="442" y="288"/>
                </a:cubicBezTo>
                <a:cubicBezTo>
                  <a:pt x="346" y="173"/>
                  <a:pt x="343" y="179"/>
                  <a:pt x="250" y="156"/>
                </a:cubicBezTo>
                <a:cubicBezTo>
                  <a:pt x="225" y="131"/>
                  <a:pt x="222" y="128"/>
                  <a:pt x="238" y="96"/>
                </a:cubicBezTo>
                <a:cubicBezTo>
                  <a:pt x="252" y="98"/>
                  <a:pt x="309" y="110"/>
                  <a:pt x="268" y="138"/>
                </a:cubicBezTo>
                <a:cubicBezTo>
                  <a:pt x="238" y="158"/>
                  <a:pt x="196" y="147"/>
                  <a:pt x="160" y="150"/>
                </a:cubicBezTo>
                <a:cubicBezTo>
                  <a:pt x="138" y="164"/>
                  <a:pt x="121" y="172"/>
                  <a:pt x="112" y="198"/>
                </a:cubicBezTo>
                <a:cubicBezTo>
                  <a:pt x="105" y="285"/>
                  <a:pt x="116" y="282"/>
                  <a:pt x="34" y="2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055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81952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971800" y="3352680"/>
            <a:ext cx="1828800" cy="60984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5257800"/>
            <a:ext cx="0" cy="12193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525780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14600" y="525780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819520" y="525744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819520" y="525744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54100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200400" y="54097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2004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040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47242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200400" y="47239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2004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66680" y="6705720"/>
            <a:ext cx="1981440" cy="8380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71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72388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38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28800" y="68580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337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623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4600" y="72388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731520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73152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73915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7180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057400" y="67035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6858000"/>
            <a:ext cx="228600" cy="22860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rco de le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05520" y="78487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434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6708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3848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rot="12825000">
            <a:off x="316296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38480" y="81532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7220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rot="1731600">
            <a:off x="3666960" y="783756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9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42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956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7924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62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62720" y="8305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814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292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76920" y="8381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4120" y="8458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913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10080" y="61722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247800">
            <a:off x="5484960" y="62481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0680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068037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 rot="10665000">
            <a:off x="5489280" y="616500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0269600">
            <a:off x="5571720" y="6231240"/>
            <a:ext cx="55656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55" y="1783"/>
                </a:moveTo>
                <a:arcTo wR="10800" hR="10800" stAng="-7403787" swAng="7508120"/>
                <a:lnTo>
                  <a:pt x="10800" y="10800"/>
                </a:lnTo>
                <a:close/>
              </a:path>
              <a:path fill="none" w="21600" h="21600">
                <a:moveTo>
                  <a:pt x="4855" y="1783"/>
                </a:moveTo>
                <a:arcTo wR="10800" hR="10800" stAng="-7403787" swAng="750812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85440" y="7012080"/>
            <a:ext cx="5942880" cy="18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275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27501"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5181480" y="6781680"/>
            <a:ext cx="76320" cy="99072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334120" y="7162920"/>
            <a:ext cx="838080" cy="38088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28600" y="228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romosome wal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4099680" y="547920"/>
            <a:ext cx="1825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4823640" y="509760"/>
            <a:ext cx="18252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876920" y="837720"/>
            <a:ext cx="75960" cy="182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00600" y="838080"/>
            <a:ext cx="2286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29200" y="10666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1600200"/>
            <a:ext cx="43434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1600200"/>
            <a:ext cx="167616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8320" y="838080"/>
            <a:ext cx="0" cy="15264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218960" y="9907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1828800"/>
            <a:ext cx="22860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"/>
          <p:cNvCxnSpPr/>
          <p:nvPr/>
        </p:nvCxnSpPr>
        <p:spPr>
          <a:xfrm flipH="1" rot="16200000">
            <a:off x="2018160" y="16380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38" name=""/>
          <p:cNvSpPr/>
          <p:nvPr/>
        </p:nvSpPr>
        <p:spPr>
          <a:xfrm>
            <a:off x="1371600" y="1600200"/>
            <a:ext cx="7621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71800" y="1600200"/>
            <a:ext cx="68580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7600" y="1600200"/>
            <a:ext cx="83808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1600200"/>
            <a:ext cx="76212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33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290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053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32240" y="2416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1460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9092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4320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60440" y="19810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20574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46240" y="25146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08440" y="25653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95480" y="20700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59200" y="21207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27687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27560" y="28195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2666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8320" y="2743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2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6120" y="2340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2362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38480" y="24382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19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24382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5288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9908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48320" y="27432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470480" y="24382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32320" y="24890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9940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83080" y="20448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26924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1440" y="27432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09680" y="160020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167652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66680" y="2895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971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66680" y="290844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30400" y="295920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43000" y="3352680"/>
            <a:ext cx="53352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3352680"/>
            <a:ext cx="53316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4640" y="2050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rastreo genotecagenó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"/>
          <p:cNvCxnSpPr/>
          <p:nvPr/>
        </p:nvCxnSpPr>
        <p:spPr>
          <a:xfrm flipH="1" rot="16200000">
            <a:off x="4953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05" name=""/>
          <p:cNvCxnSpPr/>
          <p:nvPr/>
        </p:nvCxnSpPr>
        <p:spPr>
          <a:xfrm flipH="1" rot="16200000">
            <a:off x="25527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1981080" y="3733920"/>
            <a:ext cx="228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4191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4203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97080" y="42544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432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4191120"/>
            <a:ext cx="30456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419112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434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/>
          <p:nvPr/>
        </p:nvCxnSpPr>
        <p:spPr>
          <a:xfrm flipH="1" rot="16200000">
            <a:off x="26287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17" name=""/>
          <p:cNvCxnSpPr/>
          <p:nvPr/>
        </p:nvCxnSpPr>
        <p:spPr>
          <a:xfrm flipH="1" rot="16200000">
            <a:off x="46861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18" name=""/>
          <p:cNvSpPr/>
          <p:nvPr/>
        </p:nvSpPr>
        <p:spPr>
          <a:xfrm>
            <a:off x="4114800" y="4572000"/>
            <a:ext cx="22860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86200" y="5181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5257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86200" y="5194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49560" y="5245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5257800"/>
            <a:ext cx="30456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81480" y="5257800"/>
            <a:ext cx="76212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9436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5000" y="5638680"/>
            <a:ext cx="2286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38480" y="4495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/>
          <p:nvPr/>
        </p:nvCxnSpPr>
        <p:spPr>
          <a:xfrm flipH="1" rot="16200000">
            <a:off x="62863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19920" y="548640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5562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5943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clone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3657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astreos suce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 flipH="1" rot="16200000">
            <a:off x="42289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6" name=""/>
          <p:cNvCxnSpPr/>
          <p:nvPr/>
        </p:nvCxnSpPr>
        <p:spPr>
          <a:xfrm flipH="1" rot="16200000">
            <a:off x="4381560" y="54482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914400" y="6934320"/>
            <a:ext cx="10666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/>
          <p:nvPr/>
        </p:nvCxnSpPr>
        <p:spPr>
          <a:xfrm flipH="1" rot="16200000">
            <a:off x="4179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9" name=""/>
          <p:cNvCxnSpPr/>
          <p:nvPr/>
        </p:nvCxnSpPr>
        <p:spPr>
          <a:xfrm flipH="1" rot="16200000">
            <a:off x="24753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3657600" y="6934320"/>
            <a:ext cx="12193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/>
          <p:nvPr/>
        </p:nvCxnSpPr>
        <p:spPr>
          <a:xfrm flipH="1" rot="16200000">
            <a:off x="3009960" y="70484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2" name=""/>
          <p:cNvSpPr/>
          <p:nvPr/>
        </p:nvSpPr>
        <p:spPr>
          <a:xfrm>
            <a:off x="1066680" y="7391520"/>
            <a:ext cx="83844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09880" y="7391520"/>
            <a:ext cx="914400" cy="15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/>
          <p:nvPr/>
        </p:nvCxnSpPr>
        <p:spPr>
          <a:xfrm flipH="1" rot="16200000">
            <a:off x="3009960" y="75056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5" name=""/>
          <p:cNvSpPr/>
          <p:nvPr/>
        </p:nvSpPr>
        <p:spPr>
          <a:xfrm>
            <a:off x="160020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9112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8305920"/>
            <a:ext cx="1295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/>
          <p:nvPr/>
        </p:nvCxnSpPr>
        <p:spPr>
          <a:xfrm flipH="1" rot="16200000">
            <a:off x="2475360" y="83437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3809880" y="830592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114440" y="8229600"/>
            <a:ext cx="152280" cy="2286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8305920"/>
            <a:ext cx="152280" cy="152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324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 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gen mu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743200" y="137160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7432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45720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29000" y="137160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9000" y="45720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90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520" y="411480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3520" y="320040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219320" y="411480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320040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0968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9548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9548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8620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620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419112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562720" y="327672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48520" y="419112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48520" y="327672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5446200">
            <a:off x="188280" y="4838400"/>
            <a:ext cx="99072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6121400">
            <a:off x="2057040" y="342828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125600">
            <a:off x="5522760" y="3312360"/>
            <a:ext cx="38124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5446200">
            <a:off x="3729960" y="510372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45720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2280" y="3200400"/>
            <a:ext cx="38124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457200"/>
            <a:ext cx="5493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5446200">
            <a:off x="875880" y="4838760"/>
            <a:ext cx="99072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121400">
            <a:off x="2742840" y="3428280"/>
            <a:ext cx="60948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5446200">
            <a:off x="4419000" y="5105160"/>
            <a:ext cx="60984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6125600">
            <a:off x="6210360" y="3314520"/>
            <a:ext cx="38088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23880" y="3276720"/>
            <a:ext cx="54936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838080" y="44193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38080" y="4419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191120" y="4876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91120" y="48769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8128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57800" y="3276720"/>
            <a:ext cx="30492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0040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6920" y="3276720"/>
            <a:ext cx="3045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43200" y="228600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193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5627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476280" y="755640"/>
            <a:ext cx="63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Herramientas genéticas para el rastreo de 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78160" y="5105520"/>
            <a:ext cx="38088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92560" y="5181480"/>
            <a:ext cx="3045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759040" y="5334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8764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25520" y="5867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73240" y="6172200"/>
            <a:ext cx="3049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73440" y="6172200"/>
            <a:ext cx="304920" cy="304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35360" y="609588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255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8764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257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11520" y="609588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78360" y="6324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82920" y="6324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54320" y="662940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781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2925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969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75904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971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115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054320" y="7086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6720" y="7772400"/>
            <a:ext cx="60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dentificación de marcador genético ligado al gen responsable del fen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164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1640" y="6553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44640" y="5105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25720" y="5105520"/>
            <a:ext cx="609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78160" y="2743200"/>
            <a:ext cx="1522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78160" y="3429000"/>
            <a:ext cx="1522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82720" y="3429000"/>
            <a:ext cx="1526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78160" y="3886200"/>
            <a:ext cx="152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0184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0676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82720" y="2743200"/>
            <a:ext cx="15264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11320" y="2819520"/>
            <a:ext cx="609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49760" y="2743200"/>
            <a:ext cx="761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 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 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  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978360" y="7391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87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444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446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82720" y="6781680"/>
            <a:ext cx="685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82920" y="28195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genotipific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3556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apl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9360" y="457200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ligamiento gen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04840" y="2814480"/>
            <a:ext cx="381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004840" y="3751200"/>
            <a:ext cx="122400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922320" y="46836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tura de genes (Gene tra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5000" y="1187280"/>
            <a:ext cx="568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Basado en la integración 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l azar</a:t>
            </a: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 de un gen reportero y un marcador de selección en el genoma con en propósito de interrumpir un gen, alterar un fenotipo y conducir a su iden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33720" y="4788000"/>
            <a:ext cx="302580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49360" y="5003640"/>
            <a:ext cx="2592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492280" y="3922560"/>
            <a:ext cx="1224000" cy="217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16280" y="3922560"/>
            <a:ext cx="506520" cy="217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76640" y="406728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005000" y="4067280"/>
            <a:ext cx="71892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04640" y="3276720"/>
            <a:ext cx="14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Gen report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sin pro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49320" y="334800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Ge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28560" y="579600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ector de inte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59720" y="43560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e Pol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044600">
            <a:off x="2270880" y="3918600"/>
            <a:ext cx="218880" cy="2206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21000" y="3922560"/>
            <a:ext cx="36036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4546440" y="3957480"/>
            <a:ext cx="214560" cy="144720"/>
          </a:xfrm>
          <a:prstGeom prst="triangle">
            <a:avLst>
              <a:gd name="adj" fmla="val 496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92640" y="4067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6720" y="3851280"/>
            <a:ext cx="135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acep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560" y="3706920"/>
            <a:ext cx="14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on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276720"/>
            <a:ext cx="5867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STRUCCION DE 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LONAMIENTO DE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ARACTERIZACION DE C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0948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PITULO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L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rcRect l="0" t="21866" r="70569" b="60954"/>
          <a:stretch/>
        </p:blipFill>
        <p:spPr>
          <a:xfrm>
            <a:off x="2205000" y="2050920"/>
            <a:ext cx="1081080" cy="79236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/>
          <a:srcRect l="-25458" t="0" r="0" b="75010"/>
          <a:stretch/>
        </p:blipFill>
        <p:spPr>
          <a:xfrm>
            <a:off x="981000" y="539640"/>
            <a:ext cx="4606920" cy="115272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 flipH="1">
            <a:off x="764640" y="1260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481920" y="2282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92280" y="2340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 2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3"/>
          <a:srcRect l="0" t="39057" r="0" b="31268"/>
          <a:stretch/>
        </p:blipFill>
        <p:spPr>
          <a:xfrm>
            <a:off x="1557360" y="3203640"/>
            <a:ext cx="3672000" cy="136836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 flipH="1">
            <a:off x="404280" y="3995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4"/>
          <a:srcRect l="0" t="67191" r="58843" b="18805"/>
          <a:stretch/>
        </p:blipFill>
        <p:spPr>
          <a:xfrm>
            <a:off x="2492280" y="5003640"/>
            <a:ext cx="1511280" cy="64620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4070520" y="514836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“atrap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usión entre el gen endóge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y los genes del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379320" y="6127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60640" y="1763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13400" y="320364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con inserción del reportero y 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620160" y="118728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tr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08200" y="140328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a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748960" y="1403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do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3212640" y="12585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4724280" y="1258920"/>
            <a:ext cx="144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33720" y="4500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30760" y="5364000"/>
            <a:ext cx="641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sibilidades de la técn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r un gen 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islar 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ar el patrón de expresión tisular d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eneración de mutante con el gen in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90360" y="241128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secu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marcador de selección bajo 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 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gen reportero bajo el control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presión de la expresión del producto génic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algunos casos, alteración “detectable” del feno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04920" y="3808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Uso de sonda de DNA para la 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80880" y="1905120"/>
            <a:ext cx="152640" cy="99036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39866">
                <a:moveTo>
                  <a:pt x="3600" y="0"/>
                </a:moveTo>
                <a:arcTo wR="3600" hR="3600" stAng="16200000" swAng="-5400000"/>
                <a:lnTo>
                  <a:pt x="0" y="136266"/>
                </a:lnTo>
                <a:arcTo wR="3600" hR="3600" stAng="10800000" swAng="-5400000"/>
                <a:lnTo>
                  <a:pt x="18000" y="139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2895480"/>
            <a:ext cx="152640" cy="99072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39917">
                <a:moveTo>
                  <a:pt x="3600" y="0"/>
                </a:moveTo>
                <a:arcTo wR="3600" hR="3600" stAng="16200000" swAng="-5400000"/>
                <a:lnTo>
                  <a:pt x="0" y="136317"/>
                </a:lnTo>
                <a:arcTo wR="3600" hR="3600" stAng="10800000" swAng="-5400000"/>
                <a:lnTo>
                  <a:pt x="18000" y="139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62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193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193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6765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765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76520" y="1905120"/>
            <a:ext cx="152280" cy="6858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"/>
              <a:gd name="textAreaBottom" fmla="*/ 678600 h 685800"/>
            </a:gdLst>
            <a:ahLst/>
            <a:rect l="textAreaLeft" t="textAreaTop" r="textAreaRight" b="textAreaBottom"/>
            <a:pathLst>
              <a:path w="21600" h="97098">
                <a:moveTo>
                  <a:pt x="3600" y="0"/>
                </a:moveTo>
                <a:arcTo wR="3600" hR="3600" stAng="16200000" swAng="-5400000"/>
                <a:lnTo>
                  <a:pt x="0" y="93498"/>
                </a:lnTo>
                <a:arcTo wR="3600" hR="3600" stAng="10800000" swAng="-5400000"/>
                <a:lnTo>
                  <a:pt x="18000" y="97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2120" y="190512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219320" y="1905120"/>
            <a:ext cx="152280" cy="3045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304560"/>
              <a:gd name="textAreaBottom" fmla="*/ 297360 h 304560"/>
            </a:gdLst>
            <a:ahLst/>
            <a:rect l="textAreaLeft" t="textAreaTop" r="textAreaRight" b="textAreaBottom"/>
            <a:pathLst>
              <a:path w="21600" h="43149">
                <a:moveTo>
                  <a:pt x="3600" y="0"/>
                </a:moveTo>
                <a:arcTo wR="3600" hR="3600" stAng="16200000" swAng="-5400000"/>
                <a:lnTo>
                  <a:pt x="0" y="39549"/>
                </a:lnTo>
                <a:arcTo wR="3600" hR="3600" stAng="10800000" swAng="-5400000"/>
                <a:lnTo>
                  <a:pt x="18000" y="43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5146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048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48120" y="2895480"/>
            <a:ext cx="152280" cy="457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64749">
                <a:moveTo>
                  <a:pt x="3600" y="0"/>
                </a:moveTo>
                <a:arcTo wR="3600" hR="3600" stAng="16200000" swAng="-5400000"/>
                <a:lnTo>
                  <a:pt x="0" y="61149"/>
                </a:lnTo>
                <a:arcTo wR="3600" hR="3600" stAng="10800000" swAng="-5400000"/>
                <a:lnTo>
                  <a:pt x="18000" y="64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2895480"/>
            <a:ext cx="152280" cy="1526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52640"/>
              <a:gd name="textAreaBottom" fmla="*/ 145440 h 152640"/>
            </a:gdLst>
            <a:ahLst/>
            <a:rect l="textAreaLeft" t="textAreaTop" r="textAreaRight" b="textAreaBottom"/>
            <a:pathLst>
              <a:path w="21600" h="21651">
                <a:moveTo>
                  <a:pt x="3600" y="0"/>
                </a:moveTo>
                <a:arcTo wR="3600" hR="3600" stAng="16200000" swAng="-5400000"/>
                <a:lnTo>
                  <a:pt x="0" y="18051"/>
                </a:lnTo>
                <a:arcTo wR="3600" hR="3600" stAng="10800000" swAng="-5400000"/>
                <a:lnTo>
                  <a:pt x="18000" y="21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290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429000" y="2895480"/>
            <a:ext cx="152280" cy="7621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762120"/>
              <a:gd name="textAreaBottom" fmla="*/ 754920 h 762120"/>
            </a:gdLst>
            <a:ahLst/>
            <a:rect l="textAreaLeft" t="textAreaTop" r="textAreaRight" b="textAreaBottom"/>
            <a:pathLst>
              <a:path w="21600" h="107898">
                <a:moveTo>
                  <a:pt x="3600" y="0"/>
                </a:moveTo>
                <a:arcTo wR="3600" hR="3600" stAng="16200000" swAng="-5400000"/>
                <a:lnTo>
                  <a:pt x="0" y="104298"/>
                </a:lnTo>
                <a:arcTo wR="3600" hR="3600" stAng="10800000" swAng="-5400000"/>
                <a:lnTo>
                  <a:pt x="18000" y="107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86200" y="22096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romosomas híbridos hamster- hum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0880" y="4038480"/>
            <a:ext cx="3429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62520" y="3962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 con mar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00200" y="2514600"/>
            <a:ext cx="304920" cy="3808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04920" y="3962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ahoma"/>
              </a:rPr>
              <a:t>+  +   +   +    -    - 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752480" y="3733920"/>
            <a:ext cx="152640" cy="1295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447920" y="5867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5943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47920" y="52578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53341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590920" y="5181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93800" y="5311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666880" y="5334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76520" y="54100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752480" y="5410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4952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81080" y="5486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90920" y="54864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66880" y="5562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4640" y="5867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23880" y="5943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108160" y="5410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70000" y="54608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057400" y="49658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20760" y="50166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666880" y="566424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589120" y="57150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2900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teca cromos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43400" y="56386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48320" y="571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st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971800" y="6477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dentificación del gen cl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457200" y="22860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Construcción de genotecas “enriquecidas” en un cDNA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33520" y="15238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66680" y="167652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29492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144756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142640" y="11430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52480" y="1066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stímulo para la expresión de un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523880" y="1676160"/>
            <a:ext cx="1828800" cy="7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523880" y="1752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81280" y="2057400"/>
            <a:ext cx="2362320" cy="76320"/>
          </a:xfrm>
          <a:custGeom>
            <a:avLst/>
            <a:gdLst/>
            <a:ahLst/>
            <a:rect l="l" t="t" r="r" b="b"/>
            <a:pathLst>
              <a:path w="1008" h="67">
                <a:moveTo>
                  <a:pt x="24" y="50"/>
                </a:moveTo>
                <a:cubicBezTo>
                  <a:pt x="120" y="18"/>
                  <a:pt x="0" y="50"/>
                  <a:pt x="96" y="50"/>
                </a:cubicBezTo>
                <a:cubicBezTo>
                  <a:pt x="144" y="50"/>
                  <a:pt x="192" y="42"/>
                  <a:pt x="240" y="38"/>
                </a:cubicBezTo>
                <a:cubicBezTo>
                  <a:pt x="308" y="46"/>
                  <a:pt x="376" y="67"/>
                  <a:pt x="444" y="62"/>
                </a:cubicBezTo>
                <a:cubicBezTo>
                  <a:pt x="469" y="60"/>
                  <a:pt x="516" y="38"/>
                  <a:pt x="516" y="38"/>
                </a:cubicBezTo>
                <a:cubicBezTo>
                  <a:pt x="552" y="42"/>
                  <a:pt x="588" y="44"/>
                  <a:pt x="624" y="50"/>
                </a:cubicBezTo>
                <a:cubicBezTo>
                  <a:pt x="636" y="52"/>
                  <a:pt x="647" y="62"/>
                  <a:pt x="660" y="62"/>
                </a:cubicBezTo>
                <a:cubicBezTo>
                  <a:pt x="713" y="62"/>
                  <a:pt x="764" y="44"/>
                  <a:pt x="816" y="38"/>
                </a:cubicBezTo>
                <a:cubicBezTo>
                  <a:pt x="828" y="26"/>
                  <a:pt x="835" y="5"/>
                  <a:pt x="852" y="2"/>
                </a:cubicBezTo>
                <a:cubicBezTo>
                  <a:pt x="866" y="0"/>
                  <a:pt x="875" y="20"/>
                  <a:pt x="888" y="26"/>
                </a:cubicBezTo>
                <a:cubicBezTo>
                  <a:pt x="930" y="47"/>
                  <a:pt x="958" y="38"/>
                  <a:pt x="100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5812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2670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28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6576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3434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0292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57600" y="1447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81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365760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733920" y="2514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04920" y="2819520"/>
            <a:ext cx="5943600" cy="61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islar polisomas (centrifugación deferenc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Extraer mRNA de fracción poliso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Síntesis de 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rcRect l="13228" t="26481" r="26463" b="46651"/>
          <a:stretch/>
        </p:blipFill>
        <p:spPr>
          <a:xfrm>
            <a:off x="3594240" y="5219640"/>
            <a:ext cx="2952720" cy="230364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941640" y="489888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ferior                  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333360" y="3995640"/>
            <a:ext cx="2190600" cy="204804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3"/>
          </p:cNvPr>
          <p:cNvPicPr/>
          <p:nvPr/>
        </p:nvPicPr>
        <p:blipFill>
          <a:blip r:embed="rId4"/>
          <a:srcRect l="59127" t="18704" r="18141" b="270"/>
          <a:stretch/>
        </p:blipFill>
        <p:spPr>
          <a:xfrm>
            <a:off x="3068640" y="3708360"/>
            <a:ext cx="360360" cy="93492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3357720" y="464328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00280" y="3780000"/>
            <a:ext cx="2665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4572000" y="3206880"/>
            <a:ext cx="200160" cy="1062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057640" y="3043080"/>
            <a:ext cx="285840" cy="10980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876920" y="335916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05120" y="32828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724280" y="351144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14600" y="320688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3054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71800" y="3359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14600" y="358776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335916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48120" y="46544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8120" y="473076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81280" y="4502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3048120" y="358704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57848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09880" y="4197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9880" y="4121280"/>
            <a:ext cx="433440" cy="15372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67080" y="4654440"/>
            <a:ext cx="476280" cy="185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419724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427356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29000" y="3587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809880" y="343548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3733920" y="503496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05320" y="4807080"/>
            <a:ext cx="6858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048120" y="4120920"/>
            <a:ext cx="144756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76720" y="3968640"/>
            <a:ext cx="129528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19840" y="2384280"/>
            <a:ext cx="596880" cy="2448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86240" y="242244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72120" y="253692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38880" y="257508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229248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66680" y="19875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20638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19320" y="22161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23880" y="2292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38080" y="229248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143000" y="2368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800240" y="2901960"/>
            <a:ext cx="314280" cy="24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76520" y="244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57800" y="3130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05120" y="25970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562720" y="23684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438280" y="290196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819520" y="183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u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1523520" y="17589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59984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121896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8600" y="2521080"/>
            <a:ext cx="137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+ estím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638680" y="25970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9880" y="54928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590920" y="5950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onar cDNA sustraí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4191120" y="2133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267080" y="2209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194000" y="2263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67080" y="2286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191120" y="2438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267080" y="26161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189320" y="26668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334120" y="25146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410080" y="25909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64832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9132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718240" y="2187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91320" y="2209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0060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7692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1480" y="18288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57800" y="19051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0292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055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15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91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60840" y="2514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41008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232240" y="22860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94440" y="23367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81480" y="18414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245200" y="18921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791320" y="25401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13560" y="25909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8006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71600" y="3809880"/>
            <a:ext cx="20016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57240" y="3646440"/>
            <a:ext cx="285840" cy="10944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76520" y="396252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23880" y="411480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219320" y="396252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76520" y="3809880"/>
            <a:ext cx="19980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219320" y="3657600"/>
            <a:ext cx="31896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16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76520" y="4267080"/>
            <a:ext cx="318960" cy="93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66680" y="419112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7652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11080" y="4997520"/>
            <a:ext cx="274680" cy="330120"/>
          </a:xfrm>
          <a:custGeom>
            <a:avLst/>
            <a:gdLst/>
            <a:ahLst/>
            <a:rect l="l" t="t" r="r" b="b"/>
            <a:pathLst>
              <a:path w="173" h="208">
                <a:moveTo>
                  <a:pt x="139" y="164"/>
                </a:moveTo>
                <a:cubicBezTo>
                  <a:pt x="117" y="102"/>
                  <a:pt x="122" y="70"/>
                  <a:pt x="129" y="0"/>
                </a:cubicBezTo>
                <a:cubicBezTo>
                  <a:pt x="138" y="6"/>
                  <a:pt x="151" y="9"/>
                  <a:pt x="157" y="18"/>
                </a:cubicBezTo>
                <a:cubicBezTo>
                  <a:pt x="166" y="31"/>
                  <a:pt x="173" y="89"/>
                  <a:pt x="157" y="100"/>
                </a:cubicBezTo>
                <a:cubicBezTo>
                  <a:pt x="137" y="113"/>
                  <a:pt x="108" y="106"/>
                  <a:pt x="84" y="109"/>
                </a:cubicBezTo>
                <a:cubicBezTo>
                  <a:pt x="60" y="118"/>
                  <a:pt x="27" y="116"/>
                  <a:pt x="11" y="136"/>
                </a:cubicBezTo>
                <a:cubicBezTo>
                  <a:pt x="0" y="151"/>
                  <a:pt x="6" y="179"/>
                  <a:pt x="20" y="191"/>
                </a:cubicBezTo>
                <a:cubicBezTo>
                  <a:pt x="32" y="201"/>
                  <a:pt x="51" y="185"/>
                  <a:pt x="66" y="182"/>
                </a:cubicBezTo>
                <a:cubicBezTo>
                  <a:pt x="72" y="173"/>
                  <a:pt x="81" y="165"/>
                  <a:pt x="84" y="155"/>
                </a:cubicBezTo>
                <a:cubicBezTo>
                  <a:pt x="100" y="107"/>
                  <a:pt x="84" y="74"/>
                  <a:pt x="102" y="127"/>
                </a:cubicBezTo>
                <a:cubicBezTo>
                  <a:pt x="105" y="151"/>
                  <a:pt x="99" y="179"/>
                  <a:pt x="111" y="200"/>
                </a:cubicBezTo>
                <a:cubicBezTo>
                  <a:pt x="116" y="208"/>
                  <a:pt x="134" y="200"/>
                  <a:pt x="139" y="191"/>
                </a:cubicBezTo>
                <a:cubicBezTo>
                  <a:pt x="151" y="169"/>
                  <a:pt x="157" y="118"/>
                  <a:pt x="157" y="118"/>
                </a:cubicBezTo>
                <a:cubicBezTo>
                  <a:pt x="145" y="115"/>
                  <a:pt x="132" y="113"/>
                  <a:pt x="120" y="109"/>
                </a:cubicBezTo>
                <a:cubicBezTo>
                  <a:pt x="102" y="104"/>
                  <a:pt x="66" y="91"/>
                  <a:pt x="66" y="91"/>
                </a:cubicBezTo>
                <a:cubicBezTo>
                  <a:pt x="69" y="73"/>
                  <a:pt x="65" y="51"/>
                  <a:pt x="75" y="36"/>
                </a:cubicBezTo>
                <a:cubicBezTo>
                  <a:pt x="80" y="28"/>
                  <a:pt x="86" y="54"/>
                  <a:pt x="84" y="64"/>
                </a:cubicBezTo>
                <a:cubicBezTo>
                  <a:pt x="82" y="75"/>
                  <a:pt x="74" y="83"/>
                  <a:pt x="66" y="91"/>
                </a:cubicBezTo>
                <a:cubicBezTo>
                  <a:pt x="58" y="99"/>
                  <a:pt x="47" y="102"/>
                  <a:pt x="38" y="109"/>
                </a:cubicBezTo>
                <a:cubicBezTo>
                  <a:pt x="28" y="117"/>
                  <a:pt x="20" y="127"/>
                  <a:pt x="11" y="136"/>
                </a:cubicBezTo>
                <a:cubicBezTo>
                  <a:pt x="14" y="145"/>
                  <a:pt x="11" y="160"/>
                  <a:pt x="20" y="164"/>
                </a:cubicBezTo>
                <a:cubicBezTo>
                  <a:pt x="52" y="177"/>
                  <a:pt x="64" y="144"/>
                  <a:pt x="75" y="127"/>
                </a:cubicBezTo>
                <a:cubicBezTo>
                  <a:pt x="82" y="97"/>
                  <a:pt x="88" y="69"/>
                  <a:pt x="111" y="4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30280" y="5070600"/>
            <a:ext cx="379440" cy="287280"/>
          </a:xfrm>
          <a:custGeom>
            <a:avLst/>
            <a:gdLst/>
            <a:ahLst/>
            <a:rect l="l" t="t" r="r" b="b"/>
            <a:pathLst>
              <a:path w="239" h="181">
                <a:moveTo>
                  <a:pt x="76" y="54"/>
                </a:moveTo>
                <a:cubicBezTo>
                  <a:pt x="67" y="57"/>
                  <a:pt x="56" y="56"/>
                  <a:pt x="49" y="63"/>
                </a:cubicBezTo>
                <a:cubicBezTo>
                  <a:pt x="0" y="112"/>
                  <a:pt x="59" y="118"/>
                  <a:pt x="94" y="127"/>
                </a:cubicBezTo>
                <a:cubicBezTo>
                  <a:pt x="103" y="124"/>
                  <a:pt x="116" y="126"/>
                  <a:pt x="121" y="118"/>
                </a:cubicBezTo>
                <a:cubicBezTo>
                  <a:pt x="132" y="102"/>
                  <a:pt x="121" y="69"/>
                  <a:pt x="139" y="63"/>
                </a:cubicBezTo>
                <a:cubicBezTo>
                  <a:pt x="148" y="60"/>
                  <a:pt x="158" y="57"/>
                  <a:pt x="167" y="54"/>
                </a:cubicBezTo>
                <a:cubicBezTo>
                  <a:pt x="213" y="69"/>
                  <a:pt x="191" y="53"/>
                  <a:pt x="167" y="90"/>
                </a:cubicBezTo>
                <a:cubicBezTo>
                  <a:pt x="162" y="98"/>
                  <a:pt x="148" y="117"/>
                  <a:pt x="158" y="118"/>
                </a:cubicBezTo>
                <a:cubicBezTo>
                  <a:pt x="185" y="122"/>
                  <a:pt x="212" y="106"/>
                  <a:pt x="239" y="100"/>
                </a:cubicBezTo>
                <a:cubicBezTo>
                  <a:pt x="226" y="23"/>
                  <a:pt x="230" y="25"/>
                  <a:pt x="158" y="54"/>
                </a:cubicBezTo>
                <a:cubicBezTo>
                  <a:pt x="141" y="70"/>
                  <a:pt x="134" y="89"/>
                  <a:pt x="112" y="54"/>
                </a:cubicBezTo>
                <a:cubicBezTo>
                  <a:pt x="102" y="38"/>
                  <a:pt x="94" y="0"/>
                  <a:pt x="94" y="0"/>
                </a:cubicBezTo>
                <a:cubicBezTo>
                  <a:pt x="3" y="30"/>
                  <a:pt x="16" y="142"/>
                  <a:pt x="94" y="181"/>
                </a:cubicBezTo>
                <a:cubicBezTo>
                  <a:pt x="126" y="133"/>
                  <a:pt x="103" y="100"/>
                  <a:pt x="76" y="54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25640" y="473868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074600" y="5343480"/>
            <a:ext cx="335160" cy="217440"/>
          </a:xfrm>
          <a:custGeom>
            <a:avLst/>
            <a:gdLst/>
            <a:ahLst/>
            <a:rect l="l" t="t" r="r" b="b"/>
            <a:pathLst>
              <a:path w="211" h="137">
                <a:moveTo>
                  <a:pt x="154" y="0"/>
                </a:moveTo>
                <a:cubicBezTo>
                  <a:pt x="88" y="102"/>
                  <a:pt x="195" y="78"/>
                  <a:pt x="0" y="64"/>
                </a:cubicBezTo>
                <a:cubicBezTo>
                  <a:pt x="22" y="130"/>
                  <a:pt x="0" y="123"/>
                  <a:pt x="54" y="109"/>
                </a:cubicBezTo>
                <a:cubicBezTo>
                  <a:pt x="91" y="74"/>
                  <a:pt x="81" y="48"/>
                  <a:pt x="73" y="0"/>
                </a:cubicBezTo>
                <a:cubicBezTo>
                  <a:pt x="51" y="64"/>
                  <a:pt x="36" y="49"/>
                  <a:pt x="82" y="64"/>
                </a:cubicBezTo>
                <a:cubicBezTo>
                  <a:pt x="106" y="28"/>
                  <a:pt x="95" y="14"/>
                  <a:pt x="136" y="0"/>
                </a:cubicBezTo>
                <a:cubicBezTo>
                  <a:pt x="195" y="20"/>
                  <a:pt x="160" y="55"/>
                  <a:pt x="136" y="91"/>
                </a:cubicBezTo>
                <a:cubicBezTo>
                  <a:pt x="176" y="104"/>
                  <a:pt x="186" y="99"/>
                  <a:pt x="209" y="64"/>
                </a:cubicBezTo>
                <a:cubicBezTo>
                  <a:pt x="206" y="52"/>
                  <a:pt x="211" y="33"/>
                  <a:pt x="200" y="28"/>
                </a:cubicBezTo>
                <a:cubicBezTo>
                  <a:pt x="137" y="1"/>
                  <a:pt x="100" y="91"/>
                  <a:pt x="100" y="137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523880" y="5334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657600" y="3962520"/>
            <a:ext cx="1333440" cy="76176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191120" y="411480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495680" y="3429000"/>
            <a:ext cx="133380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029200" y="358128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00600" y="42670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334120" y="441972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1460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3124080" y="51055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5715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xpresión de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057400" y="480060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733920" y="42670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077920" y="489096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86200" y="44197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2520" y="40384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638680" y="44956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24280" y="35812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242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029200" y="44956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486400" y="46483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1814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4419720" y="4343400"/>
            <a:ext cx="228600" cy="763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724280" y="6172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62520" y="6858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nsay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895480" y="7315200"/>
            <a:ext cx="39625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ón de ligando a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e de moléculas o 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idad enzi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7560" y="68436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ción de un gen basándose en su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rcRect l="0" t="29953" r="15329" b="40093"/>
          <a:stretch/>
        </p:blipFill>
        <p:spPr>
          <a:xfrm>
            <a:off x="765000" y="6659640"/>
            <a:ext cx="2016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Selección por expressión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09680" y="1143000"/>
            <a:ext cx="30348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666880" y="152388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666880" y="129528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276720" y="12193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505320" y="1523880"/>
            <a:ext cx="304560" cy="152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362320" y="129528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19520" y="114300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00400" y="99072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362320" y="16765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2895480" y="1675800"/>
            <a:ext cx="30492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962520" y="1219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6170000">
            <a:off x="2476080" y="2628360"/>
            <a:ext cx="1676520" cy="381240"/>
          </a:xfrm>
          <a:prstGeom prst="flowChartMagneticDrum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124080" y="1981080"/>
            <a:ext cx="381240" cy="6098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124080" y="2438280"/>
            <a:ext cx="3812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24080" y="2666880"/>
            <a:ext cx="381240" cy="152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24080" y="30481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124080" y="297180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124080" y="32767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209680" y="32004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62320" y="33526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14600" y="35053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666880" y="36576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8195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71800" y="39625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76720" y="42670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1980720" y="35812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133360" y="37339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285640" y="38862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2437920" y="40384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590560" y="41911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2742840" y="43434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2895120" y="44956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3047760" y="46483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200040" y="48006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76720" y="3733920"/>
            <a:ext cx="75960" cy="7596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276720" y="3733920"/>
            <a:ext cx="7596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09880" y="243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raccionamiento según tam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048120" y="1752480"/>
            <a:ext cx="533160" cy="381240"/>
          </a:xfrm>
          <a:custGeom>
            <a:avLst/>
            <a:gdLst>
              <a:gd name="textAreaLeft" fmla="*/ 71280 w 533160"/>
              <a:gd name="textAreaRight" fmla="*/ 461880 w 533160"/>
              <a:gd name="textAreaTop" fmla="*/ 58680 h 381240"/>
              <a:gd name="textAreaBottom" fmla="*/ 2844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352680" y="1447920"/>
            <a:ext cx="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04920" y="3962520"/>
            <a:ext cx="19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xpresión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sayo fu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 cada f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2058840" y="4495680"/>
            <a:ext cx="137088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705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70565"/>
              </a:path>
            </a:pathLst>
          </a:custGeom>
          <a:noFill/>
          <a:ln w="572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971800" y="51055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ubpoblación enriquecida en el mRN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7080" y="60958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86200" y="6629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267080" y="7010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819520" y="7620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76720" y="4419720"/>
            <a:ext cx="30456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429000" y="44197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4572000"/>
            <a:ext cx="30492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2590560" y="3200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4419720" y="838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219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295280" y="914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371600" y="990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38280" y="838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514600" y="914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41520" y="968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1460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066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1066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05120" y="609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81080" y="685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52480" y="1066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828800" y="1143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1143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514600" y="1219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270080" y="5335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19320" y="6094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55880" y="10666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917720" y="11174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05120" y="622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68480" y="673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514600" y="13208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436840" y="13716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581280" y="1219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57600" y="1295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19520" y="838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95480" y="914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762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038480" y="838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5400" y="892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38480" y="914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990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29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05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276720" y="990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352680" y="1066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62520" y="1066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38480" y="1143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08360" y="12193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657600" y="1295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79760" y="9907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441600" y="1041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429000" y="546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492360" y="596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038480" y="12445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960720" y="1295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5909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9480" y="1981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1430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09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19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352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09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14800" y="21337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por exp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1952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90920" y="3352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362320" y="2895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438280" y="2971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90920" y="30481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666880" y="3048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832120" y="283212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908440" y="290844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048120" y="3200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666880" y="3352680"/>
            <a:ext cx="139680" cy="3812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666880" y="34290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74840" y="3124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37040" y="317484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32120" y="2844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895480" y="289548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066680" y="3886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6668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276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95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66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00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72428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133720" y="449568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7391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057400" y="7467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209680" y="7543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286000" y="75438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590920" y="5029200"/>
            <a:ext cx="3504960" cy="1715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Tahoma"/>
              </a:rPr>
              <a:t>Ciclo de rastreo     N° cl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2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514600" y="7238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Identificación de 1 clon que expresa la función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335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 -     -     -      +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9144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-     +     -        -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14600" y="47242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Rastreos suce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133720" y="5029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133720" y="5562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133720" y="6172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133720" y="6705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br>
              <a:rPr sz="3200"/>
            </a:b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ra esta p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mbinant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Watson JD, Gilman M, Witkowski JA , Zoller M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º Edición (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º 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ísica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520" y="914400"/>
            <a:ext cx="63244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Mapa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Secuenci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secuencias regul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dentificación de marco de lectura ab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ión de secuencia polipep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estructura secund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nálisis de homología (función prob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5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por 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5105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uncional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9480" y="5791320"/>
            <a:ext cx="6248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 regulación transcrip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l transcrito c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Expresión funcional  in vitro e in v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38088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úmero de copias del gen por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62120" y="3429000"/>
            <a:ext cx="266688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16200000">
            <a:off x="-206280" y="17269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 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523880" y="2590920"/>
            <a:ext cx="281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ias del gen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.5  1.0  2.0  5.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62320" y="2098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14400" y="5410080"/>
            <a:ext cx="380880" cy="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47920" y="5410080"/>
            <a:ext cx="380880" cy="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05120" y="5410080"/>
            <a:ext cx="38088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362320" y="5410080"/>
            <a:ext cx="380880" cy="0"/>
          </a:xfrm>
          <a:prstGeom prst="line">
            <a:avLst/>
          </a:prstGeom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19520" y="54100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343400" y="3809880"/>
            <a:ext cx="190512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91120" y="6095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° copia está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4343400" y="396216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181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48320" y="5562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19720" y="5715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8640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rot="16219800">
            <a:off x="3064320" y="47836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nsidad rel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0" y="4572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ció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DNA Genómico  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ss DNA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       ds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75248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419720" y="990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09880" y="13716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Velocidad de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36640" y="5435640"/>
            <a:ext cx="51055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c/dt = -kC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2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 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:  conc. de DNA desnat.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a tiempo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1/kCot +1      Co: conc. de DNA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desnat. a tiempo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uando el 50% del DNA se ha re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0.5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ot 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ahoma"/>
              </a:rPr>
              <a:t>0.5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= k</a:t>
            </a:r>
            <a:r>
              <a:rPr b="1" lang="en-US" sz="16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1484280" y="2340000"/>
            <a:ext cx="38386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052640" y="1936800"/>
            <a:ext cx="2590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871800" y="1936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812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9670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0200" y="2089080"/>
            <a:ext cx="106704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66840" y="170820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128600" y="1708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052640" y="14032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maño de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052640" y="2927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052640" y="4146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789360" y="4211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2812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244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948120" y="1974960"/>
            <a:ext cx="2514600" cy="2019240"/>
          </a:xfrm>
          <a:custGeom>
            <a:avLst/>
            <a:gdLst/>
            <a:ahLst/>
            <a:rect l="l" t="t" r="r" b="b"/>
            <a:pathLst>
              <a:path w="1392" h="1272">
                <a:moveTo>
                  <a:pt x="0" y="72"/>
                </a:moveTo>
                <a:cubicBezTo>
                  <a:pt x="80" y="36"/>
                  <a:pt x="160" y="0"/>
                  <a:pt x="288" y="72"/>
                </a:cubicBezTo>
                <a:cubicBezTo>
                  <a:pt x="416" y="144"/>
                  <a:pt x="624" y="328"/>
                  <a:pt x="768" y="504"/>
                </a:cubicBezTo>
                <a:cubicBezTo>
                  <a:pt x="912" y="680"/>
                  <a:pt x="1048" y="1000"/>
                  <a:pt x="1152" y="1128"/>
                </a:cubicBezTo>
                <a:cubicBezTo>
                  <a:pt x="1256" y="1256"/>
                  <a:pt x="1352" y="1248"/>
                  <a:pt x="1392" y="1272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71800" y="2927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1400" y="5060880"/>
            <a:ext cx="3124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ada fragmento 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una vez por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657600" y="4932360"/>
            <a:ext cx="3200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comple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muy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poco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ú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2571840" y="3546360"/>
            <a:ext cx="247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752480" y="2971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905120" y="3124080"/>
            <a:ext cx="2361960" cy="19814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7524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62520" y="5562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447920" y="51814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1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1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914400" y="289548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1240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09480" y="533520"/>
            <a:ext cx="6248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de un gen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(cinética de hibrid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Marcar 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Hibridar con DNA genómico fragmentado y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terninar el valor de C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632448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úmero de copi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t gen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09680" y="5867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3520" y="73915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iempo renaturación muy lar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mas complejos y gra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es con bajo número de co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23623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60640" y="241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362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905120" y="3352680"/>
            <a:ext cx="761760" cy="190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05120" y="129528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176560" y="143496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057400" y="14479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328840" y="15876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0968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481120" y="17398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1460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57400" y="16765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438280" y="12952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743200" y="14479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86000" y="18288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5248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5238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365760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Fraccionamiento segun 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396252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343400" y="3352680"/>
            <a:ext cx="762120" cy="1905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209680" y="3429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209680" y="3505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09680" y="3581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09680" y="3657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3733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209680" y="3809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209680" y="3886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09680" y="3962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4038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209680" y="41148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209680" y="41911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09680" y="43434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09680" y="44197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09680" y="44956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209680" y="4572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209680" y="4648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09680" y="4724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09680" y="4800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209680" y="4876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09680" y="4952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209680" y="5029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209680" y="5105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09680" y="5181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72000" y="3429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72000" y="3505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72000" y="3581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572000" y="3657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72000" y="3733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572000" y="3886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72000" y="3962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0" y="4038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572000" y="4114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72000" y="4191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72000" y="4267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572000" y="4343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572000" y="4495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572000" y="4572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572000" y="4648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572000" y="4724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572000" y="4876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572000" y="4952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572000" y="5029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572000" y="5105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572000" y="5181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743200" y="3276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ransferencia 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666880" y="41148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n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7224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848200" y="48196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54364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619600" y="474336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15312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92452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05640" y="471492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527800" y="4981680"/>
            <a:ext cx="16164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819760" y="4762440"/>
            <a:ext cx="20016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715000" y="4952880"/>
            <a:ext cx="14940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19920" y="5086440"/>
            <a:ext cx="18072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962680" y="4886280"/>
            <a:ext cx="20016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724280" y="5410080"/>
            <a:ext cx="0" cy="1219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800600" y="5257800"/>
            <a:ext cx="19807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352680" y="5791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43400" y="6705720"/>
            <a:ext cx="762120" cy="1904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72000" y="6781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572000" y="6858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572000" y="6934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72000" y="7010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572000" y="7086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72000" y="7162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72000" y="7238880"/>
            <a:ext cx="228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0" y="7315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7391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7467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572000" y="7543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572000" y="7620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572000" y="7696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72000" y="7772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572000" y="7848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572000" y="7924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572000" y="8001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572000" y="8077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0" y="8153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572000" y="8229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572000" y="8305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0" y="8381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572000" y="8458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572000" y="8534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04920" y="1522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Detección de los transcritos intracelulares complementarios a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6286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3276720" y="12193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97180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276720" y="1905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819520" y="45720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090960" y="59688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1800" y="6094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43240" y="74916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395520" y="9018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42900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971800" y="8380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352680" y="457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657600" y="609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657600" y="9144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200400" y="9907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438280" y="3124080"/>
            <a:ext cx="443160" cy="8892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3147840"/>
            <a:ext cx="424080" cy="22860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971800" y="3048120"/>
            <a:ext cx="431640" cy="12060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581280" y="2666880"/>
            <a:ext cx="424080" cy="12384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429000" y="2919240"/>
            <a:ext cx="431640" cy="12096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895480" y="2743200"/>
            <a:ext cx="462240" cy="11124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666880" y="3352680"/>
            <a:ext cx="546120" cy="36720"/>
          </a:xfrm>
          <a:custGeom>
            <a:avLst/>
            <a:gdLst/>
            <a:ahLst/>
            <a:rect l="l" t="t" r="r" b="b"/>
            <a:pathLst>
              <a:path w="344" h="23">
                <a:moveTo>
                  <a:pt x="0" y="15"/>
                </a:moveTo>
                <a:cubicBezTo>
                  <a:pt x="40" y="5"/>
                  <a:pt x="73" y="10"/>
                  <a:pt x="112" y="23"/>
                </a:cubicBezTo>
                <a:cubicBezTo>
                  <a:pt x="165" y="14"/>
                  <a:pt x="170" y="0"/>
                  <a:pt x="216" y="23"/>
                </a:cubicBezTo>
                <a:cubicBezTo>
                  <a:pt x="301" y="12"/>
                  <a:pt x="259" y="15"/>
                  <a:pt x="344" y="1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971800" y="28195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514600" y="28954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514600" y="32004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33920" y="32004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276720" y="35053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66880" y="44956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666880" y="4419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91120" y="18288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114800" y="2133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3434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952880" y="160020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do y ma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3352680" y="2057400"/>
            <a:ext cx="1218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9718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9718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4290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4290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447920" y="3733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cleasa 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276720" y="480060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438280" y="5943600"/>
            <a:ext cx="1676520" cy="2362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295280" y="5105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495680" y="6019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5720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572000" y="800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124080" y="7315200"/>
            <a:ext cx="304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724280" y="685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ctrofo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088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peo 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380880" y="60948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omparación del tamaño del DNA clonado y el transcrito resp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62320" y="198108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981080" y="1608120"/>
            <a:ext cx="1791000" cy="347760"/>
          </a:xfrm>
          <a:custGeom>
            <a:avLst/>
            <a:gdLst/>
            <a:ahLst/>
            <a:rect l="l" t="t" r="r" b="b"/>
            <a:pathLst>
              <a:path w="1128" h="219">
                <a:moveTo>
                  <a:pt x="0" y="187"/>
                </a:moveTo>
                <a:cubicBezTo>
                  <a:pt x="235" y="208"/>
                  <a:pt x="468" y="201"/>
                  <a:pt x="704" y="195"/>
                </a:cubicBezTo>
                <a:cubicBezTo>
                  <a:pt x="672" y="174"/>
                  <a:pt x="673" y="160"/>
                  <a:pt x="664" y="123"/>
                </a:cubicBezTo>
                <a:cubicBezTo>
                  <a:pt x="671" y="74"/>
                  <a:pt x="676" y="20"/>
                  <a:pt x="728" y="3"/>
                </a:cubicBezTo>
                <a:cubicBezTo>
                  <a:pt x="744" y="6"/>
                  <a:pt x="764" y="0"/>
                  <a:pt x="776" y="11"/>
                </a:cubicBezTo>
                <a:cubicBezTo>
                  <a:pt x="776" y="11"/>
                  <a:pt x="796" y="71"/>
                  <a:pt x="800" y="83"/>
                </a:cubicBezTo>
                <a:cubicBezTo>
                  <a:pt x="803" y="91"/>
                  <a:pt x="808" y="107"/>
                  <a:pt x="808" y="107"/>
                </a:cubicBezTo>
                <a:cubicBezTo>
                  <a:pt x="797" y="164"/>
                  <a:pt x="789" y="144"/>
                  <a:pt x="760" y="187"/>
                </a:cubicBezTo>
                <a:cubicBezTo>
                  <a:pt x="808" y="219"/>
                  <a:pt x="760" y="196"/>
                  <a:pt x="808" y="195"/>
                </a:cubicBezTo>
                <a:cubicBezTo>
                  <a:pt x="915" y="193"/>
                  <a:pt x="1021" y="195"/>
                  <a:pt x="1128" y="19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819520" y="1600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3200040" y="1676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4343400" y="1897200"/>
            <a:ext cx="762120" cy="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334120" y="18972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286000" y="243828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286000" y="251460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572000" y="251460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86000" y="304812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97180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62320" y="153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28600" y="1676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2860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DNA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286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NA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95680" y="30481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514600" y="2743200"/>
            <a:ext cx="1066680" cy="8380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2666520" y="3581280"/>
            <a:ext cx="304920" cy="8384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0880" y="4648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Extensión del cDNA clonado a partir del transcrito resp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219320" y="5638680"/>
            <a:ext cx="35049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733920" y="579132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8120" y="5867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57200" y="5943600"/>
            <a:ext cx="2438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ranscriptasa re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+ dNT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72000" y="5791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295280" y="6858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09880" y="701028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1447920" y="7010280"/>
            <a:ext cx="228600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295280" y="8001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295280" y="8153280"/>
            <a:ext cx="3505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71800" y="7162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609480"/>
            <a:ext cx="5791320" cy="74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njunto de vectores recombin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 de DNA forá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NA genómico (cromosóm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el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oma (cromosoma) completo de un individ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NA codificante y DNA no codif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sólo l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s expresados por un tipo celular o tejido e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terminadas circunsta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s recombinantes pueden expresar la informació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ética que portan (productos gé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685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Genoteca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47640"/>
            <a:ext cx="670572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: fragmento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ración de fragmentos  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ndomucleasas de restr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Mecánica (cizal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o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lección de fragmentos según tamaño (tamices molecula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6644" t="0" r="0" b="0"/>
          <a:stretch/>
        </p:blipFill>
        <p:spPr>
          <a:xfrm>
            <a:off x="4149720" y="4500720"/>
            <a:ext cx="2112840" cy="39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25360" y="5292720"/>
            <a:ext cx="20574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0280" y="687636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abilidad de encontrar un determinado segmento de DNA (una secuencia particular ) en una genoteca que consta de  N recombinantes independientes :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= [ln(1-P)] / [ln(1-1/n)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= tamaño del genoma /tamaño promedio de los inser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280" y="493236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úmero de recombinantes necesarios para representar todo el genoma dependerá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tamaño del genoma en cu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ngitud promedio de los ins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280" y="611280"/>
            <a:ext cx="630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Vector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</a:rPr>
              <a:t>: acorde al tamaño del ins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j.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ectores lambda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17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smidi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45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Recombina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6320" y="355932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47800">
            <a:off x="782640" y="363492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 rot="10665000">
            <a:off x="785520" y="355212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 rot="10269600">
            <a:off x="938880" y="361188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40240" y="32544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70" y="1140"/>
                </a:moveTo>
                <a:arcTo wR="10800" hR="10800" stAng="-6993904" swAng="19959372"/>
                <a:lnTo>
                  <a:pt x="10800" y="10800"/>
                </a:lnTo>
                <a:close/>
              </a:path>
              <a:path fill="none" w="21600" h="21600">
                <a:moveTo>
                  <a:pt x="5970" y="1140"/>
                </a:moveTo>
                <a:arcTo wR="10800" hR="10800" stAng="-6993904" swAng="1995937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47800">
            <a:off x="4516560" y="33303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21" y="1552"/>
                </a:moveTo>
                <a:arcTo wR="10800" hR="10800" stAng="-7266089" swAng="19969378"/>
                <a:lnTo>
                  <a:pt x="10800" y="10800"/>
                </a:lnTo>
                <a:close/>
              </a:path>
              <a:path fill="none" w="21600" h="21600">
                <a:moveTo>
                  <a:pt x="5221" y="1552"/>
                </a:moveTo>
                <a:arcTo wR="10800" hR="10800" stAng="-7266089" swAng="1996937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10665000">
            <a:off x="4560840" y="3364560"/>
            <a:ext cx="762840" cy="45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6" y="1612"/>
                </a:moveTo>
                <a:arcTo wR="10800" hR="10800" stAng="-3497495" swAng="2007300"/>
                <a:lnTo>
                  <a:pt x="10800" y="10800"/>
                </a:lnTo>
                <a:close/>
              </a:path>
              <a:path fill="none" w="21600" h="21600">
                <a:moveTo>
                  <a:pt x="16476" y="1612"/>
                </a:moveTo>
                <a:arcTo wR="10800" hR="10800" stAng="-3497495" swAng="20073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 rot="8311200">
            <a:off x="1905480" y="3290040"/>
            <a:ext cx="614160" cy="16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59" y="97"/>
                </a:moveTo>
                <a:arcTo wR="10800" hR="10800" stAng="-5860120" swAng="1829622"/>
                <a:lnTo>
                  <a:pt x="10800" y="10800"/>
                </a:lnTo>
                <a:close/>
              </a:path>
              <a:path fill="none" w="21600" h="21600">
                <a:moveTo>
                  <a:pt x="9359" y="97"/>
                </a:moveTo>
                <a:arcTo wR="10800" hR="10800" stAng="-5860120" swAng="182962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8621400">
            <a:off x="1999800" y="3284640"/>
            <a:ext cx="60732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8621400">
            <a:off x="4215240" y="3197880"/>
            <a:ext cx="842400" cy="1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3400" y="317988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61" y="2205"/>
                </a:moveTo>
                <a:arcTo wR="10800" hR="10800" stAng="-7635813" swAng="20601281"/>
                <a:lnTo>
                  <a:pt x="10800" y="10800"/>
                </a:lnTo>
                <a:close/>
              </a:path>
              <a:path fill="none" w="21600" h="21600">
                <a:moveTo>
                  <a:pt x="4261" y="2205"/>
                </a:moveTo>
                <a:arcTo wR="10800" hR="10800" stAng="-7635813" swAng="20601281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47800">
            <a:off x="2077920" y="325404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51" y="3076"/>
                </a:moveTo>
                <a:arcTo wR="10800" hR="10800" stAng="-8060544" swAng="20763832"/>
                <a:lnTo>
                  <a:pt x="10800" y="10800"/>
                </a:lnTo>
                <a:close/>
              </a:path>
              <a:path fill="none" w="21600" h="21600">
                <a:moveTo>
                  <a:pt x="3251" y="3076"/>
                </a:moveTo>
                <a:arcTo wR="10800" hR="10800" stAng="-8060544" swAng="2076383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8640" y="363528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47800">
            <a:off x="3144960" y="371124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 rot="10665000">
            <a:off x="3147120" y="3628080"/>
            <a:ext cx="762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10269600">
            <a:off x="3301200" y="368820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640" y="9144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 de cDNA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00200"/>
            <a:ext cx="6477120" cy="63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Obtención de los Inserto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islar transcritos (RNA con pol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ntetizar cDNA (partidor oligo dT 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Tahoma"/>
              </a:rPr>
              <a:t>15-18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o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exámeros de secuencia ale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Preservar la integridad de los 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íntesis de cDNA comp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Representación de transcritos poco abund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Usualmente  plasmidios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rivados del bacteriófago lamb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aceptan insertos hasta 10-17 Kpb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recombinantes: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gún número de genes transcripcionalmente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tivos en un determinado tipo 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9000" y="1187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lonamiento de genes desde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28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Clon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junto de células (individuos), genéticame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guales, derivados de un progenitor ú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981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2057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9051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19810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0120" y="2035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0574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2133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133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6765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17524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096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84480" y="213372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46320" y="2184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1689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7080" y="1739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238752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5440" y="2438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752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-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666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8195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ncorporación en células hosped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65760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733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733920"/>
            <a:ext cx="38088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809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40800">
            <a:off x="2285640" y="35809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37339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581280"/>
            <a:ext cx="38124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8098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886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944800">
            <a:off x="1066320" y="434304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949000">
            <a:off x="1371600" y="441936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949000">
            <a:off x="159984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950800">
            <a:off x="1980720" y="4419720"/>
            <a:ext cx="38124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949000">
            <a:off x="1447920" y="4495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949000">
            <a:off x="16002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651600">
            <a:off x="2971800" y="42667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650400">
            <a:off x="3276360" y="434304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650400">
            <a:off x="320040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666000">
            <a:off x="3885840" y="4343040"/>
            <a:ext cx="38088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650400">
            <a:off x="3352320" y="4419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650400">
            <a:off x="3276720" y="441936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60199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2825000">
            <a:off x="572400" y="45475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662940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55308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731600">
            <a:off x="1075680" y="631440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67816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2825000">
            <a:off x="278208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81532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731600">
            <a:off x="3285360" y="783828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6248520"/>
            <a:ext cx="198144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762120" cy="266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80060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90560" y="4267080"/>
            <a:ext cx="15228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23720" y="4876920"/>
            <a:ext cx="76212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8458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72388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934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80880"/>
            <a:ext cx="655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ahoma"/>
              </a:rPr>
              <a:t>Rastreo de una genoteca para identificar los clones de células que portan un DNA recombinante deter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1.-Basado en secuencia nucleotídica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20:20:13Z</dcterms:created>
  <dc:creator>Cecilia Rojas</dc:creator>
  <dc:description/>
  <dc:language>en-US</dc:language>
  <cp:lastModifiedBy>Gina</cp:lastModifiedBy>
  <cp:lastPrinted>2001-06-01T18:55:41Z</cp:lastPrinted>
  <dcterms:modified xsi:type="dcterms:W3CDTF">2008-06-09T16:42:28Z</dcterms:modified>
  <cp:revision>91</cp:revision>
  <dc:subject/>
  <dc:title>No Slide Title</dc:title>
</cp:coreProperties>
</file>