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6858000" cy="9144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05D2-1839-4AF3-BD6B-6DDF0B394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485D-BFF4-424A-8CB4-0C99B2D4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33DA-4A6D-4398-BF2C-59774B187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6339-61EC-456B-A8EE-E300769E3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80AD-4FDE-45F2-952B-6F5A67BA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A4B4-D10A-438B-A54C-A8111346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5455-8FE8-4739-A153-D0241127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2C97-63F2-478C-ADC3-B5FE93D1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D079-BF7A-4C3E-A674-02ECFFB6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10F0-1A68-4207-8735-298ECB74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CB55-9C51-438F-ACA6-21F43995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2C62-26A2-43A0-B8F1-846CE32F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8020-AB5B-42AC-B3DD-BCECB3A09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hyperlink" Target="http://www.abcysonline.com/Images/Pa_a.jpg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9000" y="258480"/>
            <a:ext cx="6669000" cy="89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alendario 2008 modifi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3300"/>
                </a:solidFill>
                <a:latin typeface="Tahoma"/>
              </a:rPr>
              <a:t>MA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LUNES 26 (CR)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apítulo 7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reación de moléculas recombin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MIÉRCOLES 28 (CR)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Análisis y manipulación de los recombin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VIERNES 30 (CR)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Análisis y manipulación de los recombin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cc3300"/>
                </a:solidFill>
                <a:latin typeface="Tahoma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3300"/>
                </a:solidFill>
                <a:latin typeface="Tahoma"/>
              </a:rPr>
              <a:t>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VIERNES 6 (CR)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3333cc"/>
                </a:solidFill>
                <a:latin typeface="Tahoma"/>
              </a:rPr>
              <a:t>Seminario 7</a:t>
            </a:r>
            <a:r>
              <a:rPr b="0" lang="es-E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3333cc"/>
                </a:solidFill>
                <a:latin typeface="Tahoma"/>
              </a:rPr>
              <a:t>Ingeniería de proteí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LUNES 9 (CR)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apítulo 8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lonamiento de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onstrucción de genote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MIÉRCCOLES 11 (CR)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ontinuación genote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VIERNES 13 (CR)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apítulo 9.</a:t>
            </a: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Expresión de recombinantes </a:t>
            </a:r>
            <a:r>
              <a:rPr b="0" i="1" lang="es-ES" sz="1200" spc="-1" strike="noStrike">
                <a:solidFill>
                  <a:srgbClr val="000000"/>
                </a:solidFill>
                <a:latin typeface="Tahoma"/>
              </a:rPr>
              <a:t>in v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Análisis funcional del DNA clonado en células 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aisladas: caracterización del producto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supresión o inactivación de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LUNES 16 (CR)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Análisis funcional de genes en individu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ompletos. Mutagénesis por inser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Gene targetting. Knock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MIÉRCOLES 18 (CR)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   Introducción de genes en animales y veget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(células germinales, células somáticas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élulas tronca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VIERNES 20 (CR)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Ayudantía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Revisión de capítulos 7 y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Tahoma"/>
              </a:rPr>
              <a:t>LUNES 23 (CR)            </a:t>
            </a:r>
            <a:r>
              <a:rPr b="1" lang="es-ES" sz="12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ff3300"/>
                </a:solidFill>
                <a:latin typeface="Tahoma"/>
              </a:rPr>
              <a:t>Control 3</a:t>
            </a:r>
            <a:r>
              <a:rPr b="1" lang="es-ES" sz="12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ff3300"/>
                </a:solidFill>
                <a:latin typeface="Tahoma"/>
              </a:rPr>
              <a:t>Capítulos 7 y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MIÉRCOLES 25 (CR)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1200" spc="-1" strike="noStrike">
                <a:solidFill>
                  <a:srgbClr val="3333cc"/>
                </a:solidFill>
                <a:latin typeface="Tahoma"/>
              </a:rPr>
              <a:t>Seminario 8</a:t>
            </a:r>
            <a:r>
              <a:rPr b="0" lang="es-ES" sz="1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E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3333cc"/>
                </a:solidFill>
                <a:latin typeface="Tahoma"/>
              </a:rPr>
              <a:t>Aplicación del knock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VIERNES 27 (CR)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1200" spc="-1" strike="noStrike">
                <a:solidFill>
                  <a:srgbClr val="3333cc"/>
                </a:solidFill>
                <a:latin typeface="Tahoma"/>
              </a:rPr>
              <a:t>Seminario 10</a:t>
            </a:r>
            <a:r>
              <a:rPr b="0" lang="es-ES" sz="1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E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3333cc"/>
                </a:solidFill>
                <a:latin typeface="Tahoma"/>
              </a:rPr>
              <a:t>Silenciamiento génic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LUNES 30 (CR)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1200" spc="-1" strike="noStrike">
                <a:solidFill>
                  <a:srgbClr val="3333cc"/>
                </a:solidFill>
                <a:latin typeface="Tahoma"/>
              </a:rPr>
              <a:t>Seminario 11</a:t>
            </a:r>
            <a:r>
              <a:rPr b="1" lang="es-E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3333cc"/>
                </a:solidFill>
                <a:latin typeface="Tahoma"/>
              </a:rPr>
              <a:t>Seres vivos como biorreact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Times New Roman"/>
              </a:rPr>
              <a:t>                                       </a:t>
            </a:r>
            <a:r>
              <a:rPr b="1" lang="es-ES" sz="1400" spc="-1" strike="noStrike">
                <a:solidFill>
                  <a:srgbClr val="cc3300"/>
                </a:solidFill>
                <a:latin typeface="Tahoma"/>
              </a:rPr>
              <a:t>JUL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MIÉRCOLES  2 (CR)</a:t>
            </a:r>
            <a:r>
              <a:rPr b="0" lang="es-E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Ayudantía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Revisión del capítul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33360" y="684360"/>
            <a:ext cx="6267600" cy="74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836640" y="4500720"/>
            <a:ext cx="5243400" cy="4194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1125360" y="611280"/>
            <a:ext cx="476280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533520" y="380880"/>
            <a:ext cx="60958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Obtención de una sonda nucleotíd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A partir de la proteína codificada por el 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1295280"/>
            <a:ext cx="60195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…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...-Met - Gln - Lys - Phe - Asn-…  secuencia pro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        A        U       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……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UG  CAG   AAG   UUC   AAC…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880" y="22096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AUG   CAA   AAA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AUG  CAG   AAA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AUG  CAG   AAG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AUG  CAA   AAG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AUG  CAG   AAG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                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etc.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67080" y="22860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Guess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oligonucleot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que codifican 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olipépt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14600" y="3962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4495680"/>
            <a:ext cx="37339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5960"/>
                <a:tab algn="l" pos="909720"/>
                <a:tab algn="l" pos="1601640"/>
                <a:tab algn="l" pos="227952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AUG  CAA   AAA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09720"/>
                <a:tab algn="l" pos="1601640"/>
                <a:tab algn="l" pos="227952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Tahoma"/>
              </a:rPr>
              <a:t>* 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AUG  CAG   AAA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09720"/>
                <a:tab algn="l" pos="1601640"/>
                <a:tab algn="l" pos="227952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Tahoma"/>
              </a:rPr>
              <a:t>*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 AUG  CAG   AAG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09720"/>
                <a:tab algn="l" pos="1601640"/>
                <a:tab algn="l" pos="227952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Tahoma"/>
              </a:rPr>
              <a:t>*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 AUG  CAA   AAG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09720"/>
                <a:tab algn="l" pos="1601640"/>
                <a:tab algn="l" pos="227952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Tahoma"/>
              </a:rPr>
              <a:t>*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 AUG  CAG   AAG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09720"/>
                <a:tab algn="l" pos="1601640"/>
                <a:tab algn="l" pos="227952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Tahoma"/>
              </a:rPr>
              <a:t>*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 n...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0" y="6324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Tahoma"/>
              </a:rPr>
              <a:t>son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066680" y="7086600"/>
            <a:ext cx="1844640" cy="16081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76520" y="72388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447920" y="7391520"/>
            <a:ext cx="7596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81080" y="72388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676520" y="7391520"/>
            <a:ext cx="7596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73152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74674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0" y="74674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752480" y="7696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73152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00200" y="7696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19320" y="76960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371600" y="78487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23880" y="80010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95280" y="80010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52480" y="79246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81080" y="76201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057400" y="79246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33720" y="777240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86000" y="7696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438280" y="77724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666880" y="7696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0" y="79246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438280" y="80773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590920" y="79246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822960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76520" y="81532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8800" y="81532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81080" y="82296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822960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362320" y="822960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666880" y="80773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523880" y="82296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28800" y="83059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28800" y="84582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81080" y="85345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09680" y="84582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362320" y="769608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7162920"/>
            <a:ext cx="3505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Tahoma"/>
              </a:rPr>
              <a:t>*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AUG  CAA  AAG  UUU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…</a:t>
            </a: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TAC   GTT  TTC  AAA  TTA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...ATG   CAA  AAG  TTT  AAT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61722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495680" y="4724280"/>
            <a:ext cx="2133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íntesis quí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r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80880" y="609480"/>
            <a:ext cx="457200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9" name=""/>
          <p:cNvCxnSpPr/>
          <p:nvPr/>
        </p:nvCxnSpPr>
        <p:spPr>
          <a:xfrm flipH="1" rot="16200000">
            <a:off x="167544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0" name=""/>
          <p:cNvCxnSpPr/>
          <p:nvPr/>
        </p:nvCxnSpPr>
        <p:spPr>
          <a:xfrm flipH="1" rot="16200000">
            <a:off x="419004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1" name=""/>
          <p:cNvCxnSpPr/>
          <p:nvPr/>
        </p:nvCxnSpPr>
        <p:spPr>
          <a:xfrm flipH="1" rot="16200000">
            <a:off x="3237480" y="647640"/>
            <a:ext cx="610560" cy="766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2" name=""/>
          <p:cNvCxnSpPr/>
          <p:nvPr/>
        </p:nvCxnSpPr>
        <p:spPr>
          <a:xfrm flipH="1" rot="16200000">
            <a:off x="304704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3" name=""/>
          <p:cNvCxnSpPr/>
          <p:nvPr/>
        </p:nvCxnSpPr>
        <p:spPr>
          <a:xfrm flipH="1" rot="16200000">
            <a:off x="266688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4" name=""/>
          <p:cNvCxnSpPr/>
          <p:nvPr/>
        </p:nvCxnSpPr>
        <p:spPr>
          <a:xfrm flipH="1" rot="16200000">
            <a:off x="68580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5" name=""/>
          <p:cNvCxnSpPr/>
          <p:nvPr/>
        </p:nvCxnSpPr>
        <p:spPr>
          <a:xfrm flipH="1" rot="16200000">
            <a:off x="30384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380880" y="1143000"/>
            <a:ext cx="2286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1295280"/>
            <a:ext cx="3812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90720" y="1143000"/>
            <a:ext cx="99036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1295280"/>
            <a:ext cx="9907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71800" y="1143000"/>
            <a:ext cx="3808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352680" y="1295280"/>
            <a:ext cx="2286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81280" y="1143000"/>
            <a:ext cx="9144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95680" y="1219320"/>
            <a:ext cx="3812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94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90720" y="1600200"/>
            <a:ext cx="1522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810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971800" y="1600200"/>
            <a:ext cx="1522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3526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5812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4956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029200" y="457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eí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952880" y="13716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uencia polipeptíd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828800" y="1447920"/>
            <a:ext cx="457200" cy="380880"/>
          </a:xfrm>
          <a:prstGeom prst="ellipse">
            <a:avLst/>
          </a:prstGeom>
          <a:noFill/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743200" y="1447920"/>
            <a:ext cx="457200" cy="380880"/>
          </a:xfrm>
          <a:prstGeom prst="ellipse">
            <a:avLst/>
          </a:prstGeom>
          <a:noFill/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1295280" y="1828800"/>
            <a:ext cx="457200" cy="3808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76720" y="1828800"/>
            <a:ext cx="380880" cy="3808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19720" y="213372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uencia nucletídica prob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2362320"/>
            <a:ext cx="91440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352680" y="2362320"/>
            <a:ext cx="91440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90720" y="2514600"/>
            <a:ext cx="0" cy="4572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86200" y="2514600"/>
            <a:ext cx="0" cy="4572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495680" y="297180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íntesis de oligonuclét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2120" y="320040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2120" y="335268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657600" y="320040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657600" y="335268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0" y="350532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57200" y="3048120"/>
            <a:ext cx="3808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14800" y="3048120"/>
            <a:ext cx="3808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Tahoma"/>
              </a:rPr>
              <a:t>c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0880" y="4191120"/>
            <a:ext cx="533412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0880" y="4267080"/>
            <a:ext cx="533412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523880" y="411480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657600" y="434340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19320" y="38098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114800" y="4114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523880" y="5105520"/>
            <a:ext cx="259092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029200" y="4419720"/>
            <a:ext cx="16002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NAg blan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uencia desconoc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523880" y="5181480"/>
            <a:ext cx="259092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666880" y="4343400"/>
            <a:ext cx="0" cy="6094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23880" y="4419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C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5257800"/>
            <a:ext cx="0" cy="53352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914400" y="5943600"/>
            <a:ext cx="259092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828800" y="6324480"/>
            <a:ext cx="259092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5715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267080" y="60958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14600" y="5867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752480" y="7086600"/>
            <a:ext cx="1844640" cy="16081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362320" y="72388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133720" y="7391520"/>
            <a:ext cx="7596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666880" y="72388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362320" y="7391520"/>
            <a:ext cx="7596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895480" y="73152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666880" y="74674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971800" y="74674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438280" y="7696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124080" y="73152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86000" y="7696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05120" y="76960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78487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209680" y="80010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981080" y="80010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438280" y="79246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66880" y="76201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743200" y="79246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19520" y="777240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971800" y="7696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24080" y="77724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352680" y="7696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79246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124080" y="80773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76720" y="79246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276720" y="822960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362320" y="81532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514600" y="81532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66880" y="82296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819520" y="822960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8120" y="822960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352680" y="80773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09680" y="82296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4600" y="83059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514600" y="84582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66880" y="85345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895480" y="84582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2895480" y="8000640"/>
            <a:ext cx="1295640" cy="2286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666880" y="6400800"/>
            <a:ext cx="0" cy="53352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495680" y="5791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ndas marc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419720" y="7924680"/>
            <a:ext cx="2057400" cy="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419720" y="8077320"/>
            <a:ext cx="2057400" cy="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105520" y="7772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105520" y="7848720"/>
            <a:ext cx="457200" cy="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105520" y="8153280"/>
            <a:ext cx="457200" cy="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86400" y="76201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876920" y="80010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80880" y="609480"/>
            <a:ext cx="457200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6" name=""/>
          <p:cNvCxnSpPr/>
          <p:nvPr/>
        </p:nvCxnSpPr>
        <p:spPr>
          <a:xfrm flipH="1" rot="16200000">
            <a:off x="167544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/>
          <p:nvPr/>
        </p:nvCxnSpPr>
        <p:spPr>
          <a:xfrm flipH="1" rot="16200000">
            <a:off x="419004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/>
          <p:nvPr/>
        </p:nvCxnSpPr>
        <p:spPr>
          <a:xfrm flipH="1" rot="16200000">
            <a:off x="3237480" y="647640"/>
            <a:ext cx="610560" cy="766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/>
          <p:nvPr/>
        </p:nvCxnSpPr>
        <p:spPr>
          <a:xfrm flipH="1" rot="16200000">
            <a:off x="304704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0" name=""/>
          <p:cNvCxnSpPr/>
          <p:nvPr/>
        </p:nvCxnSpPr>
        <p:spPr>
          <a:xfrm flipH="1" rot="16200000">
            <a:off x="266688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1" name=""/>
          <p:cNvCxnSpPr/>
          <p:nvPr/>
        </p:nvCxnSpPr>
        <p:spPr>
          <a:xfrm flipH="1" rot="16200000">
            <a:off x="68580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2" name=""/>
          <p:cNvCxnSpPr/>
          <p:nvPr/>
        </p:nvCxnSpPr>
        <p:spPr>
          <a:xfrm flipH="1" rot="16200000">
            <a:off x="30384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3" name=""/>
          <p:cNvSpPr/>
          <p:nvPr/>
        </p:nvSpPr>
        <p:spPr>
          <a:xfrm>
            <a:off x="380880" y="1143000"/>
            <a:ext cx="2286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9480" y="1295280"/>
            <a:ext cx="3812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990720" y="1143000"/>
            <a:ext cx="99036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981080" y="1295280"/>
            <a:ext cx="9907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971800" y="1143000"/>
            <a:ext cx="3808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352680" y="1295280"/>
            <a:ext cx="2286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581280" y="1143000"/>
            <a:ext cx="9144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495680" y="1219320"/>
            <a:ext cx="3812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08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94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990720" y="1600200"/>
            <a:ext cx="1522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9810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971800" y="1600200"/>
            <a:ext cx="1522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3526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812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4956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029200" y="457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eí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952880" y="13716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uencia polipeptíd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828800" y="1447920"/>
            <a:ext cx="457200" cy="380880"/>
          </a:xfrm>
          <a:prstGeom prst="ellipse">
            <a:avLst/>
          </a:prstGeom>
          <a:noFill/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743200" y="1447920"/>
            <a:ext cx="457200" cy="380880"/>
          </a:xfrm>
          <a:prstGeom prst="ellipse">
            <a:avLst/>
          </a:prstGeom>
          <a:noFill/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1295280" y="1828800"/>
            <a:ext cx="457200" cy="3808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276720" y="1828800"/>
            <a:ext cx="380880" cy="3808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19720" y="213372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uencia nucleotídica prob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2362320"/>
            <a:ext cx="91440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352680" y="2362320"/>
            <a:ext cx="91440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990720" y="2514600"/>
            <a:ext cx="0" cy="4572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86200" y="2514600"/>
            <a:ext cx="0" cy="4572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495680" y="297180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íntesis de oligonucléot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2120" y="320040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62120" y="335268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657600" y="320040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657600" y="335268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657600" y="350532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7200" y="3048120"/>
            <a:ext cx="3808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114800" y="3048120"/>
            <a:ext cx="3808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Tahoma"/>
              </a:rPr>
              <a:t>c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0880" y="4191120"/>
            <a:ext cx="5334120" cy="0"/>
          </a:xfrm>
          <a:prstGeom prst="line">
            <a:avLst/>
          </a:prstGeom>
          <a:ln w="381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657600" y="434340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14800" y="4114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557360" y="6300720"/>
            <a:ext cx="259092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013360" y="4284720"/>
            <a:ext cx="16002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D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557360" y="6156360"/>
            <a:ext cx="259092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666880" y="4343400"/>
            <a:ext cx="0" cy="6094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557360" y="5508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C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666880" y="5257800"/>
            <a:ext cx="0" cy="53352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666880" y="6400800"/>
            <a:ext cx="0" cy="53352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65720" y="75247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ndas marc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04640" y="5076720"/>
            <a:ext cx="5334120" cy="0"/>
          </a:xfrm>
          <a:prstGeom prst="line">
            <a:avLst/>
          </a:prstGeom>
          <a:ln w="381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04640" y="5219640"/>
            <a:ext cx="374364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557360" y="536400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645000" y="493236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628640" y="7380360"/>
            <a:ext cx="259092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628640" y="7236000"/>
            <a:ext cx="259092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413000" y="70200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149720" y="71643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57440" y="8164440"/>
            <a:ext cx="562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astreo de genoteca de cDNA o gD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268280" y="51483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149720" y="47163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609480" y="228600"/>
            <a:ext cx="62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Anticuerpos como sonda para el rastreo de genote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143000" y="3429000"/>
            <a:ext cx="1844640" cy="16081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52480" y="35812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523880" y="37339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057400" y="35812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752480" y="37339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286000" y="36576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057400" y="38098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362320" y="38098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828800" y="40384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514600" y="36576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676520" y="40384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295280" y="40384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447920" y="4191120"/>
            <a:ext cx="7596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600200" y="43434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371600" y="43434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828800" y="4267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057400" y="39625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133720" y="42670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209680" y="41148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362320" y="40384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514600" y="41148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743200" y="40384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362320" y="42670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66880" y="4267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666880" y="45720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752480" y="44956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905120" y="44956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057400" y="45720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209680" y="45720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438280" y="45720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743200" y="44197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600200" y="45720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905120" y="4648320"/>
            <a:ext cx="7596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905120" y="480060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057400" y="48769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0" y="48006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81080" y="1600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219320" y="19051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143000" y="18288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914400" y="1295280"/>
            <a:ext cx="2119320" cy="10573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 rot="12825000">
            <a:off x="38880" y="-176760"/>
            <a:ext cx="33843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4" y="10"/>
                </a:moveTo>
                <a:arcTo wR="10800" hR="10800" stAng="-5548315" swAng="5049145"/>
                <a:lnTo>
                  <a:pt x="10800" y="10800"/>
                </a:lnTo>
                <a:close/>
              </a:path>
              <a:path fill="none" w="21600" h="21600">
                <a:moveTo>
                  <a:pt x="10334" y="10"/>
                </a:moveTo>
                <a:arcTo wR="10800" hR="10800" stAng="-5548315" swAng="5049145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914400" y="1905120"/>
            <a:ext cx="14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048120" y="1828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 rot="1731600">
            <a:off x="542160" y="1589760"/>
            <a:ext cx="3385440" cy="288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337" swAng="4413241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337" swAng="4413241"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990720" y="1523880"/>
            <a:ext cx="1981080" cy="8384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295280" y="17524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600200" y="1600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371600" y="20574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447920" y="18288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52480" y="16765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752480" y="19810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057400" y="17524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286000" y="1600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438280" y="17524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438280" y="20574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057400" y="2133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05120" y="18288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3200" y="17524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905120" y="19051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752480" y="2133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209680" y="22096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52480" y="17524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895480" y="19051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666880" y="19810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3048120" y="1219320"/>
            <a:ext cx="1371600" cy="38088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rot="9805200">
            <a:off x="4419360" y="685800"/>
            <a:ext cx="990000" cy="99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836546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8365468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rot="10057200">
            <a:off x="4495680" y="762120"/>
            <a:ext cx="838080" cy="83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928992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9289926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 rot="20502600">
            <a:off x="4595040" y="1199520"/>
            <a:ext cx="78732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056" y="142"/>
                </a:moveTo>
                <a:arcTo wR="10800" hR="10800" stAng="-5957565" swAng="5834976"/>
                <a:lnTo>
                  <a:pt x="10800" y="10800"/>
                </a:lnTo>
                <a:close/>
              </a:path>
              <a:path fill="none" w="21600" h="21600">
                <a:moveTo>
                  <a:pt x="9056" y="142"/>
                </a:moveTo>
                <a:arcTo wR="10800" hR="10800" stAng="-5957565" swAng="5834976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 rot="20118000">
            <a:off x="4721400" y="1285560"/>
            <a:ext cx="61020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203" y="1563"/>
                </a:moveTo>
                <a:arcTo wR="10800" hR="10800" stAng="-7272805" swAng="7272805"/>
                <a:lnTo>
                  <a:pt x="10800" y="10800"/>
                </a:lnTo>
                <a:close/>
              </a:path>
              <a:path fill="none" w="21600" h="21600">
                <a:moveTo>
                  <a:pt x="5203" y="1563"/>
                </a:moveTo>
                <a:arcTo wR="10800" hR="10800" stAng="-7272805" swAng="7272805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105520" y="1752480"/>
            <a:ext cx="0" cy="4572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381560" y="2200320"/>
            <a:ext cx="1361880" cy="125280"/>
          </a:xfrm>
          <a:custGeom>
            <a:avLst/>
            <a:gdLst/>
            <a:ahLst/>
            <a:rect l="l" t="t" r="r" b="b"/>
            <a:pathLst>
              <a:path w="858" h="79">
                <a:moveTo>
                  <a:pt x="0" y="48"/>
                </a:moveTo>
                <a:cubicBezTo>
                  <a:pt x="55" y="30"/>
                  <a:pt x="22" y="28"/>
                  <a:pt x="48" y="54"/>
                </a:cubicBezTo>
                <a:cubicBezTo>
                  <a:pt x="53" y="59"/>
                  <a:pt x="60" y="62"/>
                  <a:pt x="66" y="66"/>
                </a:cubicBezTo>
                <a:cubicBezTo>
                  <a:pt x="108" y="38"/>
                  <a:pt x="94" y="30"/>
                  <a:pt x="114" y="60"/>
                </a:cubicBezTo>
                <a:cubicBezTo>
                  <a:pt x="122" y="58"/>
                  <a:pt x="130" y="57"/>
                  <a:pt x="138" y="54"/>
                </a:cubicBezTo>
                <a:cubicBezTo>
                  <a:pt x="145" y="51"/>
                  <a:pt x="149" y="43"/>
                  <a:pt x="156" y="42"/>
                </a:cubicBezTo>
                <a:cubicBezTo>
                  <a:pt x="161" y="41"/>
                  <a:pt x="191" y="52"/>
                  <a:pt x="198" y="54"/>
                </a:cubicBezTo>
                <a:cubicBezTo>
                  <a:pt x="223" y="37"/>
                  <a:pt x="234" y="44"/>
                  <a:pt x="258" y="60"/>
                </a:cubicBezTo>
                <a:cubicBezTo>
                  <a:pt x="285" y="55"/>
                  <a:pt x="299" y="44"/>
                  <a:pt x="324" y="36"/>
                </a:cubicBezTo>
                <a:cubicBezTo>
                  <a:pt x="357" y="47"/>
                  <a:pt x="387" y="31"/>
                  <a:pt x="420" y="42"/>
                </a:cubicBezTo>
                <a:cubicBezTo>
                  <a:pt x="445" y="79"/>
                  <a:pt x="416" y="48"/>
                  <a:pt x="480" y="54"/>
                </a:cubicBezTo>
                <a:cubicBezTo>
                  <a:pt x="493" y="55"/>
                  <a:pt x="503" y="68"/>
                  <a:pt x="516" y="72"/>
                </a:cubicBezTo>
                <a:cubicBezTo>
                  <a:pt x="524" y="47"/>
                  <a:pt x="532" y="39"/>
                  <a:pt x="558" y="48"/>
                </a:cubicBezTo>
                <a:cubicBezTo>
                  <a:pt x="602" y="33"/>
                  <a:pt x="582" y="39"/>
                  <a:pt x="618" y="30"/>
                </a:cubicBezTo>
                <a:cubicBezTo>
                  <a:pt x="642" y="42"/>
                  <a:pt x="660" y="54"/>
                  <a:pt x="690" y="48"/>
                </a:cubicBezTo>
                <a:cubicBezTo>
                  <a:pt x="697" y="47"/>
                  <a:pt x="696" y="35"/>
                  <a:pt x="702" y="30"/>
                </a:cubicBezTo>
                <a:cubicBezTo>
                  <a:pt x="707" y="26"/>
                  <a:pt x="714" y="26"/>
                  <a:pt x="720" y="24"/>
                </a:cubicBezTo>
                <a:cubicBezTo>
                  <a:pt x="726" y="28"/>
                  <a:pt x="732" y="41"/>
                  <a:pt x="738" y="36"/>
                </a:cubicBezTo>
                <a:cubicBezTo>
                  <a:pt x="748" y="28"/>
                  <a:pt x="750" y="0"/>
                  <a:pt x="750" y="0"/>
                </a:cubicBezTo>
                <a:cubicBezTo>
                  <a:pt x="792" y="42"/>
                  <a:pt x="748" y="29"/>
                  <a:pt x="822" y="48"/>
                </a:cubicBezTo>
                <a:cubicBezTo>
                  <a:pt x="830" y="46"/>
                  <a:pt x="839" y="47"/>
                  <a:pt x="846" y="42"/>
                </a:cubicBezTo>
                <a:cubicBezTo>
                  <a:pt x="852" y="38"/>
                  <a:pt x="858" y="24"/>
                  <a:pt x="858" y="24"/>
                </a:cubicBezTo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257800" y="2286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nscr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105520" y="2438280"/>
            <a:ext cx="0" cy="4572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724280" y="2971800"/>
            <a:ext cx="776520" cy="646200"/>
          </a:xfrm>
          <a:custGeom>
            <a:avLst/>
            <a:gdLst/>
            <a:ahLst/>
            <a:rect l="l" t="t" r="r" b="b"/>
            <a:pathLst>
              <a:path w="489" h="407">
                <a:moveTo>
                  <a:pt x="58" y="132"/>
                </a:moveTo>
                <a:cubicBezTo>
                  <a:pt x="36" y="88"/>
                  <a:pt x="29" y="18"/>
                  <a:pt x="82" y="0"/>
                </a:cubicBezTo>
                <a:cubicBezTo>
                  <a:pt x="91" y="18"/>
                  <a:pt x="110" y="44"/>
                  <a:pt x="88" y="66"/>
                </a:cubicBezTo>
                <a:cubicBezTo>
                  <a:pt x="78" y="76"/>
                  <a:pt x="60" y="70"/>
                  <a:pt x="46" y="72"/>
                </a:cubicBezTo>
                <a:cubicBezTo>
                  <a:pt x="9" y="91"/>
                  <a:pt x="0" y="123"/>
                  <a:pt x="46" y="138"/>
                </a:cubicBezTo>
                <a:cubicBezTo>
                  <a:pt x="70" y="130"/>
                  <a:pt x="94" y="128"/>
                  <a:pt x="118" y="120"/>
                </a:cubicBezTo>
                <a:cubicBezTo>
                  <a:pt x="134" y="71"/>
                  <a:pt x="155" y="58"/>
                  <a:pt x="202" y="42"/>
                </a:cubicBezTo>
                <a:cubicBezTo>
                  <a:pt x="231" y="128"/>
                  <a:pt x="207" y="114"/>
                  <a:pt x="136" y="120"/>
                </a:cubicBezTo>
                <a:cubicBezTo>
                  <a:pt x="126" y="159"/>
                  <a:pt x="122" y="234"/>
                  <a:pt x="148" y="270"/>
                </a:cubicBezTo>
                <a:cubicBezTo>
                  <a:pt x="160" y="286"/>
                  <a:pt x="177" y="299"/>
                  <a:pt x="196" y="306"/>
                </a:cubicBezTo>
                <a:cubicBezTo>
                  <a:pt x="219" y="315"/>
                  <a:pt x="268" y="318"/>
                  <a:pt x="268" y="318"/>
                </a:cubicBezTo>
                <a:cubicBezTo>
                  <a:pt x="345" y="313"/>
                  <a:pt x="367" y="333"/>
                  <a:pt x="388" y="270"/>
                </a:cubicBezTo>
                <a:cubicBezTo>
                  <a:pt x="384" y="238"/>
                  <a:pt x="390" y="203"/>
                  <a:pt x="376" y="174"/>
                </a:cubicBezTo>
                <a:cubicBezTo>
                  <a:pt x="371" y="163"/>
                  <a:pt x="352" y="168"/>
                  <a:pt x="340" y="168"/>
                </a:cubicBezTo>
                <a:cubicBezTo>
                  <a:pt x="310" y="168"/>
                  <a:pt x="280" y="172"/>
                  <a:pt x="250" y="174"/>
                </a:cubicBezTo>
                <a:cubicBezTo>
                  <a:pt x="234" y="179"/>
                  <a:pt x="206" y="188"/>
                  <a:pt x="196" y="198"/>
                </a:cubicBezTo>
                <a:cubicBezTo>
                  <a:pt x="190" y="204"/>
                  <a:pt x="192" y="214"/>
                  <a:pt x="190" y="222"/>
                </a:cubicBezTo>
                <a:cubicBezTo>
                  <a:pt x="186" y="234"/>
                  <a:pt x="178" y="258"/>
                  <a:pt x="178" y="258"/>
                </a:cubicBezTo>
                <a:cubicBezTo>
                  <a:pt x="182" y="274"/>
                  <a:pt x="180" y="293"/>
                  <a:pt x="190" y="306"/>
                </a:cubicBezTo>
                <a:cubicBezTo>
                  <a:pt x="237" y="372"/>
                  <a:pt x="333" y="387"/>
                  <a:pt x="406" y="396"/>
                </a:cubicBezTo>
                <a:cubicBezTo>
                  <a:pt x="430" y="392"/>
                  <a:pt x="470" y="407"/>
                  <a:pt x="478" y="384"/>
                </a:cubicBezTo>
                <a:cubicBezTo>
                  <a:pt x="489" y="352"/>
                  <a:pt x="464" y="314"/>
                  <a:pt x="442" y="288"/>
                </a:cubicBezTo>
                <a:cubicBezTo>
                  <a:pt x="346" y="173"/>
                  <a:pt x="343" y="179"/>
                  <a:pt x="250" y="156"/>
                </a:cubicBezTo>
                <a:cubicBezTo>
                  <a:pt x="225" y="131"/>
                  <a:pt x="222" y="128"/>
                  <a:pt x="238" y="96"/>
                </a:cubicBezTo>
                <a:cubicBezTo>
                  <a:pt x="252" y="98"/>
                  <a:pt x="309" y="110"/>
                  <a:pt x="268" y="138"/>
                </a:cubicBezTo>
                <a:cubicBezTo>
                  <a:pt x="238" y="158"/>
                  <a:pt x="196" y="147"/>
                  <a:pt x="160" y="150"/>
                </a:cubicBezTo>
                <a:cubicBezTo>
                  <a:pt x="138" y="164"/>
                  <a:pt x="121" y="172"/>
                  <a:pt x="112" y="198"/>
                </a:cubicBezTo>
                <a:cubicBezTo>
                  <a:pt x="105" y="285"/>
                  <a:pt x="116" y="282"/>
                  <a:pt x="34" y="282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105520" y="3581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lipépt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057400" y="2819520"/>
            <a:ext cx="0" cy="4572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2971800" y="3352680"/>
            <a:ext cx="1828800" cy="60984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057400" y="5257800"/>
            <a:ext cx="0" cy="121932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5257800"/>
            <a:ext cx="152280" cy="15228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743200" y="5486400"/>
            <a:ext cx="0" cy="38088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819520" y="5486400"/>
            <a:ext cx="0" cy="38088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514600" y="5257800"/>
            <a:ext cx="228600" cy="22860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2819520" y="5257440"/>
            <a:ext cx="228600" cy="22860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2819520" y="5257440"/>
            <a:ext cx="152280" cy="15228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971800" y="5410080"/>
            <a:ext cx="152280" cy="15264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24080" y="5638680"/>
            <a:ext cx="0" cy="38124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200400" y="5638680"/>
            <a:ext cx="0" cy="38124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895480" y="5410080"/>
            <a:ext cx="228600" cy="22860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3200400" y="5409720"/>
            <a:ext cx="228600" cy="22860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200400" y="5410080"/>
            <a:ext cx="152280" cy="15264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971800" y="4724280"/>
            <a:ext cx="152280" cy="15264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124080" y="4952880"/>
            <a:ext cx="0" cy="38124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200400" y="4952880"/>
            <a:ext cx="0" cy="38124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895480" y="4724280"/>
            <a:ext cx="228600" cy="22860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3200400" y="4723920"/>
            <a:ext cx="228600" cy="22860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3200400" y="4724280"/>
            <a:ext cx="152280" cy="15264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066680" y="6705720"/>
            <a:ext cx="1981440" cy="83808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371600" y="6934320"/>
            <a:ext cx="76320" cy="7596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676520" y="6781680"/>
            <a:ext cx="7596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447920" y="7238880"/>
            <a:ext cx="7596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523880" y="7010280"/>
            <a:ext cx="7632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828800" y="6858000"/>
            <a:ext cx="7632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828800" y="7162920"/>
            <a:ext cx="76320" cy="7596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133720" y="6934320"/>
            <a:ext cx="75960" cy="7596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362320" y="6781680"/>
            <a:ext cx="7596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514600" y="6934320"/>
            <a:ext cx="76320" cy="7596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514600" y="7238880"/>
            <a:ext cx="7632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133720" y="7315200"/>
            <a:ext cx="7596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81080" y="7010280"/>
            <a:ext cx="7632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819520" y="6934320"/>
            <a:ext cx="75960" cy="7596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981080" y="7086600"/>
            <a:ext cx="7632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828800" y="7315200"/>
            <a:ext cx="7632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286000" y="7391520"/>
            <a:ext cx="76320" cy="7596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828800" y="6934320"/>
            <a:ext cx="76320" cy="7596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971800" y="7086600"/>
            <a:ext cx="7632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743200" y="7162920"/>
            <a:ext cx="76320" cy="7596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2057400" y="67035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57400" y="6858000"/>
            <a:ext cx="228600" cy="228600"/>
          </a:xfrm>
          <a:prstGeom prst="ellipse">
            <a:avLst/>
          </a:prstGeom>
          <a:noFill/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343400" y="41911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Marco de lec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Ori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105520" y="78487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343400" y="8153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267080" y="80773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038480" y="7543800"/>
            <a:ext cx="2119320" cy="10573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 rot="12825000">
            <a:off x="3162960" y="6071400"/>
            <a:ext cx="33843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4" y="10"/>
                </a:moveTo>
                <a:arcTo wR="10800" hR="10800" stAng="-5548315" swAng="5049145"/>
                <a:lnTo>
                  <a:pt x="10800" y="10800"/>
                </a:lnTo>
                <a:close/>
              </a:path>
              <a:path fill="none" w="21600" h="21600">
                <a:moveTo>
                  <a:pt x="10334" y="10"/>
                </a:moveTo>
                <a:arcTo wR="10800" hR="10800" stAng="-5548315" swAng="5049145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038480" y="8153280"/>
            <a:ext cx="18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172200" y="80773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 rot="1731600">
            <a:off x="3666960" y="7837560"/>
            <a:ext cx="3384720" cy="288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337" swAng="4413241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337" swAng="4413241"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114800" y="7772400"/>
            <a:ext cx="1981080" cy="8380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419720" y="8001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724280" y="7848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495680" y="83059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572000" y="80773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876920" y="79246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876920" y="82296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181480" y="8001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410080" y="7848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562720" y="8001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562720" y="83059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181480" y="83818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029200" y="80773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867280" y="8001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029200" y="8153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876920" y="83818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334120" y="84582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876920" y="8001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019920" y="81532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791320" y="82296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410080" y="6172200"/>
            <a:ext cx="990360" cy="99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836546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8365468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rot="247800">
            <a:off x="5484960" y="6248160"/>
            <a:ext cx="837720" cy="83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806803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8068037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 rot="10665000">
            <a:off x="5489280" y="6165000"/>
            <a:ext cx="7617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056" y="142"/>
                </a:moveTo>
                <a:arcTo wR="10800" hR="10800" stAng="-5957565" swAng="5957565"/>
                <a:lnTo>
                  <a:pt x="10800" y="10800"/>
                </a:lnTo>
                <a:close/>
              </a:path>
              <a:path fill="none" w="21600" h="21600">
                <a:moveTo>
                  <a:pt x="9056" y="142"/>
                </a:moveTo>
                <a:arcTo wR="10800" hR="10800" stAng="-5957565" swAng="5957565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 rot="10269600">
            <a:off x="5571720" y="6231240"/>
            <a:ext cx="55656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855" y="1783"/>
                </a:moveTo>
                <a:arcTo wR="10800" hR="10800" stAng="-7403787" swAng="7508120"/>
                <a:lnTo>
                  <a:pt x="10800" y="10800"/>
                </a:lnTo>
                <a:close/>
              </a:path>
              <a:path fill="none" w="21600" h="21600">
                <a:moveTo>
                  <a:pt x="4855" y="1783"/>
                </a:moveTo>
                <a:arcTo wR="10800" hR="10800" stAng="-7403787" swAng="7508120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-685440" y="7012080"/>
            <a:ext cx="5942880" cy="182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82750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827501"/>
              </a:path>
            </a:pathLst>
          </a:custGeom>
          <a:noFill/>
          <a:ln cap="rnd" w="38160">
            <a:solidFill>
              <a:srgbClr val="3333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 flipV="1">
            <a:off x="5181480" y="6781680"/>
            <a:ext cx="76320" cy="990720"/>
          </a:xfrm>
          <a:prstGeom prst="line">
            <a:avLst/>
          </a:prstGeom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5334120" y="7162920"/>
            <a:ext cx="838080" cy="380880"/>
          </a:xfrm>
          <a:prstGeom prst="line">
            <a:avLst/>
          </a:prstGeom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228600" y="228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hromosome wal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rot="16200000">
            <a:off x="4099680" y="547920"/>
            <a:ext cx="1825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rot="16200000">
            <a:off x="4823640" y="509760"/>
            <a:ext cx="182520" cy="838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4876920" y="837720"/>
            <a:ext cx="75960" cy="1825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800600" y="838080"/>
            <a:ext cx="228600" cy="152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029200" y="106668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209680" y="1600200"/>
            <a:ext cx="43434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33520" y="1600200"/>
            <a:ext cx="167616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648320" y="838080"/>
            <a:ext cx="0" cy="152640"/>
          </a:xfrm>
          <a:prstGeom prst="line">
            <a:avLst/>
          </a:prstGeom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1218960" y="990720"/>
            <a:ext cx="3429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990720" y="1828800"/>
            <a:ext cx="228600" cy="0"/>
          </a:xfrm>
          <a:prstGeom prst="line">
            <a:avLst/>
          </a:prstGeom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7" name=""/>
          <p:cNvCxnSpPr/>
          <p:nvPr/>
        </p:nvCxnSpPr>
        <p:spPr>
          <a:xfrm flipH="1" rot="16200000">
            <a:off x="2018160" y="1638000"/>
            <a:ext cx="305640" cy="76680"/>
          </a:xfrm>
          <a:prstGeom prst="bentConnector3">
            <a:avLst>
              <a:gd name="adj1" fmla="val 5000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638" name=""/>
          <p:cNvSpPr/>
          <p:nvPr/>
        </p:nvSpPr>
        <p:spPr>
          <a:xfrm>
            <a:off x="1371600" y="1600200"/>
            <a:ext cx="762120" cy="15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971800" y="1600200"/>
            <a:ext cx="685800" cy="15228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657600" y="1600200"/>
            <a:ext cx="838080" cy="15228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495680" y="1600200"/>
            <a:ext cx="76212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10080" y="1600200"/>
            <a:ext cx="152640" cy="152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5410080" y="1600200"/>
            <a:ext cx="152640" cy="152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133720" y="19810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209680" y="20574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286000" y="23623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362320" y="24382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429000" y="22860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505320" y="23623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432240" y="241632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505320" y="243828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514600" y="251460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solidFill>
            <a:srgbClr val="00ffff"/>
          </a:solidFill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590920" y="251460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895480" y="20574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971800" y="21337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743200" y="25146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819520" y="25909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429000" y="25909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505320" y="26668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260440" y="1981080"/>
            <a:ext cx="88920" cy="180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209680" y="2057400"/>
            <a:ext cx="88920" cy="14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946240" y="2514600"/>
            <a:ext cx="7632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5" y="8"/>
                  <a:pt x="9" y="17"/>
                  <a:pt x="16" y="24"/>
                </a:cubicBezTo>
                <a:cubicBezTo>
                  <a:pt x="23" y="31"/>
                  <a:pt x="34" y="32"/>
                  <a:pt x="40" y="40"/>
                </a:cubicBezTo>
                <a:cubicBezTo>
                  <a:pt x="45" y="47"/>
                  <a:pt x="48" y="64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908440" y="2565360"/>
            <a:ext cx="7596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22" y="22"/>
                  <a:pt x="27" y="43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895480" y="2070000"/>
            <a:ext cx="6372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59200" y="2120760"/>
            <a:ext cx="75960" cy="6372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505320" y="2768760"/>
            <a:ext cx="12600" cy="37800"/>
          </a:xfrm>
          <a:custGeom>
            <a:avLst/>
            <a:gdLst/>
            <a:ahLst/>
            <a:rect l="l" t="t" r="r" b="b"/>
            <a:pathLst>
              <a:path w="8" h="24">
                <a:moveTo>
                  <a:pt x="0" y="0"/>
                </a:moveTo>
                <a:cubicBezTo>
                  <a:pt x="3" y="8"/>
                  <a:pt x="8" y="24"/>
                  <a:pt x="8" y="24"/>
                </a:cubicBezTo>
                <a:cubicBezTo>
                  <a:pt x="8" y="24"/>
                  <a:pt x="3" y="8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572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427560" y="2819520"/>
            <a:ext cx="6480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41" y="40"/>
                </a:moveTo>
                <a:cubicBezTo>
                  <a:pt x="0" y="26"/>
                  <a:pt x="26" y="25"/>
                  <a:pt x="1" y="0"/>
                </a:cubicBezTo>
              </a:path>
            </a:pathLst>
          </a:custGeom>
          <a:noFill/>
          <a:ln w="572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572000" y="26668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648320" y="27432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809880" y="22860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886200" y="23623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952880" y="22096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29200" y="22860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6120" y="234000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029200" y="236232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038480" y="243828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114800" y="243828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419720" y="19810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495680" y="20574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267080" y="24382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343400" y="25146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952880" y="25146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029200" y="25909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699080" y="2666880"/>
            <a:ext cx="88920" cy="180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648320" y="2743200"/>
            <a:ext cx="88920" cy="14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470480" y="2438280"/>
            <a:ext cx="75960" cy="1018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5" y="8"/>
                  <a:pt x="9" y="17"/>
                  <a:pt x="16" y="24"/>
                </a:cubicBezTo>
                <a:cubicBezTo>
                  <a:pt x="23" y="31"/>
                  <a:pt x="34" y="32"/>
                  <a:pt x="40" y="40"/>
                </a:cubicBezTo>
                <a:cubicBezTo>
                  <a:pt x="45" y="47"/>
                  <a:pt x="48" y="64"/>
                  <a:pt x="48" y="64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432320" y="2489040"/>
            <a:ext cx="76320" cy="1018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22" y="22"/>
                  <a:pt x="27" y="43"/>
                  <a:pt x="48" y="64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419720" y="1994040"/>
            <a:ext cx="6336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483080" y="204480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029200" y="2692440"/>
            <a:ext cx="12600" cy="38160"/>
          </a:xfrm>
          <a:custGeom>
            <a:avLst/>
            <a:gdLst/>
            <a:ahLst/>
            <a:rect l="l" t="t" r="r" b="b"/>
            <a:pathLst>
              <a:path w="8" h="24">
                <a:moveTo>
                  <a:pt x="0" y="0"/>
                </a:moveTo>
                <a:cubicBezTo>
                  <a:pt x="3" y="8"/>
                  <a:pt x="8" y="24"/>
                  <a:pt x="8" y="24"/>
                </a:cubicBezTo>
                <a:cubicBezTo>
                  <a:pt x="8" y="24"/>
                  <a:pt x="3" y="8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951440" y="2743200"/>
            <a:ext cx="6516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41" y="40"/>
                </a:moveTo>
                <a:cubicBezTo>
                  <a:pt x="0" y="26"/>
                  <a:pt x="26" y="25"/>
                  <a:pt x="1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209680" y="1600200"/>
            <a:ext cx="762120" cy="152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295280" y="1676520"/>
            <a:ext cx="0" cy="11430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66680" y="28954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143000" y="29718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066680" y="2908440"/>
            <a:ext cx="6372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130400" y="2959200"/>
            <a:ext cx="7596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143000" y="2895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09480" y="3352680"/>
            <a:ext cx="53352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143000" y="3352680"/>
            <a:ext cx="533520" cy="152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676520" y="3352680"/>
            <a:ext cx="53316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209680" y="3352680"/>
            <a:ext cx="53352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04640" y="2050920"/>
            <a:ext cx="990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rastreo genotecagenóm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4" name=""/>
          <p:cNvCxnSpPr/>
          <p:nvPr/>
        </p:nvCxnSpPr>
        <p:spPr>
          <a:xfrm flipH="1" rot="16200000">
            <a:off x="495360" y="3390840"/>
            <a:ext cx="305280" cy="76680"/>
          </a:xfrm>
          <a:prstGeom prst="bentConnector3">
            <a:avLst>
              <a:gd name="adj1" fmla="val 49940"/>
            </a:avLst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705" name=""/>
          <p:cNvCxnSpPr/>
          <p:nvPr/>
        </p:nvCxnSpPr>
        <p:spPr>
          <a:xfrm flipH="1" rot="16200000">
            <a:off x="2552760" y="3390840"/>
            <a:ext cx="305280" cy="76680"/>
          </a:xfrm>
          <a:prstGeom prst="bentConnector3">
            <a:avLst>
              <a:gd name="adj1" fmla="val 49940"/>
            </a:avLst>
          </a:prstGeom>
          <a:ln w="76320">
            <a:solidFill>
              <a:srgbClr val="ffffff"/>
            </a:solidFill>
            <a:miter/>
          </a:ln>
        </p:spPr>
      </p:cxnSp>
      <p:sp>
        <p:nvSpPr>
          <p:cNvPr id="706" name=""/>
          <p:cNvSpPr/>
          <p:nvPr/>
        </p:nvSpPr>
        <p:spPr>
          <a:xfrm>
            <a:off x="1981080" y="3733920"/>
            <a:ext cx="228600" cy="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286000" y="35812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133720" y="4191120"/>
            <a:ext cx="30456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209680" y="4267080"/>
            <a:ext cx="15264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133720" y="4203720"/>
            <a:ext cx="6336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97080" y="425448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743200" y="4191120"/>
            <a:ext cx="53352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276720" y="4191120"/>
            <a:ext cx="304560" cy="152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581280" y="4191120"/>
            <a:ext cx="762120" cy="152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343400" y="4191120"/>
            <a:ext cx="53352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6" name=""/>
          <p:cNvCxnSpPr/>
          <p:nvPr/>
        </p:nvCxnSpPr>
        <p:spPr>
          <a:xfrm flipH="1" rot="16200000">
            <a:off x="2628720" y="4228920"/>
            <a:ext cx="305640" cy="76680"/>
          </a:xfrm>
          <a:prstGeom prst="bentConnector3">
            <a:avLst>
              <a:gd name="adj1" fmla="val 50000"/>
            </a:avLst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717" name=""/>
          <p:cNvCxnSpPr/>
          <p:nvPr/>
        </p:nvCxnSpPr>
        <p:spPr>
          <a:xfrm flipH="1" rot="16200000">
            <a:off x="4686120" y="4228920"/>
            <a:ext cx="305640" cy="76680"/>
          </a:xfrm>
          <a:prstGeom prst="bentConnector3">
            <a:avLst>
              <a:gd name="adj1" fmla="val 50000"/>
            </a:avLst>
          </a:prstGeom>
          <a:ln w="76320">
            <a:solidFill>
              <a:srgbClr val="ffffff"/>
            </a:solidFill>
            <a:miter/>
          </a:ln>
        </p:spPr>
      </p:cxnSp>
      <p:sp>
        <p:nvSpPr>
          <p:cNvPr id="718" name=""/>
          <p:cNvSpPr/>
          <p:nvPr/>
        </p:nvSpPr>
        <p:spPr>
          <a:xfrm>
            <a:off x="4114800" y="4572000"/>
            <a:ext cx="228600" cy="0"/>
          </a:xfrm>
          <a:prstGeom prst="line">
            <a:avLst/>
          </a:prstGeom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886200" y="51814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52578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886200" y="5194440"/>
            <a:ext cx="6336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949560" y="524520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343400" y="5257800"/>
            <a:ext cx="53352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5257800"/>
            <a:ext cx="304560" cy="152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181480" y="5257800"/>
            <a:ext cx="762120" cy="15228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943600" y="5257800"/>
            <a:ext cx="53352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715000" y="5638680"/>
            <a:ext cx="228600" cy="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038480" y="4495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9" name=""/>
          <p:cNvCxnSpPr/>
          <p:nvPr/>
        </p:nvCxnSpPr>
        <p:spPr>
          <a:xfrm flipH="1" rot="16200000">
            <a:off x="6286320" y="5295600"/>
            <a:ext cx="305640" cy="76680"/>
          </a:xfrm>
          <a:prstGeom prst="bentConnector3">
            <a:avLst>
              <a:gd name="adj1" fmla="val 50000"/>
            </a:avLst>
          </a:prstGeom>
          <a:ln w="76320">
            <a:solidFill>
              <a:srgbClr val="ffffff"/>
            </a:solidFill>
            <a:miter/>
          </a:ln>
        </p:spPr>
      </p:cxnSp>
      <p:sp>
        <p:nvSpPr>
          <p:cNvPr id="730" name=""/>
          <p:cNvSpPr/>
          <p:nvPr/>
        </p:nvSpPr>
        <p:spPr>
          <a:xfrm>
            <a:off x="4343400" y="5257800"/>
            <a:ext cx="53352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019920" y="548640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095880" y="5562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04920" y="59436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Análisis de clones seleccion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648320" y="36576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rastreos suces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5" name=""/>
          <p:cNvCxnSpPr/>
          <p:nvPr/>
        </p:nvCxnSpPr>
        <p:spPr>
          <a:xfrm flipH="1" rot="16200000">
            <a:off x="4228920" y="5295600"/>
            <a:ext cx="305640" cy="76680"/>
          </a:xfrm>
          <a:prstGeom prst="bentConnector3">
            <a:avLst>
              <a:gd name="adj1" fmla="val 50000"/>
            </a:avLst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736" name=""/>
          <p:cNvCxnSpPr/>
          <p:nvPr/>
        </p:nvCxnSpPr>
        <p:spPr>
          <a:xfrm flipH="1" rot="16200000">
            <a:off x="4381560" y="5448240"/>
            <a:ext cx="305280" cy="76680"/>
          </a:xfrm>
          <a:prstGeom prst="bentConnector3">
            <a:avLst>
              <a:gd name="adj1" fmla="val 49940"/>
            </a:avLst>
          </a:prstGeom>
          <a:ln w="76320">
            <a:solidFill>
              <a:srgbClr val="ffffff"/>
            </a:solidFill>
            <a:miter/>
          </a:ln>
        </p:spPr>
      </p:cxnSp>
      <p:sp>
        <p:nvSpPr>
          <p:cNvPr id="737" name=""/>
          <p:cNvSpPr/>
          <p:nvPr/>
        </p:nvSpPr>
        <p:spPr>
          <a:xfrm>
            <a:off x="914400" y="6934320"/>
            <a:ext cx="10666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8" name=""/>
          <p:cNvCxnSpPr/>
          <p:nvPr/>
        </p:nvCxnSpPr>
        <p:spPr>
          <a:xfrm flipH="1" rot="16200000">
            <a:off x="417960" y="6972120"/>
            <a:ext cx="305640" cy="76680"/>
          </a:xfrm>
          <a:prstGeom prst="bentConnector3">
            <a:avLst>
              <a:gd name="adj1" fmla="val 50000"/>
            </a:avLst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739" name=""/>
          <p:cNvCxnSpPr/>
          <p:nvPr/>
        </p:nvCxnSpPr>
        <p:spPr>
          <a:xfrm flipH="1" rot="16200000">
            <a:off x="2475360" y="6972120"/>
            <a:ext cx="305640" cy="76680"/>
          </a:xfrm>
          <a:prstGeom prst="bentConnector3">
            <a:avLst>
              <a:gd name="adj1" fmla="val 50000"/>
            </a:avLst>
          </a:prstGeom>
          <a:ln w="76320">
            <a:solidFill>
              <a:srgbClr val="ffffff"/>
            </a:solidFill>
            <a:miter/>
          </a:ln>
        </p:spPr>
      </p:cxnSp>
      <p:sp>
        <p:nvSpPr>
          <p:cNvPr id="740" name=""/>
          <p:cNvSpPr/>
          <p:nvPr/>
        </p:nvSpPr>
        <p:spPr>
          <a:xfrm>
            <a:off x="3657600" y="6934320"/>
            <a:ext cx="121932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1" name=""/>
          <p:cNvCxnSpPr/>
          <p:nvPr/>
        </p:nvCxnSpPr>
        <p:spPr>
          <a:xfrm flipH="1" rot="16200000">
            <a:off x="3009960" y="7048440"/>
            <a:ext cx="305280" cy="76680"/>
          </a:xfrm>
          <a:prstGeom prst="bentConnector3">
            <a:avLst>
              <a:gd name="adj1" fmla="val 49940"/>
            </a:avLst>
          </a:prstGeom>
          <a:ln w="76320">
            <a:solidFill>
              <a:srgbClr val="ffffff"/>
            </a:solidFill>
            <a:miter/>
          </a:ln>
        </p:spPr>
      </p:cxnSp>
      <p:sp>
        <p:nvSpPr>
          <p:cNvPr id="742" name=""/>
          <p:cNvSpPr/>
          <p:nvPr/>
        </p:nvSpPr>
        <p:spPr>
          <a:xfrm>
            <a:off x="1066680" y="7391520"/>
            <a:ext cx="838440" cy="152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809880" y="7391520"/>
            <a:ext cx="914400" cy="152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4" name=""/>
          <p:cNvCxnSpPr/>
          <p:nvPr/>
        </p:nvCxnSpPr>
        <p:spPr>
          <a:xfrm flipH="1" rot="16200000">
            <a:off x="3009960" y="7505640"/>
            <a:ext cx="305280" cy="76680"/>
          </a:xfrm>
          <a:prstGeom prst="bentConnector3">
            <a:avLst>
              <a:gd name="adj1" fmla="val 49940"/>
            </a:avLst>
          </a:prstGeom>
          <a:ln w="76320">
            <a:solidFill>
              <a:srgbClr val="ffffff"/>
            </a:solidFill>
            <a:miter/>
          </a:ln>
        </p:spPr>
      </p:cxnSp>
      <p:sp>
        <p:nvSpPr>
          <p:cNvPr id="745" name=""/>
          <p:cNvSpPr/>
          <p:nvPr/>
        </p:nvSpPr>
        <p:spPr>
          <a:xfrm>
            <a:off x="1600200" y="7696080"/>
            <a:ext cx="0" cy="457200"/>
          </a:xfrm>
          <a:prstGeom prst="line">
            <a:avLst/>
          </a:prstGeom>
          <a:ln w="5724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191120" y="7696080"/>
            <a:ext cx="0" cy="457200"/>
          </a:xfrm>
          <a:prstGeom prst="line">
            <a:avLst/>
          </a:prstGeom>
          <a:ln w="5724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38080" y="8305920"/>
            <a:ext cx="1295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8" name=""/>
          <p:cNvCxnSpPr/>
          <p:nvPr/>
        </p:nvCxnSpPr>
        <p:spPr>
          <a:xfrm flipH="1" rot="16200000">
            <a:off x="2475360" y="8343720"/>
            <a:ext cx="305640" cy="76680"/>
          </a:xfrm>
          <a:prstGeom prst="bentConnector3">
            <a:avLst>
              <a:gd name="adj1" fmla="val 50000"/>
            </a:avLst>
          </a:prstGeom>
          <a:ln w="76320">
            <a:solidFill>
              <a:srgbClr val="ffffff"/>
            </a:solidFill>
            <a:miter/>
          </a:ln>
        </p:spPr>
      </p:cxnSp>
      <p:sp>
        <p:nvSpPr>
          <p:cNvPr id="749" name=""/>
          <p:cNvSpPr/>
          <p:nvPr/>
        </p:nvSpPr>
        <p:spPr>
          <a:xfrm>
            <a:off x="3809880" y="8305920"/>
            <a:ext cx="13716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4114440" y="8229600"/>
            <a:ext cx="152280" cy="2286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114800" y="8305920"/>
            <a:ext cx="152280" cy="152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80880" y="63244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Indiv. con  gen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200400" y="6324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Indiv. con gen mu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2743200" y="1371600"/>
            <a:ext cx="304920" cy="1371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2743200" y="152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743200" y="457200"/>
            <a:ext cx="304920" cy="9144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429000" y="1371600"/>
            <a:ext cx="304920" cy="13716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429000" y="457200"/>
            <a:ext cx="304920" cy="9144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429000" y="152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33520" y="4114800"/>
            <a:ext cx="304560" cy="1371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33520" y="3200400"/>
            <a:ext cx="304560" cy="9144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219320" y="4114800"/>
            <a:ext cx="304560" cy="13716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219320" y="3200400"/>
            <a:ext cx="304560" cy="9144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209680" y="4191120"/>
            <a:ext cx="304920" cy="1371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209680" y="3276720"/>
            <a:ext cx="304920" cy="9144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895480" y="4191120"/>
            <a:ext cx="304920" cy="13716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895480" y="3276720"/>
            <a:ext cx="304920" cy="9144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886200" y="4191120"/>
            <a:ext cx="304920" cy="1371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886200" y="3276720"/>
            <a:ext cx="304920" cy="9144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572000" y="4191120"/>
            <a:ext cx="304920" cy="13716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572000" y="3276720"/>
            <a:ext cx="304920" cy="9144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562720" y="4191120"/>
            <a:ext cx="304560" cy="1371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562720" y="3276720"/>
            <a:ext cx="304560" cy="9144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248520" y="4191120"/>
            <a:ext cx="304560" cy="13716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248520" y="3276720"/>
            <a:ext cx="304560" cy="9144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rot="5446200">
            <a:off x="188280" y="4838400"/>
            <a:ext cx="990720" cy="304920"/>
          </a:xfrm>
          <a:prstGeom prst="flowChartDelay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rot="16121400">
            <a:off x="2057040" y="3428280"/>
            <a:ext cx="609480" cy="304920"/>
          </a:xfrm>
          <a:prstGeom prst="flowChartDelay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rot="16125600">
            <a:off x="5522760" y="3312360"/>
            <a:ext cx="381240" cy="304920"/>
          </a:xfrm>
          <a:prstGeom prst="flowChartDelay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rot="5446200">
            <a:off x="3729960" y="5103720"/>
            <a:ext cx="609480" cy="304920"/>
          </a:xfrm>
          <a:prstGeom prst="flowChartDelay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209680" y="457200"/>
            <a:ext cx="457200" cy="23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c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52280" y="3200400"/>
            <a:ext cx="381240" cy="23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809880" y="457200"/>
            <a:ext cx="549360" cy="23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rot="5446200">
            <a:off x="875880" y="4838760"/>
            <a:ext cx="990720" cy="304560"/>
          </a:xfrm>
          <a:prstGeom prst="flowChartDelay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rot="16121400">
            <a:off x="2742840" y="3428280"/>
            <a:ext cx="609480" cy="304920"/>
          </a:xfrm>
          <a:prstGeom prst="flowChartDelay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rot="5446200">
            <a:off x="4419000" y="5105160"/>
            <a:ext cx="609840" cy="304920"/>
          </a:xfrm>
          <a:prstGeom prst="flowChartDelay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rot="16125600">
            <a:off x="6210360" y="3314520"/>
            <a:ext cx="380880" cy="304560"/>
          </a:xfrm>
          <a:prstGeom prst="flowChartDelay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523880" y="3276720"/>
            <a:ext cx="549360" cy="26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838080" y="4419360"/>
            <a:ext cx="3812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838080" y="4419720"/>
            <a:ext cx="3049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2514600" y="388620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514600" y="388620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4191120" y="487656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191120" y="48769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5867280" y="365760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867280" y="365760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905120" y="3276720"/>
            <a:ext cx="457200" cy="23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c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581280" y="3276720"/>
            <a:ext cx="457200" cy="23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a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257800" y="3276720"/>
            <a:ext cx="304920" cy="24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c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200400" y="3276720"/>
            <a:ext cx="304920" cy="23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876920" y="3276720"/>
            <a:ext cx="304560" cy="23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553080" y="3276720"/>
            <a:ext cx="304920" cy="23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743200" y="2286000"/>
            <a:ext cx="30492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219320" y="5105520"/>
            <a:ext cx="30456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209680" y="5105520"/>
            <a:ext cx="30492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572000" y="5105520"/>
            <a:ext cx="30492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562720" y="5105520"/>
            <a:ext cx="30456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/>
          <p:nvPr/>
        </p:nvSpPr>
        <p:spPr>
          <a:xfrm>
            <a:off x="476280" y="755640"/>
            <a:ext cx="638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Herramientas genéticas para el rastreo de g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responsable de un fenoti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378160" y="5105520"/>
            <a:ext cx="380880" cy="380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92560" y="5181480"/>
            <a:ext cx="30456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759040" y="53341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987640" y="5334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225520" y="58672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073240" y="6172200"/>
            <a:ext cx="30492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673440" y="6172200"/>
            <a:ext cx="304920" cy="304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835360" y="6095880"/>
            <a:ext cx="38088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225520" y="5867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987640" y="5867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825720" y="5867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511520" y="6095880"/>
            <a:ext cx="38124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978360" y="63244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282920" y="63244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054320" y="6629400"/>
            <a:ext cx="381240" cy="380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378160" y="5486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292560" y="5486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996920" y="6477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759040" y="6477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597120" y="6477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511520" y="6477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054320" y="70866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96720" y="7772400"/>
            <a:ext cx="6096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Identificación de marcador genético ligado al gen responsable del fenot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77960" y="5105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01640" y="5943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01640" y="6553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77960" y="5105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844640" y="5105520"/>
            <a:ext cx="609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ahoma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825720" y="5105520"/>
            <a:ext cx="609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 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d 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378160" y="2743200"/>
            <a:ext cx="1522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378160" y="3429000"/>
            <a:ext cx="1522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682720" y="3429000"/>
            <a:ext cx="15264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378160" y="3886200"/>
            <a:ext cx="1522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301840" y="4114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606760" y="4114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682720" y="2743200"/>
            <a:ext cx="15264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911320" y="2819520"/>
            <a:ext cx="6098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749760" y="2743200"/>
            <a:ext cx="7617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w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z 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f  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g  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m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  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c 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 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r   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978360" y="7391520"/>
            <a:ext cx="609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ahoma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587840" y="6781680"/>
            <a:ext cx="609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 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 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444840" y="6781680"/>
            <a:ext cx="609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ahoma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844640" y="6781680"/>
            <a:ext cx="609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 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d 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682720" y="6781680"/>
            <a:ext cx="6858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 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d 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282920" y="281952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genotipificació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435560" y="32004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haplot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49360" y="4572000"/>
            <a:ext cx="53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Análisis de ligamiento gené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004840" y="2814480"/>
            <a:ext cx="3812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c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004840" y="3751200"/>
            <a:ext cx="122400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"/>
          <p:cNvSpPr/>
          <p:nvPr/>
        </p:nvSpPr>
        <p:spPr>
          <a:xfrm>
            <a:off x="922320" y="468360"/>
            <a:ext cx="50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aptura de genes (Gene trapp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65000" y="1187280"/>
            <a:ext cx="5688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43434"/>
                </a:solidFill>
                <a:latin typeface="Tahoma"/>
              </a:rPr>
              <a:t>Basado en la integración 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al azar</a:t>
            </a:r>
            <a:r>
              <a:rPr b="1" lang="es-ES" sz="1600" spc="-1" strike="noStrike">
                <a:solidFill>
                  <a:srgbClr val="343434"/>
                </a:solidFill>
                <a:latin typeface="Tahoma"/>
              </a:rPr>
              <a:t> de un gen reportero y un marcador de selección en el genoma con en propósito de interrumpir un gen, alterar un fenotipo y conducir a su ident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133720" y="4788000"/>
            <a:ext cx="3025800" cy="23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349360" y="5003640"/>
            <a:ext cx="2592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492280" y="3922560"/>
            <a:ext cx="1224000" cy="217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716280" y="3922560"/>
            <a:ext cx="506520" cy="217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276640" y="4067280"/>
            <a:ext cx="79200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4005000" y="4067280"/>
            <a:ext cx="718920" cy="93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204640" y="3276720"/>
            <a:ext cx="144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Tahoma"/>
              </a:rPr>
              <a:t>Gen report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Tahoma"/>
              </a:rPr>
              <a:t>sin promo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649320" y="3348000"/>
            <a:ext cx="99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cc99"/>
                </a:solidFill>
                <a:latin typeface="Tahoma"/>
              </a:rPr>
              <a:t>Gen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cc99"/>
                </a:solidFill>
                <a:latin typeface="Tahoma"/>
              </a:rPr>
              <a:t>sele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428560" y="5796000"/>
            <a:ext cx="236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Vector de integ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959720" y="4356000"/>
            <a:ext cx="143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Sitio de Poly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rot="16044600">
            <a:off x="2270880" y="3918600"/>
            <a:ext cx="218880" cy="2206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221000" y="3922560"/>
            <a:ext cx="360360" cy="21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rot="5400000">
            <a:off x="4546440" y="3957480"/>
            <a:ext cx="214560" cy="144720"/>
          </a:xfrm>
          <a:prstGeom prst="triangle">
            <a:avLst>
              <a:gd name="adj" fmla="val 4962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292640" y="4067280"/>
            <a:ext cx="647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846720" y="3851280"/>
            <a:ext cx="135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Sitio acept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de “splicing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876560" y="3706920"/>
            <a:ext cx="141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Sitio donan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de “splicing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3276720"/>
            <a:ext cx="58672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CONSTRUCCION DE GENOTE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CLONAMIENTO DE 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CARACTERIZACION DE CL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609480"/>
            <a:ext cx="41907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CAPITULO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CLO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" descr=""/>
          <p:cNvPicPr/>
          <p:nvPr/>
        </p:nvPicPr>
        <p:blipFill>
          <a:blip r:embed="rId1"/>
          <a:srcRect l="0" t="21866" r="70569" b="60954"/>
          <a:stretch/>
        </p:blipFill>
        <p:spPr>
          <a:xfrm>
            <a:off x="2205000" y="2050920"/>
            <a:ext cx="1081080" cy="792360"/>
          </a:xfrm>
          <a:prstGeom prst="rect">
            <a:avLst/>
          </a:prstGeom>
          <a:ln w="0">
            <a:noFill/>
          </a:ln>
        </p:spPr>
      </p:pic>
      <p:pic>
        <p:nvPicPr>
          <p:cNvPr id="875" name="" descr=""/>
          <p:cNvPicPr/>
          <p:nvPr/>
        </p:nvPicPr>
        <p:blipFill>
          <a:blip r:embed="rId2"/>
          <a:srcRect l="-25458" t="0" r="0" b="75010"/>
          <a:stretch/>
        </p:blipFill>
        <p:spPr>
          <a:xfrm>
            <a:off x="981000" y="539640"/>
            <a:ext cx="4606920" cy="1152720"/>
          </a:xfrm>
          <a:prstGeom prst="rect">
            <a:avLst/>
          </a:prstGeom>
          <a:ln w="0">
            <a:noFill/>
          </a:ln>
        </p:spPr>
      </p:pic>
      <p:sp>
        <p:nvSpPr>
          <p:cNvPr id="876" name=""/>
          <p:cNvSpPr/>
          <p:nvPr/>
        </p:nvSpPr>
        <p:spPr>
          <a:xfrm flipH="1">
            <a:off x="764640" y="126036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481920" y="22827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ranscrito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492280" y="2340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1 2 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9" name="" descr=""/>
          <p:cNvPicPr/>
          <p:nvPr/>
        </p:nvPicPr>
        <p:blipFill>
          <a:blip r:embed="rId3"/>
          <a:srcRect l="0" t="39057" r="0" b="31268"/>
          <a:stretch/>
        </p:blipFill>
        <p:spPr>
          <a:xfrm>
            <a:off x="1557360" y="3203640"/>
            <a:ext cx="3672000" cy="1368360"/>
          </a:xfrm>
          <a:prstGeom prst="rect">
            <a:avLst/>
          </a:prstGeom>
          <a:ln w="0">
            <a:noFill/>
          </a:ln>
        </p:spPr>
      </p:pic>
      <p:sp>
        <p:nvSpPr>
          <p:cNvPr id="880" name=""/>
          <p:cNvSpPr/>
          <p:nvPr/>
        </p:nvSpPr>
        <p:spPr>
          <a:xfrm flipH="1">
            <a:off x="404280" y="399564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1" name="" descr=""/>
          <p:cNvPicPr/>
          <p:nvPr/>
        </p:nvPicPr>
        <p:blipFill>
          <a:blip r:embed="rId4"/>
          <a:srcRect l="0" t="67191" r="58843" b="18805"/>
          <a:stretch/>
        </p:blipFill>
        <p:spPr>
          <a:xfrm>
            <a:off x="2492280" y="5003640"/>
            <a:ext cx="1511280" cy="646200"/>
          </a:xfrm>
          <a:prstGeom prst="rect">
            <a:avLst/>
          </a:prstGeom>
          <a:ln w="0">
            <a:noFill/>
          </a:ln>
        </p:spPr>
      </p:pic>
      <p:sp>
        <p:nvSpPr>
          <p:cNvPr id="882" name=""/>
          <p:cNvSpPr/>
          <p:nvPr/>
        </p:nvSpPr>
        <p:spPr>
          <a:xfrm>
            <a:off x="4070520" y="5148360"/>
            <a:ext cx="273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ranscrito “atrapad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Fusión entre el gen endógen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y los genes del v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379320" y="61272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Gen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860640" y="1763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913400" y="3203640"/>
            <a:ext cx="46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Gen con inserción del reportero y sel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620160" y="1187280"/>
            <a:ext cx="69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intr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408200" y="1403280"/>
            <a:ext cx="10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Sitio a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748960" y="1403280"/>
            <a:ext cx="113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Sitio don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H="1" flipV="1">
            <a:off x="3212640" y="1258560"/>
            <a:ext cx="71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4724280" y="1258920"/>
            <a:ext cx="14472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933720" y="4500720"/>
            <a:ext cx="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/>
          <p:nvPr/>
        </p:nvSpPr>
        <p:spPr>
          <a:xfrm>
            <a:off x="230760" y="5364000"/>
            <a:ext cx="6417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23960" indent="-279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osibilidades de la técn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279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279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dentificar un gen responsable de un fenoti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279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islar el 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279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studiar el patrón de expresión tisular del 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279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Generación de mutante con el gen inac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90360" y="2411280"/>
            <a:ext cx="657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676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nsecuenci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xpresión del marcador de selección bajo el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el promotor endóge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xpresión del gen reportero bajo el control d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romotor endóge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upresión de la expresión del producto génico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n algunos casos, alteración “detectable” del fenoti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304920" y="380880"/>
            <a:ext cx="6553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Uso de sonda de DNA para la identificación del clon de interés en una genote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H="1">
            <a:off x="1828440" y="3200400"/>
            <a:ext cx="6094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85800" y="3962520"/>
            <a:ext cx="1844640" cy="16081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295280" y="4114800"/>
            <a:ext cx="16056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990720" y="4419720"/>
            <a:ext cx="160200" cy="14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066680" y="4952880"/>
            <a:ext cx="16056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371600" y="4572000"/>
            <a:ext cx="16020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676520" y="5105520"/>
            <a:ext cx="160200" cy="14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752480" y="4343400"/>
            <a:ext cx="16056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981080" y="4724280"/>
            <a:ext cx="16056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743200" y="4648320"/>
            <a:ext cx="7221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657600" y="3962520"/>
            <a:ext cx="1844640" cy="16081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267080" y="4114800"/>
            <a:ext cx="16056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962520" y="4419720"/>
            <a:ext cx="160200" cy="14580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038480" y="4952880"/>
            <a:ext cx="16056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343400" y="4572000"/>
            <a:ext cx="16020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648320" y="5105520"/>
            <a:ext cx="160200" cy="14580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724280" y="4343400"/>
            <a:ext cx="16056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952880" y="4724280"/>
            <a:ext cx="16056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800600" y="5715000"/>
            <a:ext cx="1440" cy="657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038480" y="6342120"/>
            <a:ext cx="1844640" cy="16081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648320" y="6494400"/>
            <a:ext cx="16020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343400" y="6799320"/>
            <a:ext cx="16020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419720" y="7332840"/>
            <a:ext cx="160200" cy="14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724280" y="6951600"/>
            <a:ext cx="16056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029200" y="7485120"/>
            <a:ext cx="16020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105520" y="6723000"/>
            <a:ext cx="16020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334120" y="7104240"/>
            <a:ext cx="160200" cy="14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rot="9828000">
            <a:off x="4968360" y="4940280"/>
            <a:ext cx="647280" cy="73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15000" y="58086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791320" y="55800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486400" y="565632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562720" y="550404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095880" y="565632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867280" y="58086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648400" y="5475240"/>
            <a:ext cx="139680" cy="74520"/>
          </a:xfrm>
          <a:custGeom>
            <a:avLst/>
            <a:gdLst/>
            <a:ahLst/>
            <a:rect l="l" t="t" r="r" b="b"/>
            <a:pathLst>
              <a:path w="84" h="30">
                <a:moveTo>
                  <a:pt x="0" y="30"/>
                </a:moveTo>
                <a:cubicBezTo>
                  <a:pt x="24" y="14"/>
                  <a:pt x="54" y="0"/>
                  <a:pt x="84" y="0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470560" y="5742000"/>
            <a:ext cx="162000" cy="182520"/>
          </a:xfrm>
          <a:custGeom>
            <a:avLst/>
            <a:gdLst/>
            <a:ahLst/>
            <a:rect l="l" t="t" r="r" b="b"/>
            <a:pathLst>
              <a:path w="97" h="120">
                <a:moveTo>
                  <a:pt x="46" y="0"/>
                </a:moveTo>
                <a:cubicBezTo>
                  <a:pt x="44" y="16"/>
                  <a:pt x="49" y="35"/>
                  <a:pt x="40" y="48"/>
                </a:cubicBezTo>
                <a:cubicBezTo>
                  <a:pt x="33" y="58"/>
                  <a:pt x="13" y="51"/>
                  <a:pt x="4" y="60"/>
                </a:cubicBezTo>
                <a:cubicBezTo>
                  <a:pt x="0" y="64"/>
                  <a:pt x="16" y="64"/>
                  <a:pt x="22" y="66"/>
                </a:cubicBezTo>
                <a:cubicBezTo>
                  <a:pt x="40" y="70"/>
                  <a:pt x="58" y="74"/>
                  <a:pt x="76" y="78"/>
                </a:cubicBezTo>
                <a:cubicBezTo>
                  <a:pt x="97" y="110"/>
                  <a:pt x="82" y="105"/>
                  <a:pt x="52" y="120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181480" y="7543800"/>
            <a:ext cx="214560" cy="74520"/>
          </a:xfrm>
          <a:custGeom>
            <a:avLst/>
            <a:gdLst/>
            <a:ahLst/>
            <a:rect l="l" t="t" r="r" b="b"/>
            <a:pathLst>
              <a:path w="128" h="21">
                <a:moveTo>
                  <a:pt x="0" y="3"/>
                </a:moveTo>
                <a:cubicBezTo>
                  <a:pt x="27" y="11"/>
                  <a:pt x="56" y="21"/>
                  <a:pt x="84" y="21"/>
                </a:cubicBezTo>
                <a:cubicBezTo>
                  <a:pt x="128" y="21"/>
                  <a:pt x="126" y="0"/>
                  <a:pt x="126" y="21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762520" y="5522760"/>
            <a:ext cx="200160" cy="93960"/>
          </a:xfrm>
          <a:custGeom>
            <a:avLst/>
            <a:gdLst/>
            <a:ahLst/>
            <a:rect l="l" t="t" r="r" b="b"/>
            <a:pathLst>
              <a:path w="120" h="62">
                <a:moveTo>
                  <a:pt x="120" y="24"/>
                </a:moveTo>
                <a:cubicBezTo>
                  <a:pt x="82" y="49"/>
                  <a:pt x="112" y="19"/>
                  <a:pt x="72" y="6"/>
                </a:cubicBezTo>
                <a:cubicBezTo>
                  <a:pt x="46" y="9"/>
                  <a:pt x="0" y="0"/>
                  <a:pt x="36" y="36"/>
                </a:cubicBezTo>
                <a:cubicBezTo>
                  <a:pt x="62" y="62"/>
                  <a:pt x="60" y="36"/>
                  <a:pt x="6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657760" y="5713560"/>
            <a:ext cx="149400" cy="91800"/>
          </a:xfrm>
          <a:custGeom>
            <a:avLst/>
            <a:gdLst/>
            <a:ahLst/>
            <a:rect l="l" t="t" r="r" b="b"/>
            <a:pathLst>
              <a:path w="89" h="60">
                <a:moveTo>
                  <a:pt x="84" y="60"/>
                </a:moveTo>
                <a:cubicBezTo>
                  <a:pt x="37" y="44"/>
                  <a:pt x="89" y="16"/>
                  <a:pt x="42" y="0"/>
                </a:cubicBezTo>
                <a:cubicBezTo>
                  <a:pt x="24" y="26"/>
                  <a:pt x="37" y="54"/>
                  <a:pt x="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962680" y="5846760"/>
            <a:ext cx="181080" cy="100080"/>
          </a:xfrm>
          <a:custGeom>
            <a:avLst/>
            <a:gdLst/>
            <a:ahLst/>
            <a:rect l="l" t="t" r="r" b="b"/>
            <a:pathLst>
              <a:path w="108" h="66">
                <a:moveTo>
                  <a:pt x="0" y="0"/>
                </a:moveTo>
                <a:cubicBezTo>
                  <a:pt x="6" y="2"/>
                  <a:pt x="13" y="2"/>
                  <a:pt x="18" y="6"/>
                </a:cubicBezTo>
                <a:cubicBezTo>
                  <a:pt x="31" y="16"/>
                  <a:pt x="39" y="33"/>
                  <a:pt x="54" y="42"/>
                </a:cubicBezTo>
                <a:cubicBezTo>
                  <a:pt x="73" y="53"/>
                  <a:pt x="108" y="37"/>
                  <a:pt x="108" y="66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895480" y="441972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971800" y="419112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666880" y="4267080"/>
            <a:ext cx="81000" cy="74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743200" y="41148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276720" y="4267080"/>
            <a:ext cx="81000" cy="74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048120" y="441972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828880" y="4086360"/>
            <a:ext cx="139680" cy="74520"/>
          </a:xfrm>
          <a:custGeom>
            <a:avLst/>
            <a:gdLst/>
            <a:ahLst/>
            <a:rect l="l" t="t" r="r" b="b"/>
            <a:pathLst>
              <a:path w="84" h="30">
                <a:moveTo>
                  <a:pt x="0" y="30"/>
                </a:moveTo>
                <a:cubicBezTo>
                  <a:pt x="24" y="14"/>
                  <a:pt x="54" y="0"/>
                  <a:pt x="84" y="0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651040" y="4352760"/>
            <a:ext cx="162000" cy="182880"/>
          </a:xfrm>
          <a:custGeom>
            <a:avLst/>
            <a:gdLst/>
            <a:ahLst/>
            <a:rect l="l" t="t" r="r" b="b"/>
            <a:pathLst>
              <a:path w="97" h="120">
                <a:moveTo>
                  <a:pt x="46" y="0"/>
                </a:moveTo>
                <a:cubicBezTo>
                  <a:pt x="44" y="16"/>
                  <a:pt x="49" y="35"/>
                  <a:pt x="40" y="48"/>
                </a:cubicBezTo>
                <a:cubicBezTo>
                  <a:pt x="33" y="58"/>
                  <a:pt x="13" y="51"/>
                  <a:pt x="4" y="60"/>
                </a:cubicBezTo>
                <a:cubicBezTo>
                  <a:pt x="0" y="64"/>
                  <a:pt x="16" y="64"/>
                  <a:pt x="22" y="66"/>
                </a:cubicBezTo>
                <a:cubicBezTo>
                  <a:pt x="40" y="70"/>
                  <a:pt x="58" y="74"/>
                  <a:pt x="76" y="78"/>
                </a:cubicBezTo>
                <a:cubicBezTo>
                  <a:pt x="97" y="110"/>
                  <a:pt x="82" y="105"/>
                  <a:pt x="52" y="120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943360" y="4133880"/>
            <a:ext cx="199800" cy="93600"/>
          </a:xfrm>
          <a:custGeom>
            <a:avLst/>
            <a:gdLst/>
            <a:ahLst/>
            <a:rect l="l" t="t" r="r" b="b"/>
            <a:pathLst>
              <a:path w="120" h="62">
                <a:moveTo>
                  <a:pt x="120" y="24"/>
                </a:moveTo>
                <a:cubicBezTo>
                  <a:pt x="82" y="49"/>
                  <a:pt x="112" y="19"/>
                  <a:pt x="72" y="6"/>
                </a:cubicBezTo>
                <a:cubicBezTo>
                  <a:pt x="46" y="9"/>
                  <a:pt x="0" y="0"/>
                  <a:pt x="36" y="36"/>
                </a:cubicBezTo>
                <a:cubicBezTo>
                  <a:pt x="62" y="62"/>
                  <a:pt x="60" y="36"/>
                  <a:pt x="6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838600" y="4324320"/>
            <a:ext cx="149040" cy="92160"/>
          </a:xfrm>
          <a:custGeom>
            <a:avLst/>
            <a:gdLst/>
            <a:ahLst/>
            <a:rect l="l" t="t" r="r" b="b"/>
            <a:pathLst>
              <a:path w="89" h="60">
                <a:moveTo>
                  <a:pt x="84" y="60"/>
                </a:moveTo>
                <a:cubicBezTo>
                  <a:pt x="37" y="44"/>
                  <a:pt x="89" y="16"/>
                  <a:pt x="42" y="0"/>
                </a:cubicBezTo>
                <a:cubicBezTo>
                  <a:pt x="24" y="26"/>
                  <a:pt x="37" y="54"/>
                  <a:pt x="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143160" y="4457880"/>
            <a:ext cx="181080" cy="99720"/>
          </a:xfrm>
          <a:custGeom>
            <a:avLst/>
            <a:gdLst/>
            <a:ahLst/>
            <a:rect l="l" t="t" r="r" b="b"/>
            <a:pathLst>
              <a:path w="108" h="66">
                <a:moveTo>
                  <a:pt x="0" y="0"/>
                </a:moveTo>
                <a:cubicBezTo>
                  <a:pt x="6" y="2"/>
                  <a:pt x="13" y="2"/>
                  <a:pt x="18" y="6"/>
                </a:cubicBezTo>
                <a:cubicBezTo>
                  <a:pt x="31" y="16"/>
                  <a:pt x="39" y="33"/>
                  <a:pt x="54" y="42"/>
                </a:cubicBezTo>
                <a:cubicBezTo>
                  <a:pt x="73" y="53"/>
                  <a:pt x="108" y="37"/>
                  <a:pt x="108" y="66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086280" y="4257720"/>
            <a:ext cx="199800" cy="88920"/>
          </a:xfrm>
          <a:custGeom>
            <a:avLst/>
            <a:gdLst/>
            <a:ahLst/>
            <a:rect l="l" t="t" r="r" b="b"/>
            <a:pathLst>
              <a:path w="120" h="58">
                <a:moveTo>
                  <a:pt x="120" y="18"/>
                </a:moveTo>
                <a:cubicBezTo>
                  <a:pt x="96" y="26"/>
                  <a:pt x="84" y="36"/>
                  <a:pt x="66" y="54"/>
                </a:cubicBezTo>
                <a:cubicBezTo>
                  <a:pt x="0" y="41"/>
                  <a:pt x="48" y="58"/>
                  <a:pt x="54" y="36"/>
                </a:cubicBezTo>
                <a:cubicBezTo>
                  <a:pt x="57" y="24"/>
                  <a:pt x="48" y="12"/>
                  <a:pt x="48" y="0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057400" y="7924680"/>
            <a:ext cx="160200" cy="146160"/>
          </a:xfrm>
          <a:prstGeom prst="ellipse">
            <a:avLst/>
          </a:prstGeom>
          <a:solidFill>
            <a:srgbClr val="00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57200" y="6477120"/>
            <a:ext cx="2486160" cy="2192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H="1">
            <a:off x="3048120" y="7238880"/>
            <a:ext cx="914400" cy="282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990720" y="6858000"/>
            <a:ext cx="1844640" cy="1608120"/>
          </a:xfrm>
          <a:prstGeom prst="ellipse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057400" y="7848720"/>
            <a:ext cx="160200" cy="145800"/>
          </a:xfrm>
          <a:prstGeom prst="ellipse">
            <a:avLst/>
          </a:prstGeom>
          <a:solidFill>
            <a:srgbClr val="00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981080" y="1905120"/>
            <a:ext cx="2119320" cy="10573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H="1" rot="12825000">
            <a:off x="1105560" y="432720"/>
            <a:ext cx="33843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4" y="10"/>
                </a:moveTo>
                <a:arcTo wR="10800" hR="10800" stAng="-5548315" swAng="5049145"/>
                <a:lnTo>
                  <a:pt x="10800" y="10800"/>
                </a:lnTo>
                <a:close/>
              </a:path>
              <a:path fill="none" w="21600" h="21600">
                <a:moveTo>
                  <a:pt x="10334" y="10"/>
                </a:moveTo>
                <a:arcTo wR="10800" hR="10800" stAng="-5548315" swAng="5049145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981080" y="2514600"/>
            <a:ext cx="18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114800" y="24382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H="1" rot="1731600">
            <a:off x="1609560" y="2198880"/>
            <a:ext cx="3384720" cy="288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337" swAng="4413241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337" swAng="4413241"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057400" y="2133720"/>
            <a:ext cx="1981080" cy="8380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362320" y="2362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666880" y="22096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438280" y="26668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514600" y="2438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819520" y="2286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819520" y="25909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124080" y="23623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352680" y="22096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505320" y="2362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505320" y="26668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124080" y="2743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971800" y="2438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809880" y="23623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971800" y="25146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819520" y="27432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276720" y="28195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2819520" y="2362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962520" y="25146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733920" y="25909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267080" y="2895480"/>
            <a:ext cx="19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Hidridación con sonda nucleotíd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/>
          <p:nvPr/>
        </p:nvSpPr>
        <p:spPr>
          <a:xfrm>
            <a:off x="380880" y="1905120"/>
            <a:ext cx="152640" cy="990360"/>
          </a:xfrm>
          <a:custGeom>
            <a:avLst/>
            <a:gdLst>
              <a:gd name="textAreaLeft" fmla="*/ 7200 w 152640"/>
              <a:gd name="textAreaRight" fmla="*/ 145440 w 15264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39866">
                <a:moveTo>
                  <a:pt x="3600" y="0"/>
                </a:moveTo>
                <a:arcTo wR="3600" hR="3600" stAng="16200000" swAng="-5400000"/>
                <a:lnTo>
                  <a:pt x="0" y="136266"/>
                </a:lnTo>
                <a:arcTo wR="3600" hR="3600" stAng="10800000" swAng="-5400000"/>
                <a:lnTo>
                  <a:pt x="18000" y="1398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80880" y="2895480"/>
            <a:ext cx="152640" cy="990720"/>
          </a:xfrm>
          <a:custGeom>
            <a:avLst/>
            <a:gdLst>
              <a:gd name="textAreaLeft" fmla="*/ 7200 w 152640"/>
              <a:gd name="textAreaRight" fmla="*/ 145440 w 152640"/>
              <a:gd name="textAreaTop" fmla="*/ 7200 h 990720"/>
              <a:gd name="textAreaBottom" fmla="*/ 983520 h 990720"/>
            </a:gdLst>
            <a:ahLst/>
            <a:rect l="textAreaLeft" t="textAreaTop" r="textAreaRight" b="textAreaBottom"/>
            <a:pathLst>
              <a:path w="21600" h="139917">
                <a:moveTo>
                  <a:pt x="3600" y="0"/>
                </a:moveTo>
                <a:arcTo wR="3600" hR="3600" stAng="16200000" swAng="-5400000"/>
                <a:lnTo>
                  <a:pt x="0" y="136317"/>
                </a:lnTo>
                <a:arcTo wR="3600" hR="3600" stAng="10800000" swAng="-5400000"/>
                <a:lnTo>
                  <a:pt x="18000" y="1399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62120" y="1905120"/>
            <a:ext cx="152280" cy="9903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40196">
                <a:moveTo>
                  <a:pt x="3600" y="0"/>
                </a:moveTo>
                <a:arcTo wR="3600" hR="3600" stAng="16200000" swAng="-5400000"/>
                <a:lnTo>
                  <a:pt x="0" y="136596"/>
                </a:lnTo>
                <a:arcTo wR="3600" hR="3600" stAng="10800000" swAng="-5400000"/>
                <a:lnTo>
                  <a:pt x="18000" y="140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62120" y="2895480"/>
            <a:ext cx="152280" cy="99072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720"/>
              <a:gd name="textAreaBottom" fmla="*/ 983520 h 990720"/>
            </a:gdLst>
            <a:ahLst/>
            <a:rect l="textAreaLeft" t="textAreaTop" r="textAreaRight" b="textAreaBottom"/>
            <a:pathLst>
              <a:path w="21600" h="140247">
                <a:moveTo>
                  <a:pt x="3600" y="0"/>
                </a:moveTo>
                <a:arcTo wR="3600" hR="3600" stAng="16200000" swAng="-5400000"/>
                <a:lnTo>
                  <a:pt x="0" y="136647"/>
                </a:lnTo>
                <a:arcTo wR="3600" hR="3600" stAng="10800000" swAng="-5400000"/>
                <a:lnTo>
                  <a:pt x="18000" y="1402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219320" y="1905120"/>
            <a:ext cx="152280" cy="9903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40196">
                <a:moveTo>
                  <a:pt x="3600" y="0"/>
                </a:moveTo>
                <a:arcTo wR="3600" hR="3600" stAng="16200000" swAng="-5400000"/>
                <a:lnTo>
                  <a:pt x="0" y="136596"/>
                </a:lnTo>
                <a:arcTo wR="3600" hR="3600" stAng="10800000" swAng="-5400000"/>
                <a:lnTo>
                  <a:pt x="18000" y="140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219320" y="2895480"/>
            <a:ext cx="152280" cy="99072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720"/>
              <a:gd name="textAreaBottom" fmla="*/ 983520 h 990720"/>
            </a:gdLst>
            <a:ahLst/>
            <a:rect l="textAreaLeft" t="textAreaTop" r="textAreaRight" b="textAreaBottom"/>
            <a:pathLst>
              <a:path w="21600" h="140247">
                <a:moveTo>
                  <a:pt x="3600" y="0"/>
                </a:moveTo>
                <a:arcTo wR="3600" hR="3600" stAng="16200000" swAng="-5400000"/>
                <a:lnTo>
                  <a:pt x="0" y="136647"/>
                </a:lnTo>
                <a:arcTo wR="3600" hR="3600" stAng="10800000" swAng="-5400000"/>
                <a:lnTo>
                  <a:pt x="18000" y="1402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676520" y="1905120"/>
            <a:ext cx="152280" cy="9903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40196">
                <a:moveTo>
                  <a:pt x="3600" y="0"/>
                </a:moveTo>
                <a:arcTo wR="3600" hR="3600" stAng="16200000" swAng="-5400000"/>
                <a:lnTo>
                  <a:pt x="0" y="136596"/>
                </a:lnTo>
                <a:arcTo wR="3600" hR="3600" stAng="10800000" swAng="-5400000"/>
                <a:lnTo>
                  <a:pt x="18000" y="140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676520" y="2895480"/>
            <a:ext cx="152280" cy="99072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720"/>
              <a:gd name="textAreaBottom" fmla="*/ 983520 h 990720"/>
            </a:gdLst>
            <a:ahLst/>
            <a:rect l="textAreaLeft" t="textAreaTop" r="textAreaRight" b="textAreaBottom"/>
            <a:pathLst>
              <a:path w="21600" h="140247">
                <a:moveTo>
                  <a:pt x="3600" y="0"/>
                </a:moveTo>
                <a:arcTo wR="3600" hR="3600" stAng="16200000" swAng="-5400000"/>
                <a:lnTo>
                  <a:pt x="0" y="136647"/>
                </a:lnTo>
                <a:arcTo wR="3600" hR="3600" stAng="10800000" swAng="-5400000"/>
                <a:lnTo>
                  <a:pt x="18000" y="1402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057400" y="1905120"/>
            <a:ext cx="152280" cy="9903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40196">
                <a:moveTo>
                  <a:pt x="3600" y="0"/>
                </a:moveTo>
                <a:arcTo wR="3600" hR="3600" stAng="16200000" swAng="-5400000"/>
                <a:lnTo>
                  <a:pt x="0" y="136596"/>
                </a:lnTo>
                <a:arcTo wR="3600" hR="3600" stAng="10800000" swAng="-5400000"/>
                <a:lnTo>
                  <a:pt x="18000" y="140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057400" y="2895480"/>
            <a:ext cx="152280" cy="99072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720"/>
              <a:gd name="textAreaBottom" fmla="*/ 983520 h 990720"/>
            </a:gdLst>
            <a:ahLst/>
            <a:rect l="textAreaLeft" t="textAreaTop" r="textAreaRight" b="textAreaBottom"/>
            <a:pathLst>
              <a:path w="21600" h="140247">
                <a:moveTo>
                  <a:pt x="3600" y="0"/>
                </a:moveTo>
                <a:arcTo wR="3600" hR="3600" stAng="16200000" swAng="-5400000"/>
                <a:lnTo>
                  <a:pt x="0" y="136647"/>
                </a:lnTo>
                <a:arcTo wR="3600" hR="3600" stAng="10800000" swAng="-5400000"/>
                <a:lnTo>
                  <a:pt x="18000" y="1402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676520" y="1905120"/>
            <a:ext cx="152280" cy="68580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685800"/>
              <a:gd name="textAreaBottom" fmla="*/ 678600 h 685800"/>
            </a:gdLst>
            <a:ahLst/>
            <a:rect l="textAreaLeft" t="textAreaTop" r="textAreaRight" b="textAreaBottom"/>
            <a:pathLst>
              <a:path w="21600" h="97098">
                <a:moveTo>
                  <a:pt x="3600" y="0"/>
                </a:moveTo>
                <a:arcTo wR="3600" hR="3600" stAng="16200000" swAng="-5400000"/>
                <a:lnTo>
                  <a:pt x="0" y="93498"/>
                </a:lnTo>
                <a:arcTo wR="3600" hR="3600" stAng="10800000" swAng="-5400000"/>
                <a:lnTo>
                  <a:pt x="18000" y="970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62120" y="1905120"/>
            <a:ext cx="152280" cy="1522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219320" y="1905120"/>
            <a:ext cx="152280" cy="3045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304560"/>
              <a:gd name="textAreaBottom" fmla="*/ 297360 h 304560"/>
            </a:gdLst>
            <a:ahLst/>
            <a:rect l="textAreaLeft" t="textAreaTop" r="textAreaRight" b="textAreaBottom"/>
            <a:pathLst>
              <a:path w="21600" h="43149">
                <a:moveTo>
                  <a:pt x="3600" y="0"/>
                </a:moveTo>
                <a:arcTo wR="3600" hR="3600" stAng="16200000" swAng="-5400000"/>
                <a:lnTo>
                  <a:pt x="0" y="39549"/>
                </a:lnTo>
                <a:arcTo wR="3600" hR="3600" stAng="10800000" swAng="-5400000"/>
                <a:lnTo>
                  <a:pt x="18000" y="431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057400" y="1905120"/>
            <a:ext cx="152280" cy="9903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40196">
                <a:moveTo>
                  <a:pt x="3600" y="0"/>
                </a:moveTo>
                <a:arcTo wR="3600" hR="3600" stAng="16200000" swAng="-5400000"/>
                <a:lnTo>
                  <a:pt x="0" y="136596"/>
                </a:lnTo>
                <a:arcTo wR="3600" hR="3600" stAng="10800000" swAng="-5400000"/>
                <a:lnTo>
                  <a:pt x="18000" y="140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048120" y="1905120"/>
            <a:ext cx="152280" cy="9903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40196">
                <a:moveTo>
                  <a:pt x="3600" y="0"/>
                </a:moveTo>
                <a:arcTo wR="3600" hR="3600" stAng="16200000" swAng="-5400000"/>
                <a:lnTo>
                  <a:pt x="0" y="136596"/>
                </a:lnTo>
                <a:arcTo wR="3600" hR="3600" stAng="10800000" swAng="-5400000"/>
                <a:lnTo>
                  <a:pt x="18000" y="140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514600" y="1905120"/>
            <a:ext cx="152280" cy="9903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40196">
                <a:moveTo>
                  <a:pt x="3600" y="0"/>
                </a:moveTo>
                <a:arcTo wR="3600" hR="3600" stAng="16200000" swAng="-5400000"/>
                <a:lnTo>
                  <a:pt x="0" y="136596"/>
                </a:lnTo>
                <a:arcTo wR="3600" hR="3600" stAng="10800000" swAng="-5400000"/>
                <a:lnTo>
                  <a:pt x="18000" y="140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514600" y="2895480"/>
            <a:ext cx="152280" cy="99072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720"/>
              <a:gd name="textAreaBottom" fmla="*/ 983520 h 990720"/>
            </a:gdLst>
            <a:ahLst/>
            <a:rect l="textAreaLeft" t="textAreaTop" r="textAreaRight" b="textAreaBottom"/>
            <a:pathLst>
              <a:path w="21600" h="140247">
                <a:moveTo>
                  <a:pt x="3600" y="0"/>
                </a:moveTo>
                <a:arcTo wR="3600" hR="3600" stAng="16200000" swAng="-5400000"/>
                <a:lnTo>
                  <a:pt x="0" y="136647"/>
                </a:lnTo>
                <a:arcTo wR="3600" hR="3600" stAng="10800000" swAng="-5400000"/>
                <a:lnTo>
                  <a:pt x="18000" y="1402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048120" y="2895480"/>
            <a:ext cx="152280" cy="99072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720"/>
              <a:gd name="textAreaBottom" fmla="*/ 983520 h 990720"/>
            </a:gdLst>
            <a:ahLst/>
            <a:rect l="textAreaLeft" t="textAreaTop" r="textAreaRight" b="textAreaBottom"/>
            <a:pathLst>
              <a:path w="21600" h="140247">
                <a:moveTo>
                  <a:pt x="3600" y="0"/>
                </a:moveTo>
                <a:arcTo wR="3600" hR="3600" stAng="16200000" swAng="-5400000"/>
                <a:lnTo>
                  <a:pt x="0" y="136647"/>
                </a:lnTo>
                <a:arcTo wR="3600" hR="3600" stAng="10800000" swAng="-5400000"/>
                <a:lnTo>
                  <a:pt x="18000" y="1402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048120" y="2895480"/>
            <a:ext cx="152280" cy="45720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457200"/>
              <a:gd name="textAreaBottom" fmla="*/ 450000 h 457200"/>
            </a:gdLst>
            <a:ahLst/>
            <a:rect l="textAreaLeft" t="textAreaTop" r="textAreaRight" b="textAreaBottom"/>
            <a:pathLst>
              <a:path w="21600" h="64749">
                <a:moveTo>
                  <a:pt x="3600" y="0"/>
                </a:moveTo>
                <a:arcTo wR="3600" hR="3600" stAng="16200000" swAng="-5400000"/>
                <a:lnTo>
                  <a:pt x="0" y="61149"/>
                </a:lnTo>
                <a:arcTo wR="3600" hR="3600" stAng="10800000" swAng="-5400000"/>
                <a:lnTo>
                  <a:pt x="18000" y="647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514600" y="1905120"/>
            <a:ext cx="152280" cy="9903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40196">
                <a:moveTo>
                  <a:pt x="3600" y="0"/>
                </a:moveTo>
                <a:arcTo wR="3600" hR="3600" stAng="16200000" swAng="-5400000"/>
                <a:lnTo>
                  <a:pt x="0" y="136596"/>
                </a:lnTo>
                <a:arcTo wR="3600" hR="3600" stAng="10800000" swAng="-5400000"/>
                <a:lnTo>
                  <a:pt x="18000" y="140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514600" y="2895480"/>
            <a:ext cx="152280" cy="15264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152640"/>
              <a:gd name="textAreaBottom" fmla="*/ 145440 h 152640"/>
            </a:gdLst>
            <a:ahLst/>
            <a:rect l="textAreaLeft" t="textAreaTop" r="textAreaRight" b="textAreaBottom"/>
            <a:pathLst>
              <a:path w="21600" h="21651">
                <a:moveTo>
                  <a:pt x="3600" y="0"/>
                </a:moveTo>
                <a:arcTo wR="3600" hR="3600" stAng="16200000" swAng="-5400000"/>
                <a:lnTo>
                  <a:pt x="0" y="18051"/>
                </a:lnTo>
                <a:arcTo wR="3600" hR="3600" stAng="10800000" swAng="-5400000"/>
                <a:lnTo>
                  <a:pt x="18000" y="216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429000" y="1905120"/>
            <a:ext cx="152280" cy="9903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40196">
                <a:moveTo>
                  <a:pt x="3600" y="0"/>
                </a:moveTo>
                <a:arcTo wR="3600" hR="3600" stAng="16200000" swAng="-5400000"/>
                <a:lnTo>
                  <a:pt x="0" y="136596"/>
                </a:lnTo>
                <a:arcTo wR="3600" hR="3600" stAng="10800000" swAng="-5400000"/>
                <a:lnTo>
                  <a:pt x="18000" y="140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429000" y="2895480"/>
            <a:ext cx="152280" cy="99072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720"/>
              <a:gd name="textAreaBottom" fmla="*/ 983520 h 990720"/>
            </a:gdLst>
            <a:ahLst/>
            <a:rect l="textAreaLeft" t="textAreaTop" r="textAreaRight" b="textAreaBottom"/>
            <a:pathLst>
              <a:path w="21600" h="140247">
                <a:moveTo>
                  <a:pt x="3600" y="0"/>
                </a:moveTo>
                <a:arcTo wR="3600" hR="3600" stAng="16200000" swAng="-5400000"/>
                <a:lnTo>
                  <a:pt x="0" y="136647"/>
                </a:lnTo>
                <a:arcTo wR="3600" hR="3600" stAng="10800000" swAng="-5400000"/>
                <a:lnTo>
                  <a:pt x="18000" y="1402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429000" y="2895480"/>
            <a:ext cx="152280" cy="76212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762120"/>
              <a:gd name="textAreaBottom" fmla="*/ 754920 h 762120"/>
            </a:gdLst>
            <a:ahLst/>
            <a:rect l="textAreaLeft" t="textAreaTop" r="textAreaRight" b="textAreaBottom"/>
            <a:pathLst>
              <a:path w="21600" h="107898">
                <a:moveTo>
                  <a:pt x="3600" y="0"/>
                </a:moveTo>
                <a:arcTo wR="3600" hR="3600" stAng="16200000" swAng="-5400000"/>
                <a:lnTo>
                  <a:pt x="0" y="104298"/>
                </a:lnTo>
                <a:arcTo wR="3600" hR="3600" stAng="10800000" swAng="-5400000"/>
                <a:lnTo>
                  <a:pt x="18000" y="1078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886200" y="220968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cromosomas híbridos hamster- huma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80880" y="4038480"/>
            <a:ext cx="342900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962520" y="396252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hibridación con marc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600200" y="2514600"/>
            <a:ext cx="304920" cy="380880"/>
          </a:xfrm>
          <a:prstGeom prst="ellipse">
            <a:avLst/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04920" y="396252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Tahoma"/>
              </a:rPr>
              <a:t>+  +   +   +    -    -     -   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752480" y="3733920"/>
            <a:ext cx="152640" cy="12952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447920" y="58672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523880" y="59436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447920" y="525780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523880" y="533412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590920" y="51814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2666880" y="52578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593800" y="531180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666880" y="533412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1676520" y="541008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752480" y="541008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057400" y="49528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133720" y="50292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905120" y="54100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981080" y="54864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590920" y="548640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666880" y="556272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574640" y="5867280"/>
            <a:ext cx="88920" cy="180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523880" y="5943600"/>
            <a:ext cx="88920" cy="14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108160" y="5410080"/>
            <a:ext cx="76320" cy="1018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5" y="8"/>
                  <a:pt x="9" y="17"/>
                  <a:pt x="16" y="24"/>
                </a:cubicBezTo>
                <a:cubicBezTo>
                  <a:pt x="23" y="31"/>
                  <a:pt x="34" y="32"/>
                  <a:pt x="40" y="40"/>
                </a:cubicBezTo>
                <a:cubicBezTo>
                  <a:pt x="45" y="47"/>
                  <a:pt x="48" y="64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070000" y="5460840"/>
            <a:ext cx="76320" cy="1018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22" y="22"/>
                  <a:pt x="27" y="43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057400" y="4965840"/>
            <a:ext cx="6336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120760" y="501660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666880" y="5664240"/>
            <a:ext cx="12960" cy="38160"/>
          </a:xfrm>
          <a:custGeom>
            <a:avLst/>
            <a:gdLst/>
            <a:ahLst/>
            <a:rect l="l" t="t" r="r" b="b"/>
            <a:pathLst>
              <a:path w="8" h="24">
                <a:moveTo>
                  <a:pt x="0" y="0"/>
                </a:moveTo>
                <a:cubicBezTo>
                  <a:pt x="3" y="8"/>
                  <a:pt x="8" y="24"/>
                  <a:pt x="8" y="24"/>
                </a:cubicBezTo>
                <a:cubicBezTo>
                  <a:pt x="8" y="24"/>
                  <a:pt x="3" y="8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589120" y="5715000"/>
            <a:ext cx="6516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41" y="40"/>
                </a:moveTo>
                <a:cubicBezTo>
                  <a:pt x="0" y="26"/>
                  <a:pt x="26" y="25"/>
                  <a:pt x="1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429000" y="4952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genoteca cromosó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343400" y="5638680"/>
            <a:ext cx="0" cy="7621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648320" y="5715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str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971800" y="64771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Identificación del gen clon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/>
          <p:nvPr/>
        </p:nvSpPr>
        <p:spPr>
          <a:xfrm>
            <a:off x="457200" y="228600"/>
            <a:ext cx="601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ahoma"/>
              </a:rPr>
              <a:t>Construcción de genotecas “enriquecidas” en un cDNA parti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33520" y="1523880"/>
            <a:ext cx="1333440" cy="762120"/>
          </a:xfrm>
          <a:custGeom>
            <a:avLst/>
            <a:gdLst/>
            <a:ahLst/>
            <a:rect l="l" t="t" r="r" b="b"/>
            <a:pathLst>
              <a:path w="840" h="480">
                <a:moveTo>
                  <a:pt x="168" y="480"/>
                </a:moveTo>
                <a:cubicBezTo>
                  <a:pt x="173" y="461"/>
                  <a:pt x="195" y="366"/>
                  <a:pt x="204" y="360"/>
                </a:cubicBezTo>
                <a:cubicBezTo>
                  <a:pt x="216" y="352"/>
                  <a:pt x="227" y="342"/>
                  <a:pt x="240" y="336"/>
                </a:cubicBezTo>
                <a:cubicBezTo>
                  <a:pt x="263" y="326"/>
                  <a:pt x="312" y="312"/>
                  <a:pt x="312" y="312"/>
                </a:cubicBezTo>
                <a:cubicBezTo>
                  <a:pt x="376" y="317"/>
                  <a:pt x="450" y="300"/>
                  <a:pt x="504" y="336"/>
                </a:cubicBezTo>
                <a:cubicBezTo>
                  <a:pt x="594" y="396"/>
                  <a:pt x="490" y="355"/>
                  <a:pt x="576" y="384"/>
                </a:cubicBezTo>
                <a:cubicBezTo>
                  <a:pt x="597" y="321"/>
                  <a:pt x="631" y="245"/>
                  <a:pt x="696" y="216"/>
                </a:cubicBezTo>
                <a:cubicBezTo>
                  <a:pt x="731" y="201"/>
                  <a:pt x="768" y="192"/>
                  <a:pt x="804" y="180"/>
                </a:cubicBezTo>
                <a:cubicBezTo>
                  <a:pt x="816" y="176"/>
                  <a:pt x="840" y="168"/>
                  <a:pt x="840" y="168"/>
                </a:cubicBezTo>
                <a:cubicBezTo>
                  <a:pt x="816" y="152"/>
                  <a:pt x="795" y="129"/>
                  <a:pt x="768" y="120"/>
                </a:cubicBezTo>
                <a:cubicBezTo>
                  <a:pt x="637" y="76"/>
                  <a:pt x="496" y="62"/>
                  <a:pt x="372" y="0"/>
                </a:cubicBezTo>
                <a:cubicBezTo>
                  <a:pt x="340" y="4"/>
                  <a:pt x="307" y="4"/>
                  <a:pt x="276" y="12"/>
                </a:cubicBezTo>
                <a:cubicBezTo>
                  <a:pt x="185" y="37"/>
                  <a:pt x="292" y="37"/>
                  <a:pt x="204" y="48"/>
                </a:cubicBezTo>
                <a:cubicBezTo>
                  <a:pt x="152" y="54"/>
                  <a:pt x="100" y="56"/>
                  <a:pt x="48" y="60"/>
                </a:cubicBezTo>
                <a:cubicBezTo>
                  <a:pt x="103" y="143"/>
                  <a:pt x="87" y="105"/>
                  <a:pt x="108" y="168"/>
                </a:cubicBezTo>
                <a:cubicBezTo>
                  <a:pt x="73" y="221"/>
                  <a:pt x="56" y="209"/>
                  <a:pt x="0" y="228"/>
                </a:cubicBezTo>
                <a:cubicBezTo>
                  <a:pt x="56" y="284"/>
                  <a:pt x="22" y="255"/>
                  <a:pt x="108" y="312"/>
                </a:cubicBezTo>
                <a:cubicBezTo>
                  <a:pt x="120" y="320"/>
                  <a:pt x="144" y="336"/>
                  <a:pt x="144" y="336"/>
                </a:cubicBezTo>
                <a:cubicBezTo>
                  <a:pt x="183" y="395"/>
                  <a:pt x="180" y="406"/>
                  <a:pt x="168" y="48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066680" y="1676520"/>
            <a:ext cx="30492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H="1">
            <a:off x="1294920" y="1219320"/>
            <a:ext cx="22860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1447560" y="1219320"/>
            <a:ext cx="22860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H="1">
            <a:off x="1142640" y="1143000"/>
            <a:ext cx="22860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752480" y="106668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Estímulo para la expresión de un 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1523880" y="1676160"/>
            <a:ext cx="1828800" cy="75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523880" y="1752480"/>
            <a:ext cx="1600200" cy="838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581280" y="2057400"/>
            <a:ext cx="2362320" cy="76320"/>
          </a:xfrm>
          <a:custGeom>
            <a:avLst/>
            <a:gdLst/>
            <a:ahLst/>
            <a:rect l="l" t="t" r="r" b="b"/>
            <a:pathLst>
              <a:path w="1008" h="67">
                <a:moveTo>
                  <a:pt x="24" y="50"/>
                </a:moveTo>
                <a:cubicBezTo>
                  <a:pt x="120" y="18"/>
                  <a:pt x="0" y="50"/>
                  <a:pt x="96" y="50"/>
                </a:cubicBezTo>
                <a:cubicBezTo>
                  <a:pt x="144" y="50"/>
                  <a:pt x="192" y="42"/>
                  <a:pt x="240" y="38"/>
                </a:cubicBezTo>
                <a:cubicBezTo>
                  <a:pt x="308" y="46"/>
                  <a:pt x="376" y="67"/>
                  <a:pt x="444" y="62"/>
                </a:cubicBezTo>
                <a:cubicBezTo>
                  <a:pt x="469" y="60"/>
                  <a:pt x="516" y="38"/>
                  <a:pt x="516" y="38"/>
                </a:cubicBezTo>
                <a:cubicBezTo>
                  <a:pt x="552" y="42"/>
                  <a:pt x="588" y="44"/>
                  <a:pt x="624" y="50"/>
                </a:cubicBezTo>
                <a:cubicBezTo>
                  <a:pt x="636" y="52"/>
                  <a:pt x="647" y="62"/>
                  <a:pt x="660" y="62"/>
                </a:cubicBezTo>
                <a:cubicBezTo>
                  <a:pt x="713" y="62"/>
                  <a:pt x="764" y="44"/>
                  <a:pt x="816" y="38"/>
                </a:cubicBezTo>
                <a:cubicBezTo>
                  <a:pt x="828" y="26"/>
                  <a:pt x="835" y="5"/>
                  <a:pt x="852" y="2"/>
                </a:cubicBezTo>
                <a:cubicBezTo>
                  <a:pt x="866" y="0"/>
                  <a:pt x="875" y="20"/>
                  <a:pt x="888" y="26"/>
                </a:cubicBezTo>
                <a:cubicBezTo>
                  <a:pt x="930" y="47"/>
                  <a:pt x="958" y="38"/>
                  <a:pt x="1008" y="3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581280" y="2133720"/>
            <a:ext cx="60984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267080" y="2133720"/>
            <a:ext cx="60984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952880" y="2133720"/>
            <a:ext cx="60984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657600" y="1905120"/>
            <a:ext cx="3808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4343400" y="1905120"/>
            <a:ext cx="3808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029200" y="1905120"/>
            <a:ext cx="3808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657600" y="1447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crip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3581280" y="1523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flipV="1">
            <a:off x="3657600" y="2590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733920" y="251460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04920" y="2819520"/>
            <a:ext cx="5943600" cy="61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Aislar polisomas (centrifugación deferenci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Extraer mRNA de fracción poliso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Síntesis de c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Construcción de genote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9" name="" descr=""/>
          <p:cNvPicPr/>
          <p:nvPr/>
        </p:nvPicPr>
        <p:blipFill>
          <a:blip r:embed="rId1"/>
          <a:srcRect l="13228" t="26481" r="26463" b="46651"/>
          <a:stretch/>
        </p:blipFill>
        <p:spPr>
          <a:xfrm>
            <a:off x="3594240" y="5219640"/>
            <a:ext cx="2952720" cy="2303640"/>
          </a:xfrm>
          <a:prstGeom prst="rect">
            <a:avLst/>
          </a:prstGeom>
          <a:ln w="0">
            <a:noFill/>
          </a:ln>
        </p:spPr>
      </p:pic>
      <p:sp>
        <p:nvSpPr>
          <p:cNvPr id="1060" name=""/>
          <p:cNvSpPr/>
          <p:nvPr/>
        </p:nvSpPr>
        <p:spPr>
          <a:xfrm>
            <a:off x="3941640" y="489888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Inferior                   Super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1" name="" descr=""/>
          <p:cNvPicPr/>
          <p:nvPr/>
        </p:nvPicPr>
        <p:blipFill>
          <a:blip r:embed="rId2"/>
          <a:stretch/>
        </p:blipFill>
        <p:spPr>
          <a:xfrm>
            <a:off x="333360" y="3995640"/>
            <a:ext cx="2190600" cy="2048040"/>
          </a:xfrm>
          <a:prstGeom prst="rect">
            <a:avLst/>
          </a:prstGeom>
          <a:ln w="0">
            <a:noFill/>
          </a:ln>
        </p:spPr>
      </p:pic>
      <p:pic>
        <p:nvPicPr>
          <p:cNvPr id="1062" name="" descr="">
            <a:hlinkClick r:id="rId3"/>
          </p:cNvPr>
          <p:cNvPicPr/>
          <p:nvPr/>
        </p:nvPicPr>
        <p:blipFill>
          <a:blip r:embed="rId4"/>
          <a:srcRect l="59127" t="18704" r="18141" b="270"/>
          <a:stretch/>
        </p:blipFill>
        <p:spPr>
          <a:xfrm>
            <a:off x="3068640" y="3708360"/>
            <a:ext cx="360360" cy="934920"/>
          </a:xfrm>
          <a:prstGeom prst="rect">
            <a:avLst/>
          </a:prstGeom>
          <a:ln w="0">
            <a:noFill/>
          </a:ln>
        </p:spPr>
      </p:pic>
      <p:sp>
        <p:nvSpPr>
          <p:cNvPr id="1063" name=""/>
          <p:cNvSpPr/>
          <p:nvPr/>
        </p:nvSpPr>
        <p:spPr>
          <a:xfrm>
            <a:off x="3357720" y="4643280"/>
            <a:ext cx="7189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500280" y="3780000"/>
            <a:ext cx="26654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"/>
          <p:cNvSpPr/>
          <p:nvPr/>
        </p:nvSpPr>
        <p:spPr>
          <a:xfrm>
            <a:off x="4572000" y="3206880"/>
            <a:ext cx="200160" cy="106200"/>
          </a:xfrm>
          <a:custGeom>
            <a:avLst/>
            <a:gdLst/>
            <a:ahLst/>
            <a:rect l="l" t="t" r="r" b="b"/>
            <a:pathLst>
              <a:path w="191" h="94">
                <a:moveTo>
                  <a:pt x="0" y="90"/>
                </a:moveTo>
                <a:cubicBezTo>
                  <a:pt x="6" y="81"/>
                  <a:pt x="11" y="71"/>
                  <a:pt x="18" y="63"/>
                </a:cubicBezTo>
                <a:cubicBezTo>
                  <a:pt x="24" y="56"/>
                  <a:pt x="29" y="42"/>
                  <a:pt x="37" y="45"/>
                </a:cubicBezTo>
                <a:cubicBezTo>
                  <a:pt x="46" y="48"/>
                  <a:pt x="43" y="63"/>
                  <a:pt x="46" y="72"/>
                </a:cubicBezTo>
                <a:cubicBezTo>
                  <a:pt x="55" y="69"/>
                  <a:pt x="66" y="70"/>
                  <a:pt x="73" y="63"/>
                </a:cubicBezTo>
                <a:cubicBezTo>
                  <a:pt x="91" y="45"/>
                  <a:pt x="73" y="0"/>
                  <a:pt x="91" y="72"/>
                </a:cubicBezTo>
                <a:cubicBezTo>
                  <a:pt x="164" y="48"/>
                  <a:pt x="78" y="66"/>
                  <a:pt x="127" y="90"/>
                </a:cubicBezTo>
                <a:cubicBezTo>
                  <a:pt x="136" y="94"/>
                  <a:pt x="146" y="84"/>
                  <a:pt x="155" y="81"/>
                </a:cubicBezTo>
                <a:cubicBezTo>
                  <a:pt x="186" y="61"/>
                  <a:pt x="174" y="55"/>
                  <a:pt x="191" y="72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057640" y="3043080"/>
            <a:ext cx="285840" cy="109800"/>
          </a:xfrm>
          <a:custGeom>
            <a:avLst/>
            <a:gdLst/>
            <a:ahLst/>
            <a:rect l="l" t="t" r="r" b="b"/>
            <a:pathLst>
              <a:path w="273" h="97">
                <a:moveTo>
                  <a:pt x="0" y="70"/>
                </a:moveTo>
                <a:cubicBezTo>
                  <a:pt x="45" y="40"/>
                  <a:pt x="35" y="63"/>
                  <a:pt x="82" y="79"/>
                </a:cubicBezTo>
                <a:cubicBezTo>
                  <a:pt x="91" y="76"/>
                  <a:pt x="104" y="78"/>
                  <a:pt x="109" y="70"/>
                </a:cubicBezTo>
                <a:cubicBezTo>
                  <a:pt x="118" y="54"/>
                  <a:pt x="103" y="26"/>
                  <a:pt x="118" y="16"/>
                </a:cubicBezTo>
                <a:cubicBezTo>
                  <a:pt x="129" y="9"/>
                  <a:pt x="126" y="43"/>
                  <a:pt x="136" y="52"/>
                </a:cubicBezTo>
                <a:cubicBezTo>
                  <a:pt x="143" y="59"/>
                  <a:pt x="155" y="58"/>
                  <a:pt x="164" y="61"/>
                </a:cubicBezTo>
                <a:cubicBezTo>
                  <a:pt x="205" y="0"/>
                  <a:pt x="159" y="56"/>
                  <a:pt x="191" y="88"/>
                </a:cubicBezTo>
                <a:cubicBezTo>
                  <a:pt x="200" y="97"/>
                  <a:pt x="215" y="82"/>
                  <a:pt x="227" y="79"/>
                </a:cubicBezTo>
                <a:cubicBezTo>
                  <a:pt x="263" y="69"/>
                  <a:pt x="245" y="65"/>
                  <a:pt x="273" y="7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876920" y="3359160"/>
            <a:ext cx="406440" cy="11592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905120" y="328284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D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724280" y="3511440"/>
            <a:ext cx="319320" cy="9360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6"/>
                </a:moveTo>
                <a:cubicBezTo>
                  <a:pt x="9" y="53"/>
                  <a:pt x="19" y="52"/>
                  <a:pt x="27" y="47"/>
                </a:cubicBezTo>
                <a:cubicBezTo>
                  <a:pt x="35" y="43"/>
                  <a:pt x="38" y="27"/>
                  <a:pt x="46" y="29"/>
                </a:cubicBezTo>
                <a:cubicBezTo>
                  <a:pt x="57" y="32"/>
                  <a:pt x="56" y="49"/>
                  <a:pt x="64" y="56"/>
                </a:cubicBezTo>
                <a:cubicBezTo>
                  <a:pt x="71" y="62"/>
                  <a:pt x="82" y="62"/>
                  <a:pt x="91" y="65"/>
                </a:cubicBezTo>
                <a:cubicBezTo>
                  <a:pt x="113" y="0"/>
                  <a:pt x="81" y="65"/>
                  <a:pt x="127" y="56"/>
                </a:cubicBezTo>
                <a:cubicBezTo>
                  <a:pt x="138" y="54"/>
                  <a:pt x="140" y="38"/>
                  <a:pt x="146" y="29"/>
                </a:cubicBezTo>
                <a:cubicBezTo>
                  <a:pt x="149" y="38"/>
                  <a:pt x="147" y="52"/>
                  <a:pt x="155" y="56"/>
                </a:cubicBezTo>
                <a:cubicBezTo>
                  <a:pt x="163" y="60"/>
                  <a:pt x="173" y="47"/>
                  <a:pt x="182" y="47"/>
                </a:cubicBezTo>
                <a:cubicBezTo>
                  <a:pt x="191" y="47"/>
                  <a:pt x="200" y="54"/>
                  <a:pt x="209" y="56"/>
                </a:cubicBezTo>
                <a:cubicBezTo>
                  <a:pt x="227" y="60"/>
                  <a:pt x="246" y="62"/>
                  <a:pt x="264" y="65"/>
                </a:cubicBezTo>
                <a:cubicBezTo>
                  <a:pt x="305" y="79"/>
                  <a:pt x="291" y="83"/>
                  <a:pt x="291" y="2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514600" y="3206880"/>
            <a:ext cx="303120" cy="149040"/>
          </a:xfrm>
          <a:custGeom>
            <a:avLst/>
            <a:gdLst/>
            <a:ahLst/>
            <a:rect l="l" t="t" r="r" b="b"/>
            <a:pathLst>
              <a:path w="191" h="94">
                <a:moveTo>
                  <a:pt x="0" y="90"/>
                </a:moveTo>
                <a:cubicBezTo>
                  <a:pt x="6" y="81"/>
                  <a:pt x="11" y="71"/>
                  <a:pt x="18" y="63"/>
                </a:cubicBezTo>
                <a:cubicBezTo>
                  <a:pt x="24" y="56"/>
                  <a:pt x="29" y="42"/>
                  <a:pt x="37" y="45"/>
                </a:cubicBezTo>
                <a:cubicBezTo>
                  <a:pt x="46" y="48"/>
                  <a:pt x="43" y="63"/>
                  <a:pt x="46" y="72"/>
                </a:cubicBezTo>
                <a:cubicBezTo>
                  <a:pt x="55" y="69"/>
                  <a:pt x="66" y="70"/>
                  <a:pt x="73" y="63"/>
                </a:cubicBezTo>
                <a:cubicBezTo>
                  <a:pt x="91" y="45"/>
                  <a:pt x="73" y="0"/>
                  <a:pt x="91" y="72"/>
                </a:cubicBezTo>
                <a:cubicBezTo>
                  <a:pt x="164" y="48"/>
                  <a:pt x="78" y="66"/>
                  <a:pt x="127" y="90"/>
                </a:cubicBezTo>
                <a:cubicBezTo>
                  <a:pt x="136" y="94"/>
                  <a:pt x="146" y="84"/>
                  <a:pt x="155" y="81"/>
                </a:cubicBezTo>
                <a:cubicBezTo>
                  <a:pt x="186" y="61"/>
                  <a:pt x="174" y="55"/>
                  <a:pt x="191" y="72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971800" y="3054240"/>
            <a:ext cx="433440" cy="154080"/>
          </a:xfrm>
          <a:custGeom>
            <a:avLst/>
            <a:gdLst/>
            <a:ahLst/>
            <a:rect l="l" t="t" r="r" b="b"/>
            <a:pathLst>
              <a:path w="273" h="97">
                <a:moveTo>
                  <a:pt x="0" y="70"/>
                </a:moveTo>
                <a:cubicBezTo>
                  <a:pt x="45" y="40"/>
                  <a:pt x="35" y="63"/>
                  <a:pt x="82" y="79"/>
                </a:cubicBezTo>
                <a:cubicBezTo>
                  <a:pt x="91" y="76"/>
                  <a:pt x="104" y="78"/>
                  <a:pt x="109" y="70"/>
                </a:cubicBezTo>
                <a:cubicBezTo>
                  <a:pt x="118" y="54"/>
                  <a:pt x="103" y="26"/>
                  <a:pt x="118" y="16"/>
                </a:cubicBezTo>
                <a:cubicBezTo>
                  <a:pt x="129" y="9"/>
                  <a:pt x="126" y="43"/>
                  <a:pt x="136" y="52"/>
                </a:cubicBezTo>
                <a:cubicBezTo>
                  <a:pt x="143" y="59"/>
                  <a:pt x="155" y="58"/>
                  <a:pt x="164" y="61"/>
                </a:cubicBezTo>
                <a:cubicBezTo>
                  <a:pt x="205" y="0"/>
                  <a:pt x="159" y="56"/>
                  <a:pt x="191" y="88"/>
                </a:cubicBezTo>
                <a:cubicBezTo>
                  <a:pt x="200" y="97"/>
                  <a:pt x="215" y="82"/>
                  <a:pt x="227" y="79"/>
                </a:cubicBezTo>
                <a:cubicBezTo>
                  <a:pt x="263" y="69"/>
                  <a:pt x="245" y="65"/>
                  <a:pt x="273" y="79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971800" y="3359160"/>
            <a:ext cx="615960" cy="16200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514600" y="3587760"/>
            <a:ext cx="484200" cy="13176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6"/>
                </a:moveTo>
                <a:cubicBezTo>
                  <a:pt x="9" y="53"/>
                  <a:pt x="19" y="52"/>
                  <a:pt x="27" y="47"/>
                </a:cubicBezTo>
                <a:cubicBezTo>
                  <a:pt x="35" y="43"/>
                  <a:pt x="38" y="27"/>
                  <a:pt x="46" y="29"/>
                </a:cubicBezTo>
                <a:cubicBezTo>
                  <a:pt x="57" y="32"/>
                  <a:pt x="56" y="49"/>
                  <a:pt x="64" y="56"/>
                </a:cubicBezTo>
                <a:cubicBezTo>
                  <a:pt x="71" y="62"/>
                  <a:pt x="82" y="62"/>
                  <a:pt x="91" y="65"/>
                </a:cubicBezTo>
                <a:cubicBezTo>
                  <a:pt x="113" y="0"/>
                  <a:pt x="81" y="65"/>
                  <a:pt x="127" y="56"/>
                </a:cubicBezTo>
                <a:cubicBezTo>
                  <a:pt x="138" y="54"/>
                  <a:pt x="140" y="38"/>
                  <a:pt x="146" y="29"/>
                </a:cubicBezTo>
                <a:cubicBezTo>
                  <a:pt x="149" y="38"/>
                  <a:pt x="147" y="52"/>
                  <a:pt x="155" y="56"/>
                </a:cubicBezTo>
                <a:cubicBezTo>
                  <a:pt x="163" y="60"/>
                  <a:pt x="173" y="47"/>
                  <a:pt x="182" y="47"/>
                </a:cubicBezTo>
                <a:cubicBezTo>
                  <a:pt x="191" y="47"/>
                  <a:pt x="200" y="54"/>
                  <a:pt x="209" y="56"/>
                </a:cubicBezTo>
                <a:cubicBezTo>
                  <a:pt x="227" y="60"/>
                  <a:pt x="246" y="62"/>
                  <a:pt x="264" y="65"/>
                </a:cubicBezTo>
                <a:cubicBezTo>
                  <a:pt x="305" y="79"/>
                  <a:pt x="291" y="83"/>
                  <a:pt x="291" y="29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419720" y="3359160"/>
            <a:ext cx="314280" cy="158760"/>
          </a:xfrm>
          <a:custGeom>
            <a:avLst/>
            <a:gdLst/>
            <a:ahLst/>
            <a:rect l="l" t="t" r="r" b="b"/>
            <a:pathLst>
              <a:path w="300" h="141">
                <a:moveTo>
                  <a:pt x="0" y="136"/>
                </a:moveTo>
                <a:cubicBezTo>
                  <a:pt x="52" y="123"/>
                  <a:pt x="78" y="131"/>
                  <a:pt x="118" y="91"/>
                </a:cubicBezTo>
                <a:cubicBezTo>
                  <a:pt x="126" y="67"/>
                  <a:pt x="142" y="33"/>
                  <a:pt x="118" y="9"/>
                </a:cubicBezTo>
                <a:cubicBezTo>
                  <a:pt x="109" y="0"/>
                  <a:pt x="94" y="15"/>
                  <a:pt x="82" y="18"/>
                </a:cubicBezTo>
                <a:cubicBezTo>
                  <a:pt x="67" y="63"/>
                  <a:pt x="79" y="101"/>
                  <a:pt x="118" y="127"/>
                </a:cubicBezTo>
                <a:cubicBezTo>
                  <a:pt x="281" y="112"/>
                  <a:pt x="177" y="141"/>
                  <a:pt x="246" y="72"/>
                </a:cubicBezTo>
                <a:cubicBezTo>
                  <a:pt x="259" y="124"/>
                  <a:pt x="242" y="109"/>
                  <a:pt x="300" y="10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3048120" y="4654440"/>
            <a:ext cx="433440" cy="154080"/>
          </a:xfrm>
          <a:custGeom>
            <a:avLst/>
            <a:gdLst/>
            <a:ahLst/>
            <a:rect l="l" t="t" r="r" b="b"/>
            <a:pathLst>
              <a:path w="273" h="97">
                <a:moveTo>
                  <a:pt x="0" y="70"/>
                </a:moveTo>
                <a:cubicBezTo>
                  <a:pt x="45" y="40"/>
                  <a:pt x="35" y="63"/>
                  <a:pt x="82" y="79"/>
                </a:cubicBezTo>
                <a:cubicBezTo>
                  <a:pt x="91" y="76"/>
                  <a:pt x="104" y="78"/>
                  <a:pt x="109" y="70"/>
                </a:cubicBezTo>
                <a:cubicBezTo>
                  <a:pt x="118" y="54"/>
                  <a:pt x="103" y="26"/>
                  <a:pt x="118" y="16"/>
                </a:cubicBezTo>
                <a:cubicBezTo>
                  <a:pt x="129" y="9"/>
                  <a:pt x="126" y="43"/>
                  <a:pt x="136" y="52"/>
                </a:cubicBezTo>
                <a:cubicBezTo>
                  <a:pt x="143" y="59"/>
                  <a:pt x="155" y="58"/>
                  <a:pt x="164" y="61"/>
                </a:cubicBezTo>
                <a:cubicBezTo>
                  <a:pt x="205" y="0"/>
                  <a:pt x="159" y="56"/>
                  <a:pt x="191" y="88"/>
                </a:cubicBezTo>
                <a:cubicBezTo>
                  <a:pt x="200" y="97"/>
                  <a:pt x="215" y="82"/>
                  <a:pt x="227" y="79"/>
                </a:cubicBezTo>
                <a:cubicBezTo>
                  <a:pt x="263" y="69"/>
                  <a:pt x="245" y="65"/>
                  <a:pt x="273" y="7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048120" y="4730760"/>
            <a:ext cx="433440" cy="154080"/>
          </a:xfrm>
          <a:custGeom>
            <a:avLst/>
            <a:gdLst/>
            <a:ahLst/>
            <a:rect l="l" t="t" r="r" b="b"/>
            <a:pathLst>
              <a:path w="273" h="97">
                <a:moveTo>
                  <a:pt x="0" y="70"/>
                </a:moveTo>
                <a:cubicBezTo>
                  <a:pt x="45" y="40"/>
                  <a:pt x="35" y="63"/>
                  <a:pt x="82" y="79"/>
                </a:cubicBezTo>
                <a:cubicBezTo>
                  <a:pt x="91" y="76"/>
                  <a:pt x="104" y="78"/>
                  <a:pt x="109" y="70"/>
                </a:cubicBezTo>
                <a:cubicBezTo>
                  <a:pt x="118" y="54"/>
                  <a:pt x="103" y="26"/>
                  <a:pt x="118" y="16"/>
                </a:cubicBezTo>
                <a:cubicBezTo>
                  <a:pt x="129" y="9"/>
                  <a:pt x="126" y="43"/>
                  <a:pt x="136" y="52"/>
                </a:cubicBezTo>
                <a:cubicBezTo>
                  <a:pt x="143" y="59"/>
                  <a:pt x="155" y="58"/>
                  <a:pt x="164" y="61"/>
                </a:cubicBezTo>
                <a:cubicBezTo>
                  <a:pt x="205" y="0"/>
                  <a:pt x="159" y="56"/>
                  <a:pt x="191" y="88"/>
                </a:cubicBezTo>
                <a:cubicBezTo>
                  <a:pt x="200" y="97"/>
                  <a:pt x="215" y="82"/>
                  <a:pt x="227" y="79"/>
                </a:cubicBezTo>
                <a:cubicBezTo>
                  <a:pt x="263" y="69"/>
                  <a:pt x="245" y="65"/>
                  <a:pt x="273" y="79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581280" y="4502160"/>
            <a:ext cx="615960" cy="16200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3048120" y="3587040"/>
            <a:ext cx="304560" cy="15228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581280" y="4578480"/>
            <a:ext cx="615960" cy="16164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809880" y="4197240"/>
            <a:ext cx="433440" cy="154080"/>
          </a:xfrm>
          <a:custGeom>
            <a:avLst/>
            <a:gdLst/>
            <a:ahLst/>
            <a:rect l="l" t="t" r="r" b="b"/>
            <a:pathLst>
              <a:path w="273" h="97">
                <a:moveTo>
                  <a:pt x="0" y="70"/>
                </a:moveTo>
                <a:cubicBezTo>
                  <a:pt x="45" y="40"/>
                  <a:pt x="35" y="63"/>
                  <a:pt x="82" y="79"/>
                </a:cubicBezTo>
                <a:cubicBezTo>
                  <a:pt x="91" y="76"/>
                  <a:pt x="104" y="78"/>
                  <a:pt x="109" y="70"/>
                </a:cubicBezTo>
                <a:cubicBezTo>
                  <a:pt x="118" y="54"/>
                  <a:pt x="103" y="26"/>
                  <a:pt x="118" y="16"/>
                </a:cubicBezTo>
                <a:cubicBezTo>
                  <a:pt x="129" y="9"/>
                  <a:pt x="126" y="43"/>
                  <a:pt x="136" y="52"/>
                </a:cubicBezTo>
                <a:cubicBezTo>
                  <a:pt x="143" y="59"/>
                  <a:pt x="155" y="58"/>
                  <a:pt x="164" y="61"/>
                </a:cubicBezTo>
                <a:cubicBezTo>
                  <a:pt x="205" y="0"/>
                  <a:pt x="159" y="56"/>
                  <a:pt x="191" y="88"/>
                </a:cubicBezTo>
                <a:cubicBezTo>
                  <a:pt x="200" y="97"/>
                  <a:pt x="215" y="82"/>
                  <a:pt x="227" y="79"/>
                </a:cubicBezTo>
                <a:cubicBezTo>
                  <a:pt x="263" y="69"/>
                  <a:pt x="245" y="65"/>
                  <a:pt x="273" y="79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809880" y="4121280"/>
            <a:ext cx="433440" cy="153720"/>
          </a:xfrm>
          <a:custGeom>
            <a:avLst/>
            <a:gdLst/>
            <a:ahLst/>
            <a:rect l="l" t="t" r="r" b="b"/>
            <a:pathLst>
              <a:path w="273" h="97">
                <a:moveTo>
                  <a:pt x="0" y="70"/>
                </a:moveTo>
                <a:cubicBezTo>
                  <a:pt x="45" y="40"/>
                  <a:pt x="35" y="63"/>
                  <a:pt x="82" y="79"/>
                </a:cubicBezTo>
                <a:cubicBezTo>
                  <a:pt x="91" y="76"/>
                  <a:pt x="104" y="78"/>
                  <a:pt x="109" y="70"/>
                </a:cubicBezTo>
                <a:cubicBezTo>
                  <a:pt x="118" y="54"/>
                  <a:pt x="103" y="26"/>
                  <a:pt x="118" y="16"/>
                </a:cubicBezTo>
                <a:cubicBezTo>
                  <a:pt x="129" y="9"/>
                  <a:pt x="126" y="43"/>
                  <a:pt x="136" y="52"/>
                </a:cubicBezTo>
                <a:cubicBezTo>
                  <a:pt x="143" y="59"/>
                  <a:pt x="155" y="58"/>
                  <a:pt x="164" y="61"/>
                </a:cubicBezTo>
                <a:cubicBezTo>
                  <a:pt x="205" y="0"/>
                  <a:pt x="159" y="56"/>
                  <a:pt x="191" y="88"/>
                </a:cubicBezTo>
                <a:cubicBezTo>
                  <a:pt x="200" y="97"/>
                  <a:pt x="215" y="82"/>
                  <a:pt x="227" y="79"/>
                </a:cubicBezTo>
                <a:cubicBezTo>
                  <a:pt x="263" y="69"/>
                  <a:pt x="245" y="65"/>
                  <a:pt x="273" y="7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267080" y="4654440"/>
            <a:ext cx="476280" cy="185760"/>
          </a:xfrm>
          <a:custGeom>
            <a:avLst/>
            <a:gdLst/>
            <a:ahLst/>
            <a:rect l="l" t="t" r="r" b="b"/>
            <a:pathLst>
              <a:path w="300" h="141">
                <a:moveTo>
                  <a:pt x="0" y="136"/>
                </a:moveTo>
                <a:cubicBezTo>
                  <a:pt x="52" y="123"/>
                  <a:pt x="78" y="131"/>
                  <a:pt x="118" y="91"/>
                </a:cubicBezTo>
                <a:cubicBezTo>
                  <a:pt x="126" y="67"/>
                  <a:pt x="142" y="33"/>
                  <a:pt x="118" y="9"/>
                </a:cubicBezTo>
                <a:cubicBezTo>
                  <a:pt x="109" y="0"/>
                  <a:pt x="94" y="15"/>
                  <a:pt x="82" y="18"/>
                </a:cubicBezTo>
                <a:cubicBezTo>
                  <a:pt x="67" y="63"/>
                  <a:pt x="79" y="101"/>
                  <a:pt x="118" y="127"/>
                </a:cubicBezTo>
                <a:cubicBezTo>
                  <a:pt x="281" y="112"/>
                  <a:pt x="177" y="141"/>
                  <a:pt x="246" y="72"/>
                </a:cubicBezTo>
                <a:cubicBezTo>
                  <a:pt x="259" y="124"/>
                  <a:pt x="242" y="109"/>
                  <a:pt x="300" y="10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200400" y="4197240"/>
            <a:ext cx="303120" cy="149400"/>
          </a:xfrm>
          <a:custGeom>
            <a:avLst/>
            <a:gdLst/>
            <a:ahLst/>
            <a:rect l="l" t="t" r="r" b="b"/>
            <a:pathLst>
              <a:path w="191" h="94">
                <a:moveTo>
                  <a:pt x="0" y="90"/>
                </a:moveTo>
                <a:cubicBezTo>
                  <a:pt x="6" y="81"/>
                  <a:pt x="11" y="71"/>
                  <a:pt x="18" y="63"/>
                </a:cubicBezTo>
                <a:cubicBezTo>
                  <a:pt x="24" y="56"/>
                  <a:pt x="29" y="42"/>
                  <a:pt x="37" y="45"/>
                </a:cubicBezTo>
                <a:cubicBezTo>
                  <a:pt x="46" y="48"/>
                  <a:pt x="43" y="63"/>
                  <a:pt x="46" y="72"/>
                </a:cubicBezTo>
                <a:cubicBezTo>
                  <a:pt x="55" y="69"/>
                  <a:pt x="66" y="70"/>
                  <a:pt x="73" y="63"/>
                </a:cubicBezTo>
                <a:cubicBezTo>
                  <a:pt x="91" y="45"/>
                  <a:pt x="73" y="0"/>
                  <a:pt x="91" y="72"/>
                </a:cubicBezTo>
                <a:cubicBezTo>
                  <a:pt x="164" y="48"/>
                  <a:pt x="78" y="66"/>
                  <a:pt x="127" y="90"/>
                </a:cubicBezTo>
                <a:cubicBezTo>
                  <a:pt x="136" y="94"/>
                  <a:pt x="146" y="84"/>
                  <a:pt x="155" y="81"/>
                </a:cubicBezTo>
                <a:cubicBezTo>
                  <a:pt x="186" y="61"/>
                  <a:pt x="174" y="55"/>
                  <a:pt x="191" y="72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200400" y="4273560"/>
            <a:ext cx="303120" cy="149040"/>
          </a:xfrm>
          <a:custGeom>
            <a:avLst/>
            <a:gdLst/>
            <a:ahLst/>
            <a:rect l="l" t="t" r="r" b="b"/>
            <a:pathLst>
              <a:path w="191" h="94">
                <a:moveTo>
                  <a:pt x="0" y="90"/>
                </a:moveTo>
                <a:cubicBezTo>
                  <a:pt x="6" y="81"/>
                  <a:pt x="11" y="71"/>
                  <a:pt x="18" y="63"/>
                </a:cubicBezTo>
                <a:cubicBezTo>
                  <a:pt x="24" y="56"/>
                  <a:pt x="29" y="42"/>
                  <a:pt x="37" y="45"/>
                </a:cubicBezTo>
                <a:cubicBezTo>
                  <a:pt x="46" y="48"/>
                  <a:pt x="43" y="63"/>
                  <a:pt x="46" y="72"/>
                </a:cubicBezTo>
                <a:cubicBezTo>
                  <a:pt x="55" y="69"/>
                  <a:pt x="66" y="70"/>
                  <a:pt x="73" y="63"/>
                </a:cubicBezTo>
                <a:cubicBezTo>
                  <a:pt x="91" y="45"/>
                  <a:pt x="73" y="0"/>
                  <a:pt x="91" y="72"/>
                </a:cubicBezTo>
                <a:cubicBezTo>
                  <a:pt x="164" y="48"/>
                  <a:pt x="78" y="66"/>
                  <a:pt x="127" y="90"/>
                </a:cubicBezTo>
                <a:cubicBezTo>
                  <a:pt x="136" y="94"/>
                  <a:pt x="146" y="84"/>
                  <a:pt x="155" y="81"/>
                </a:cubicBezTo>
                <a:cubicBezTo>
                  <a:pt x="186" y="61"/>
                  <a:pt x="174" y="55"/>
                  <a:pt x="191" y="72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429000" y="358776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3809880" y="3435480"/>
            <a:ext cx="6098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V="1">
            <a:off x="3733920" y="5034960"/>
            <a:ext cx="304560" cy="15228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505320" y="4807080"/>
            <a:ext cx="685800" cy="60948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3048120" y="4120920"/>
            <a:ext cx="1447560" cy="6858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276720" y="3968640"/>
            <a:ext cx="1295280" cy="914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019840" y="2384280"/>
            <a:ext cx="596880" cy="244800"/>
          </a:xfrm>
          <a:custGeom>
            <a:avLst/>
            <a:gdLst/>
            <a:ahLst/>
            <a:rect l="l" t="t" r="r" b="b"/>
            <a:pathLst>
              <a:path w="376" h="152">
                <a:moveTo>
                  <a:pt x="48" y="56"/>
                </a:moveTo>
                <a:cubicBezTo>
                  <a:pt x="61" y="53"/>
                  <a:pt x="76" y="54"/>
                  <a:pt x="88" y="48"/>
                </a:cubicBezTo>
                <a:cubicBezTo>
                  <a:pt x="106" y="40"/>
                  <a:pt x="117" y="21"/>
                  <a:pt x="136" y="16"/>
                </a:cubicBezTo>
                <a:cubicBezTo>
                  <a:pt x="176" y="6"/>
                  <a:pt x="158" y="11"/>
                  <a:pt x="192" y="0"/>
                </a:cubicBezTo>
                <a:cubicBezTo>
                  <a:pt x="225" y="11"/>
                  <a:pt x="246" y="50"/>
                  <a:pt x="280" y="56"/>
                </a:cubicBezTo>
                <a:cubicBezTo>
                  <a:pt x="296" y="59"/>
                  <a:pt x="312" y="61"/>
                  <a:pt x="328" y="64"/>
                </a:cubicBezTo>
                <a:cubicBezTo>
                  <a:pt x="311" y="116"/>
                  <a:pt x="295" y="110"/>
                  <a:pt x="344" y="128"/>
                </a:cubicBezTo>
                <a:cubicBezTo>
                  <a:pt x="354" y="132"/>
                  <a:pt x="365" y="133"/>
                  <a:pt x="376" y="136"/>
                </a:cubicBezTo>
                <a:cubicBezTo>
                  <a:pt x="368" y="141"/>
                  <a:pt x="362" y="152"/>
                  <a:pt x="352" y="152"/>
                </a:cubicBezTo>
                <a:cubicBezTo>
                  <a:pt x="322" y="152"/>
                  <a:pt x="294" y="134"/>
                  <a:pt x="264" y="128"/>
                </a:cubicBezTo>
                <a:cubicBezTo>
                  <a:pt x="235" y="131"/>
                  <a:pt x="205" y="141"/>
                  <a:pt x="176" y="136"/>
                </a:cubicBezTo>
                <a:cubicBezTo>
                  <a:pt x="168" y="135"/>
                  <a:pt x="174" y="118"/>
                  <a:pt x="168" y="112"/>
                </a:cubicBezTo>
                <a:cubicBezTo>
                  <a:pt x="160" y="104"/>
                  <a:pt x="148" y="98"/>
                  <a:pt x="136" y="96"/>
                </a:cubicBezTo>
                <a:cubicBezTo>
                  <a:pt x="91" y="90"/>
                  <a:pt x="45" y="91"/>
                  <a:pt x="0" y="88"/>
                </a:cubicBezTo>
                <a:cubicBezTo>
                  <a:pt x="27" y="79"/>
                  <a:pt x="65" y="90"/>
                  <a:pt x="48" y="56"/>
                </a:cubicBezTo>
                <a:close/>
              </a:path>
            </a:pathLst>
          </a:custGeom>
          <a:solidFill>
            <a:srgbClr val="ff33cc"/>
          </a:solidFill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286240" y="2422440"/>
            <a:ext cx="7632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5172120" y="2536920"/>
            <a:ext cx="596880" cy="244440"/>
          </a:xfrm>
          <a:custGeom>
            <a:avLst/>
            <a:gdLst/>
            <a:ahLst/>
            <a:rect l="l" t="t" r="r" b="b"/>
            <a:pathLst>
              <a:path w="376" h="152">
                <a:moveTo>
                  <a:pt x="48" y="56"/>
                </a:moveTo>
                <a:cubicBezTo>
                  <a:pt x="61" y="53"/>
                  <a:pt x="76" y="54"/>
                  <a:pt x="88" y="48"/>
                </a:cubicBezTo>
                <a:cubicBezTo>
                  <a:pt x="106" y="40"/>
                  <a:pt x="117" y="21"/>
                  <a:pt x="136" y="16"/>
                </a:cubicBezTo>
                <a:cubicBezTo>
                  <a:pt x="176" y="6"/>
                  <a:pt x="158" y="11"/>
                  <a:pt x="192" y="0"/>
                </a:cubicBezTo>
                <a:cubicBezTo>
                  <a:pt x="225" y="11"/>
                  <a:pt x="246" y="50"/>
                  <a:pt x="280" y="56"/>
                </a:cubicBezTo>
                <a:cubicBezTo>
                  <a:pt x="296" y="59"/>
                  <a:pt x="312" y="61"/>
                  <a:pt x="328" y="64"/>
                </a:cubicBezTo>
                <a:cubicBezTo>
                  <a:pt x="311" y="116"/>
                  <a:pt x="295" y="110"/>
                  <a:pt x="344" y="128"/>
                </a:cubicBezTo>
                <a:cubicBezTo>
                  <a:pt x="354" y="132"/>
                  <a:pt x="365" y="133"/>
                  <a:pt x="376" y="136"/>
                </a:cubicBezTo>
                <a:cubicBezTo>
                  <a:pt x="368" y="141"/>
                  <a:pt x="362" y="152"/>
                  <a:pt x="352" y="152"/>
                </a:cubicBezTo>
                <a:cubicBezTo>
                  <a:pt x="322" y="152"/>
                  <a:pt x="294" y="134"/>
                  <a:pt x="264" y="128"/>
                </a:cubicBezTo>
                <a:cubicBezTo>
                  <a:pt x="235" y="131"/>
                  <a:pt x="205" y="141"/>
                  <a:pt x="176" y="136"/>
                </a:cubicBezTo>
                <a:cubicBezTo>
                  <a:pt x="168" y="135"/>
                  <a:pt x="174" y="118"/>
                  <a:pt x="168" y="112"/>
                </a:cubicBezTo>
                <a:cubicBezTo>
                  <a:pt x="160" y="104"/>
                  <a:pt x="148" y="98"/>
                  <a:pt x="136" y="96"/>
                </a:cubicBezTo>
                <a:cubicBezTo>
                  <a:pt x="91" y="90"/>
                  <a:pt x="45" y="91"/>
                  <a:pt x="0" y="88"/>
                </a:cubicBezTo>
                <a:cubicBezTo>
                  <a:pt x="27" y="79"/>
                  <a:pt x="65" y="90"/>
                  <a:pt x="48" y="56"/>
                </a:cubicBezTo>
                <a:close/>
              </a:path>
            </a:pathLst>
          </a:custGeom>
          <a:solidFill>
            <a:srgbClr val="ff33cc"/>
          </a:solidFill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5438880" y="2575080"/>
            <a:ext cx="7596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334120" y="2292480"/>
            <a:ext cx="596880" cy="244440"/>
          </a:xfrm>
          <a:custGeom>
            <a:avLst/>
            <a:gdLst/>
            <a:ahLst/>
            <a:rect l="l" t="t" r="r" b="b"/>
            <a:pathLst>
              <a:path w="376" h="152">
                <a:moveTo>
                  <a:pt x="48" y="56"/>
                </a:moveTo>
                <a:cubicBezTo>
                  <a:pt x="61" y="53"/>
                  <a:pt x="76" y="54"/>
                  <a:pt x="88" y="48"/>
                </a:cubicBezTo>
                <a:cubicBezTo>
                  <a:pt x="106" y="40"/>
                  <a:pt x="117" y="21"/>
                  <a:pt x="136" y="16"/>
                </a:cubicBezTo>
                <a:cubicBezTo>
                  <a:pt x="176" y="6"/>
                  <a:pt x="158" y="11"/>
                  <a:pt x="192" y="0"/>
                </a:cubicBezTo>
                <a:cubicBezTo>
                  <a:pt x="225" y="11"/>
                  <a:pt x="246" y="50"/>
                  <a:pt x="280" y="56"/>
                </a:cubicBezTo>
                <a:cubicBezTo>
                  <a:pt x="296" y="59"/>
                  <a:pt x="312" y="61"/>
                  <a:pt x="328" y="64"/>
                </a:cubicBezTo>
                <a:cubicBezTo>
                  <a:pt x="311" y="116"/>
                  <a:pt x="295" y="110"/>
                  <a:pt x="344" y="128"/>
                </a:cubicBezTo>
                <a:cubicBezTo>
                  <a:pt x="354" y="132"/>
                  <a:pt x="365" y="133"/>
                  <a:pt x="376" y="136"/>
                </a:cubicBezTo>
                <a:cubicBezTo>
                  <a:pt x="368" y="141"/>
                  <a:pt x="362" y="152"/>
                  <a:pt x="352" y="152"/>
                </a:cubicBezTo>
                <a:cubicBezTo>
                  <a:pt x="322" y="152"/>
                  <a:pt x="294" y="134"/>
                  <a:pt x="264" y="128"/>
                </a:cubicBezTo>
                <a:cubicBezTo>
                  <a:pt x="235" y="131"/>
                  <a:pt x="205" y="141"/>
                  <a:pt x="176" y="136"/>
                </a:cubicBezTo>
                <a:cubicBezTo>
                  <a:pt x="168" y="135"/>
                  <a:pt x="174" y="118"/>
                  <a:pt x="168" y="112"/>
                </a:cubicBezTo>
                <a:cubicBezTo>
                  <a:pt x="160" y="104"/>
                  <a:pt x="148" y="98"/>
                  <a:pt x="136" y="96"/>
                </a:cubicBezTo>
                <a:cubicBezTo>
                  <a:pt x="91" y="90"/>
                  <a:pt x="45" y="91"/>
                  <a:pt x="0" y="88"/>
                </a:cubicBezTo>
                <a:cubicBezTo>
                  <a:pt x="27" y="79"/>
                  <a:pt x="65" y="90"/>
                  <a:pt x="48" y="56"/>
                </a:cubicBezTo>
                <a:close/>
              </a:path>
            </a:pathLst>
          </a:custGeom>
          <a:solidFill>
            <a:srgbClr val="ff33cc"/>
          </a:solidFill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1066680" y="1987560"/>
            <a:ext cx="596880" cy="241200"/>
          </a:xfrm>
          <a:custGeom>
            <a:avLst/>
            <a:gdLst/>
            <a:ahLst/>
            <a:rect l="l" t="t" r="r" b="b"/>
            <a:pathLst>
              <a:path w="376" h="152">
                <a:moveTo>
                  <a:pt x="48" y="56"/>
                </a:moveTo>
                <a:cubicBezTo>
                  <a:pt x="61" y="53"/>
                  <a:pt x="76" y="54"/>
                  <a:pt x="88" y="48"/>
                </a:cubicBezTo>
                <a:cubicBezTo>
                  <a:pt x="106" y="40"/>
                  <a:pt x="117" y="21"/>
                  <a:pt x="136" y="16"/>
                </a:cubicBezTo>
                <a:cubicBezTo>
                  <a:pt x="176" y="6"/>
                  <a:pt x="158" y="11"/>
                  <a:pt x="192" y="0"/>
                </a:cubicBezTo>
                <a:cubicBezTo>
                  <a:pt x="225" y="11"/>
                  <a:pt x="246" y="50"/>
                  <a:pt x="280" y="56"/>
                </a:cubicBezTo>
                <a:cubicBezTo>
                  <a:pt x="296" y="59"/>
                  <a:pt x="312" y="61"/>
                  <a:pt x="328" y="64"/>
                </a:cubicBezTo>
                <a:cubicBezTo>
                  <a:pt x="311" y="116"/>
                  <a:pt x="295" y="110"/>
                  <a:pt x="344" y="128"/>
                </a:cubicBezTo>
                <a:cubicBezTo>
                  <a:pt x="354" y="132"/>
                  <a:pt x="365" y="133"/>
                  <a:pt x="376" y="136"/>
                </a:cubicBezTo>
                <a:cubicBezTo>
                  <a:pt x="368" y="141"/>
                  <a:pt x="362" y="152"/>
                  <a:pt x="352" y="152"/>
                </a:cubicBezTo>
                <a:cubicBezTo>
                  <a:pt x="322" y="152"/>
                  <a:pt x="294" y="134"/>
                  <a:pt x="264" y="128"/>
                </a:cubicBezTo>
                <a:cubicBezTo>
                  <a:pt x="235" y="131"/>
                  <a:pt x="205" y="141"/>
                  <a:pt x="176" y="136"/>
                </a:cubicBezTo>
                <a:cubicBezTo>
                  <a:pt x="168" y="135"/>
                  <a:pt x="174" y="118"/>
                  <a:pt x="168" y="112"/>
                </a:cubicBezTo>
                <a:cubicBezTo>
                  <a:pt x="160" y="104"/>
                  <a:pt x="148" y="98"/>
                  <a:pt x="136" y="96"/>
                </a:cubicBezTo>
                <a:cubicBezTo>
                  <a:pt x="91" y="90"/>
                  <a:pt x="45" y="91"/>
                  <a:pt x="0" y="88"/>
                </a:cubicBezTo>
                <a:cubicBezTo>
                  <a:pt x="27" y="79"/>
                  <a:pt x="65" y="90"/>
                  <a:pt x="48" y="56"/>
                </a:cubicBezTo>
                <a:close/>
              </a:path>
            </a:pathLst>
          </a:custGeom>
          <a:solidFill>
            <a:srgbClr val="66ff66"/>
          </a:solidFill>
          <a:ln w="93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371600" y="206388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219320" y="2216160"/>
            <a:ext cx="596880" cy="241200"/>
          </a:xfrm>
          <a:custGeom>
            <a:avLst/>
            <a:gdLst/>
            <a:ahLst/>
            <a:rect l="l" t="t" r="r" b="b"/>
            <a:pathLst>
              <a:path w="376" h="152">
                <a:moveTo>
                  <a:pt x="48" y="56"/>
                </a:moveTo>
                <a:cubicBezTo>
                  <a:pt x="61" y="53"/>
                  <a:pt x="76" y="54"/>
                  <a:pt x="88" y="48"/>
                </a:cubicBezTo>
                <a:cubicBezTo>
                  <a:pt x="106" y="40"/>
                  <a:pt x="117" y="21"/>
                  <a:pt x="136" y="16"/>
                </a:cubicBezTo>
                <a:cubicBezTo>
                  <a:pt x="176" y="6"/>
                  <a:pt x="158" y="11"/>
                  <a:pt x="192" y="0"/>
                </a:cubicBezTo>
                <a:cubicBezTo>
                  <a:pt x="225" y="11"/>
                  <a:pt x="246" y="50"/>
                  <a:pt x="280" y="56"/>
                </a:cubicBezTo>
                <a:cubicBezTo>
                  <a:pt x="296" y="59"/>
                  <a:pt x="312" y="61"/>
                  <a:pt x="328" y="64"/>
                </a:cubicBezTo>
                <a:cubicBezTo>
                  <a:pt x="311" y="116"/>
                  <a:pt x="295" y="110"/>
                  <a:pt x="344" y="128"/>
                </a:cubicBezTo>
                <a:cubicBezTo>
                  <a:pt x="354" y="132"/>
                  <a:pt x="365" y="133"/>
                  <a:pt x="376" y="136"/>
                </a:cubicBezTo>
                <a:cubicBezTo>
                  <a:pt x="368" y="141"/>
                  <a:pt x="362" y="152"/>
                  <a:pt x="352" y="152"/>
                </a:cubicBezTo>
                <a:cubicBezTo>
                  <a:pt x="322" y="152"/>
                  <a:pt x="294" y="134"/>
                  <a:pt x="264" y="128"/>
                </a:cubicBezTo>
                <a:cubicBezTo>
                  <a:pt x="235" y="131"/>
                  <a:pt x="205" y="141"/>
                  <a:pt x="176" y="136"/>
                </a:cubicBezTo>
                <a:cubicBezTo>
                  <a:pt x="168" y="135"/>
                  <a:pt x="174" y="118"/>
                  <a:pt x="168" y="112"/>
                </a:cubicBezTo>
                <a:cubicBezTo>
                  <a:pt x="160" y="104"/>
                  <a:pt x="148" y="98"/>
                  <a:pt x="136" y="96"/>
                </a:cubicBezTo>
                <a:cubicBezTo>
                  <a:pt x="91" y="90"/>
                  <a:pt x="45" y="91"/>
                  <a:pt x="0" y="88"/>
                </a:cubicBezTo>
                <a:cubicBezTo>
                  <a:pt x="27" y="79"/>
                  <a:pt x="65" y="90"/>
                  <a:pt x="48" y="56"/>
                </a:cubicBezTo>
                <a:close/>
              </a:path>
            </a:pathLst>
          </a:custGeom>
          <a:solidFill>
            <a:srgbClr val="66ff66"/>
          </a:solidFill>
          <a:ln w="93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523880" y="229248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838080" y="2292480"/>
            <a:ext cx="596880" cy="241200"/>
          </a:xfrm>
          <a:custGeom>
            <a:avLst/>
            <a:gdLst/>
            <a:ahLst/>
            <a:rect l="l" t="t" r="r" b="b"/>
            <a:pathLst>
              <a:path w="376" h="152">
                <a:moveTo>
                  <a:pt x="48" y="56"/>
                </a:moveTo>
                <a:cubicBezTo>
                  <a:pt x="61" y="53"/>
                  <a:pt x="76" y="54"/>
                  <a:pt x="88" y="48"/>
                </a:cubicBezTo>
                <a:cubicBezTo>
                  <a:pt x="106" y="40"/>
                  <a:pt x="117" y="21"/>
                  <a:pt x="136" y="16"/>
                </a:cubicBezTo>
                <a:cubicBezTo>
                  <a:pt x="176" y="6"/>
                  <a:pt x="158" y="11"/>
                  <a:pt x="192" y="0"/>
                </a:cubicBezTo>
                <a:cubicBezTo>
                  <a:pt x="225" y="11"/>
                  <a:pt x="246" y="50"/>
                  <a:pt x="280" y="56"/>
                </a:cubicBezTo>
                <a:cubicBezTo>
                  <a:pt x="296" y="59"/>
                  <a:pt x="312" y="61"/>
                  <a:pt x="328" y="64"/>
                </a:cubicBezTo>
                <a:cubicBezTo>
                  <a:pt x="311" y="116"/>
                  <a:pt x="295" y="110"/>
                  <a:pt x="344" y="128"/>
                </a:cubicBezTo>
                <a:cubicBezTo>
                  <a:pt x="354" y="132"/>
                  <a:pt x="365" y="133"/>
                  <a:pt x="376" y="136"/>
                </a:cubicBezTo>
                <a:cubicBezTo>
                  <a:pt x="368" y="141"/>
                  <a:pt x="362" y="152"/>
                  <a:pt x="352" y="152"/>
                </a:cubicBezTo>
                <a:cubicBezTo>
                  <a:pt x="322" y="152"/>
                  <a:pt x="294" y="134"/>
                  <a:pt x="264" y="128"/>
                </a:cubicBezTo>
                <a:cubicBezTo>
                  <a:pt x="235" y="131"/>
                  <a:pt x="205" y="141"/>
                  <a:pt x="176" y="136"/>
                </a:cubicBezTo>
                <a:cubicBezTo>
                  <a:pt x="168" y="135"/>
                  <a:pt x="174" y="118"/>
                  <a:pt x="168" y="112"/>
                </a:cubicBezTo>
                <a:cubicBezTo>
                  <a:pt x="160" y="104"/>
                  <a:pt x="148" y="98"/>
                  <a:pt x="136" y="96"/>
                </a:cubicBezTo>
                <a:cubicBezTo>
                  <a:pt x="91" y="90"/>
                  <a:pt x="45" y="91"/>
                  <a:pt x="0" y="88"/>
                </a:cubicBezTo>
                <a:cubicBezTo>
                  <a:pt x="27" y="79"/>
                  <a:pt x="65" y="90"/>
                  <a:pt x="48" y="56"/>
                </a:cubicBezTo>
                <a:close/>
              </a:path>
            </a:pathLst>
          </a:custGeom>
          <a:solidFill>
            <a:srgbClr val="66ff66"/>
          </a:solidFill>
          <a:ln w="93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143000" y="23684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4800240" y="2901960"/>
            <a:ext cx="314280" cy="244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1676520" y="244476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257800" y="31305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1905120" y="259704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5562720" y="2368440"/>
            <a:ext cx="7596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438280" y="290196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819520" y="1835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Sustr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1523520" y="1758960"/>
            <a:ext cx="22860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1599840" y="1987560"/>
            <a:ext cx="22860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1218960" y="1987560"/>
            <a:ext cx="22860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28600" y="2521080"/>
            <a:ext cx="1371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+ estímu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638680" y="25970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809880" y="54928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590920" y="59500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lonar cDNA sustraí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4191120" y="2133720"/>
            <a:ext cx="30456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267080" y="2209680"/>
            <a:ext cx="15264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194000" y="226368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267080" y="228600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191120" y="24382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4267080" y="25146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267080" y="2616120"/>
            <a:ext cx="12960" cy="38160"/>
          </a:xfrm>
          <a:custGeom>
            <a:avLst/>
            <a:gdLst/>
            <a:ahLst/>
            <a:rect l="l" t="t" r="r" b="b"/>
            <a:pathLst>
              <a:path w="8" h="24">
                <a:moveTo>
                  <a:pt x="0" y="0"/>
                </a:moveTo>
                <a:cubicBezTo>
                  <a:pt x="3" y="8"/>
                  <a:pt x="8" y="24"/>
                  <a:pt x="8" y="24"/>
                </a:cubicBezTo>
                <a:cubicBezTo>
                  <a:pt x="8" y="24"/>
                  <a:pt x="3" y="8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572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189320" y="2666880"/>
            <a:ext cx="65160" cy="63720"/>
          </a:xfrm>
          <a:custGeom>
            <a:avLst/>
            <a:gdLst/>
            <a:ahLst/>
            <a:rect l="l" t="t" r="r" b="b"/>
            <a:pathLst>
              <a:path w="41" h="40">
                <a:moveTo>
                  <a:pt x="41" y="40"/>
                </a:moveTo>
                <a:cubicBezTo>
                  <a:pt x="0" y="26"/>
                  <a:pt x="26" y="25"/>
                  <a:pt x="1" y="0"/>
                </a:cubicBezTo>
              </a:path>
            </a:pathLst>
          </a:custGeom>
          <a:noFill/>
          <a:ln w="572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5334120" y="251460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410080" y="259092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572000" y="21337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648320" y="22096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715000" y="20574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791320" y="21337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5718240" y="218772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791320" y="220968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800600" y="228600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876920" y="228600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181480" y="18288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257800" y="19051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029200" y="22860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105520" y="23623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715000" y="23623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5791320" y="24382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460840" y="2514600"/>
            <a:ext cx="88920" cy="14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410080" y="2590920"/>
            <a:ext cx="88920" cy="14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5232240" y="2286000"/>
            <a:ext cx="7632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5" y="8"/>
                  <a:pt x="9" y="17"/>
                  <a:pt x="16" y="24"/>
                </a:cubicBezTo>
                <a:cubicBezTo>
                  <a:pt x="23" y="31"/>
                  <a:pt x="34" y="32"/>
                  <a:pt x="40" y="40"/>
                </a:cubicBezTo>
                <a:cubicBezTo>
                  <a:pt x="45" y="47"/>
                  <a:pt x="48" y="64"/>
                  <a:pt x="48" y="64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194440" y="2336760"/>
            <a:ext cx="7596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22" y="22"/>
                  <a:pt x="27" y="43"/>
                  <a:pt x="48" y="64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181480" y="1841400"/>
            <a:ext cx="6372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5245200" y="1892160"/>
            <a:ext cx="75960" cy="6372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791320" y="2540160"/>
            <a:ext cx="12600" cy="37800"/>
          </a:xfrm>
          <a:custGeom>
            <a:avLst/>
            <a:gdLst/>
            <a:ahLst/>
            <a:rect l="l" t="t" r="r" b="b"/>
            <a:pathLst>
              <a:path w="8" h="24">
                <a:moveTo>
                  <a:pt x="0" y="0"/>
                </a:moveTo>
                <a:cubicBezTo>
                  <a:pt x="3" y="8"/>
                  <a:pt x="8" y="24"/>
                  <a:pt x="8" y="24"/>
                </a:cubicBezTo>
                <a:cubicBezTo>
                  <a:pt x="8" y="24"/>
                  <a:pt x="3" y="8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713560" y="2590920"/>
            <a:ext cx="6480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41" y="40"/>
                </a:moveTo>
                <a:cubicBezTo>
                  <a:pt x="0" y="26"/>
                  <a:pt x="26" y="25"/>
                  <a:pt x="1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800600" y="27432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371600" y="3809880"/>
            <a:ext cx="200160" cy="106560"/>
          </a:xfrm>
          <a:custGeom>
            <a:avLst/>
            <a:gdLst/>
            <a:ahLst/>
            <a:rect l="l" t="t" r="r" b="b"/>
            <a:pathLst>
              <a:path w="191" h="94">
                <a:moveTo>
                  <a:pt x="0" y="90"/>
                </a:moveTo>
                <a:cubicBezTo>
                  <a:pt x="6" y="81"/>
                  <a:pt x="11" y="71"/>
                  <a:pt x="18" y="63"/>
                </a:cubicBezTo>
                <a:cubicBezTo>
                  <a:pt x="24" y="56"/>
                  <a:pt x="29" y="42"/>
                  <a:pt x="37" y="45"/>
                </a:cubicBezTo>
                <a:cubicBezTo>
                  <a:pt x="46" y="48"/>
                  <a:pt x="43" y="63"/>
                  <a:pt x="46" y="72"/>
                </a:cubicBezTo>
                <a:cubicBezTo>
                  <a:pt x="55" y="69"/>
                  <a:pt x="66" y="70"/>
                  <a:pt x="73" y="63"/>
                </a:cubicBezTo>
                <a:cubicBezTo>
                  <a:pt x="91" y="45"/>
                  <a:pt x="73" y="0"/>
                  <a:pt x="91" y="72"/>
                </a:cubicBezTo>
                <a:cubicBezTo>
                  <a:pt x="164" y="48"/>
                  <a:pt x="78" y="66"/>
                  <a:pt x="127" y="90"/>
                </a:cubicBezTo>
                <a:cubicBezTo>
                  <a:pt x="136" y="94"/>
                  <a:pt x="146" y="84"/>
                  <a:pt x="155" y="81"/>
                </a:cubicBezTo>
                <a:cubicBezTo>
                  <a:pt x="186" y="61"/>
                  <a:pt x="174" y="55"/>
                  <a:pt x="191" y="72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857240" y="3646440"/>
            <a:ext cx="285840" cy="109440"/>
          </a:xfrm>
          <a:custGeom>
            <a:avLst/>
            <a:gdLst/>
            <a:ahLst/>
            <a:rect l="l" t="t" r="r" b="b"/>
            <a:pathLst>
              <a:path w="273" h="97">
                <a:moveTo>
                  <a:pt x="0" y="70"/>
                </a:moveTo>
                <a:cubicBezTo>
                  <a:pt x="45" y="40"/>
                  <a:pt x="35" y="63"/>
                  <a:pt x="82" y="79"/>
                </a:cubicBezTo>
                <a:cubicBezTo>
                  <a:pt x="91" y="76"/>
                  <a:pt x="104" y="78"/>
                  <a:pt x="109" y="70"/>
                </a:cubicBezTo>
                <a:cubicBezTo>
                  <a:pt x="118" y="54"/>
                  <a:pt x="103" y="26"/>
                  <a:pt x="118" y="16"/>
                </a:cubicBezTo>
                <a:cubicBezTo>
                  <a:pt x="129" y="9"/>
                  <a:pt x="126" y="43"/>
                  <a:pt x="136" y="52"/>
                </a:cubicBezTo>
                <a:cubicBezTo>
                  <a:pt x="143" y="59"/>
                  <a:pt x="155" y="58"/>
                  <a:pt x="164" y="61"/>
                </a:cubicBezTo>
                <a:cubicBezTo>
                  <a:pt x="205" y="0"/>
                  <a:pt x="159" y="56"/>
                  <a:pt x="191" y="88"/>
                </a:cubicBezTo>
                <a:cubicBezTo>
                  <a:pt x="200" y="97"/>
                  <a:pt x="215" y="82"/>
                  <a:pt x="227" y="79"/>
                </a:cubicBezTo>
                <a:cubicBezTo>
                  <a:pt x="263" y="69"/>
                  <a:pt x="245" y="65"/>
                  <a:pt x="273" y="79"/>
                </a:cubicBezTo>
              </a:path>
            </a:pathLst>
          </a:custGeom>
          <a:noFill/>
          <a:ln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676520" y="3962520"/>
            <a:ext cx="406440" cy="11592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523880" y="4114800"/>
            <a:ext cx="319320" cy="9360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6"/>
                </a:moveTo>
                <a:cubicBezTo>
                  <a:pt x="9" y="53"/>
                  <a:pt x="19" y="52"/>
                  <a:pt x="27" y="47"/>
                </a:cubicBezTo>
                <a:cubicBezTo>
                  <a:pt x="35" y="43"/>
                  <a:pt x="38" y="27"/>
                  <a:pt x="46" y="29"/>
                </a:cubicBezTo>
                <a:cubicBezTo>
                  <a:pt x="57" y="32"/>
                  <a:pt x="56" y="49"/>
                  <a:pt x="64" y="56"/>
                </a:cubicBezTo>
                <a:cubicBezTo>
                  <a:pt x="71" y="62"/>
                  <a:pt x="82" y="62"/>
                  <a:pt x="91" y="65"/>
                </a:cubicBezTo>
                <a:cubicBezTo>
                  <a:pt x="113" y="0"/>
                  <a:pt x="81" y="65"/>
                  <a:pt x="127" y="56"/>
                </a:cubicBezTo>
                <a:cubicBezTo>
                  <a:pt x="138" y="54"/>
                  <a:pt x="140" y="38"/>
                  <a:pt x="146" y="29"/>
                </a:cubicBezTo>
                <a:cubicBezTo>
                  <a:pt x="149" y="38"/>
                  <a:pt x="147" y="52"/>
                  <a:pt x="155" y="56"/>
                </a:cubicBezTo>
                <a:cubicBezTo>
                  <a:pt x="163" y="60"/>
                  <a:pt x="173" y="47"/>
                  <a:pt x="182" y="47"/>
                </a:cubicBezTo>
                <a:cubicBezTo>
                  <a:pt x="191" y="47"/>
                  <a:pt x="200" y="54"/>
                  <a:pt x="209" y="56"/>
                </a:cubicBezTo>
                <a:cubicBezTo>
                  <a:pt x="227" y="60"/>
                  <a:pt x="246" y="62"/>
                  <a:pt x="264" y="65"/>
                </a:cubicBezTo>
                <a:cubicBezTo>
                  <a:pt x="305" y="79"/>
                  <a:pt x="291" y="83"/>
                  <a:pt x="291" y="2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219320" y="3962520"/>
            <a:ext cx="314280" cy="158760"/>
          </a:xfrm>
          <a:custGeom>
            <a:avLst/>
            <a:gdLst/>
            <a:ahLst/>
            <a:rect l="l" t="t" r="r" b="b"/>
            <a:pathLst>
              <a:path w="300" h="141">
                <a:moveTo>
                  <a:pt x="0" y="136"/>
                </a:moveTo>
                <a:cubicBezTo>
                  <a:pt x="52" y="123"/>
                  <a:pt x="78" y="131"/>
                  <a:pt x="118" y="91"/>
                </a:cubicBezTo>
                <a:cubicBezTo>
                  <a:pt x="126" y="67"/>
                  <a:pt x="142" y="33"/>
                  <a:pt x="118" y="9"/>
                </a:cubicBezTo>
                <a:cubicBezTo>
                  <a:pt x="109" y="0"/>
                  <a:pt x="94" y="15"/>
                  <a:pt x="82" y="18"/>
                </a:cubicBezTo>
                <a:cubicBezTo>
                  <a:pt x="67" y="63"/>
                  <a:pt x="79" y="101"/>
                  <a:pt x="118" y="127"/>
                </a:cubicBezTo>
                <a:cubicBezTo>
                  <a:pt x="281" y="112"/>
                  <a:pt x="177" y="141"/>
                  <a:pt x="246" y="72"/>
                </a:cubicBezTo>
                <a:cubicBezTo>
                  <a:pt x="259" y="124"/>
                  <a:pt x="242" y="109"/>
                  <a:pt x="300" y="109"/>
                </a:cubicBezTo>
              </a:path>
            </a:pathLst>
          </a:custGeom>
          <a:noFill/>
          <a:ln w="381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676520" y="3809880"/>
            <a:ext cx="199800" cy="106560"/>
          </a:xfrm>
          <a:custGeom>
            <a:avLst/>
            <a:gdLst/>
            <a:ahLst/>
            <a:rect l="l" t="t" r="r" b="b"/>
            <a:pathLst>
              <a:path w="191" h="94">
                <a:moveTo>
                  <a:pt x="0" y="90"/>
                </a:moveTo>
                <a:cubicBezTo>
                  <a:pt x="6" y="81"/>
                  <a:pt x="11" y="71"/>
                  <a:pt x="18" y="63"/>
                </a:cubicBezTo>
                <a:cubicBezTo>
                  <a:pt x="24" y="56"/>
                  <a:pt x="29" y="42"/>
                  <a:pt x="37" y="45"/>
                </a:cubicBezTo>
                <a:cubicBezTo>
                  <a:pt x="46" y="48"/>
                  <a:pt x="43" y="63"/>
                  <a:pt x="46" y="72"/>
                </a:cubicBezTo>
                <a:cubicBezTo>
                  <a:pt x="55" y="69"/>
                  <a:pt x="66" y="70"/>
                  <a:pt x="73" y="63"/>
                </a:cubicBezTo>
                <a:cubicBezTo>
                  <a:pt x="91" y="45"/>
                  <a:pt x="73" y="0"/>
                  <a:pt x="91" y="72"/>
                </a:cubicBezTo>
                <a:cubicBezTo>
                  <a:pt x="164" y="48"/>
                  <a:pt x="78" y="66"/>
                  <a:pt x="127" y="90"/>
                </a:cubicBezTo>
                <a:cubicBezTo>
                  <a:pt x="136" y="94"/>
                  <a:pt x="146" y="84"/>
                  <a:pt x="155" y="81"/>
                </a:cubicBezTo>
                <a:cubicBezTo>
                  <a:pt x="186" y="61"/>
                  <a:pt x="174" y="55"/>
                  <a:pt x="191" y="72"/>
                </a:cubicBezTo>
              </a:path>
            </a:pathLst>
          </a:custGeom>
          <a:noFill/>
          <a:ln w="3816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219320" y="3657600"/>
            <a:ext cx="318960" cy="9360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6"/>
                </a:moveTo>
                <a:cubicBezTo>
                  <a:pt x="9" y="53"/>
                  <a:pt x="19" y="52"/>
                  <a:pt x="27" y="47"/>
                </a:cubicBezTo>
                <a:cubicBezTo>
                  <a:pt x="35" y="43"/>
                  <a:pt x="38" y="27"/>
                  <a:pt x="46" y="29"/>
                </a:cubicBezTo>
                <a:cubicBezTo>
                  <a:pt x="57" y="32"/>
                  <a:pt x="56" y="49"/>
                  <a:pt x="64" y="56"/>
                </a:cubicBezTo>
                <a:cubicBezTo>
                  <a:pt x="71" y="62"/>
                  <a:pt x="82" y="62"/>
                  <a:pt x="91" y="65"/>
                </a:cubicBezTo>
                <a:cubicBezTo>
                  <a:pt x="113" y="0"/>
                  <a:pt x="81" y="65"/>
                  <a:pt x="127" y="56"/>
                </a:cubicBezTo>
                <a:cubicBezTo>
                  <a:pt x="138" y="54"/>
                  <a:pt x="140" y="38"/>
                  <a:pt x="146" y="29"/>
                </a:cubicBezTo>
                <a:cubicBezTo>
                  <a:pt x="149" y="38"/>
                  <a:pt x="147" y="52"/>
                  <a:pt x="155" y="56"/>
                </a:cubicBezTo>
                <a:cubicBezTo>
                  <a:pt x="163" y="60"/>
                  <a:pt x="173" y="47"/>
                  <a:pt x="182" y="47"/>
                </a:cubicBezTo>
                <a:cubicBezTo>
                  <a:pt x="191" y="47"/>
                  <a:pt x="200" y="54"/>
                  <a:pt x="209" y="56"/>
                </a:cubicBezTo>
                <a:cubicBezTo>
                  <a:pt x="227" y="60"/>
                  <a:pt x="246" y="62"/>
                  <a:pt x="264" y="65"/>
                </a:cubicBezTo>
                <a:cubicBezTo>
                  <a:pt x="305" y="79"/>
                  <a:pt x="291" y="83"/>
                  <a:pt x="291" y="29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371600" y="3276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R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1676520" y="4267080"/>
            <a:ext cx="318960" cy="9396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6"/>
                </a:moveTo>
                <a:cubicBezTo>
                  <a:pt x="9" y="53"/>
                  <a:pt x="19" y="52"/>
                  <a:pt x="27" y="47"/>
                </a:cubicBezTo>
                <a:cubicBezTo>
                  <a:pt x="35" y="43"/>
                  <a:pt x="38" y="27"/>
                  <a:pt x="46" y="29"/>
                </a:cubicBezTo>
                <a:cubicBezTo>
                  <a:pt x="57" y="32"/>
                  <a:pt x="56" y="49"/>
                  <a:pt x="64" y="56"/>
                </a:cubicBezTo>
                <a:cubicBezTo>
                  <a:pt x="71" y="62"/>
                  <a:pt x="82" y="62"/>
                  <a:pt x="91" y="65"/>
                </a:cubicBezTo>
                <a:cubicBezTo>
                  <a:pt x="113" y="0"/>
                  <a:pt x="81" y="65"/>
                  <a:pt x="127" y="56"/>
                </a:cubicBezTo>
                <a:cubicBezTo>
                  <a:pt x="138" y="54"/>
                  <a:pt x="140" y="38"/>
                  <a:pt x="146" y="29"/>
                </a:cubicBezTo>
                <a:cubicBezTo>
                  <a:pt x="149" y="38"/>
                  <a:pt x="147" y="52"/>
                  <a:pt x="155" y="56"/>
                </a:cubicBezTo>
                <a:cubicBezTo>
                  <a:pt x="163" y="60"/>
                  <a:pt x="173" y="47"/>
                  <a:pt x="182" y="47"/>
                </a:cubicBezTo>
                <a:cubicBezTo>
                  <a:pt x="191" y="47"/>
                  <a:pt x="200" y="54"/>
                  <a:pt x="209" y="56"/>
                </a:cubicBezTo>
                <a:cubicBezTo>
                  <a:pt x="227" y="60"/>
                  <a:pt x="246" y="62"/>
                  <a:pt x="264" y="65"/>
                </a:cubicBezTo>
                <a:cubicBezTo>
                  <a:pt x="305" y="79"/>
                  <a:pt x="291" y="83"/>
                  <a:pt x="291" y="29"/>
                </a:cubicBezTo>
              </a:path>
            </a:pathLst>
          </a:custGeom>
          <a:noFill/>
          <a:ln w="38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066680" y="4191120"/>
            <a:ext cx="319320" cy="9360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6"/>
                </a:moveTo>
                <a:cubicBezTo>
                  <a:pt x="9" y="53"/>
                  <a:pt x="19" y="52"/>
                  <a:pt x="27" y="47"/>
                </a:cubicBezTo>
                <a:cubicBezTo>
                  <a:pt x="35" y="43"/>
                  <a:pt x="38" y="27"/>
                  <a:pt x="46" y="29"/>
                </a:cubicBezTo>
                <a:cubicBezTo>
                  <a:pt x="57" y="32"/>
                  <a:pt x="56" y="49"/>
                  <a:pt x="64" y="56"/>
                </a:cubicBezTo>
                <a:cubicBezTo>
                  <a:pt x="71" y="62"/>
                  <a:pt x="82" y="62"/>
                  <a:pt x="91" y="65"/>
                </a:cubicBezTo>
                <a:cubicBezTo>
                  <a:pt x="113" y="0"/>
                  <a:pt x="81" y="65"/>
                  <a:pt x="127" y="56"/>
                </a:cubicBezTo>
                <a:cubicBezTo>
                  <a:pt x="138" y="54"/>
                  <a:pt x="140" y="38"/>
                  <a:pt x="146" y="29"/>
                </a:cubicBezTo>
                <a:cubicBezTo>
                  <a:pt x="149" y="38"/>
                  <a:pt x="147" y="52"/>
                  <a:pt x="155" y="56"/>
                </a:cubicBezTo>
                <a:cubicBezTo>
                  <a:pt x="163" y="60"/>
                  <a:pt x="173" y="47"/>
                  <a:pt x="182" y="47"/>
                </a:cubicBezTo>
                <a:cubicBezTo>
                  <a:pt x="191" y="47"/>
                  <a:pt x="200" y="54"/>
                  <a:pt x="209" y="56"/>
                </a:cubicBezTo>
                <a:cubicBezTo>
                  <a:pt x="227" y="60"/>
                  <a:pt x="246" y="62"/>
                  <a:pt x="264" y="65"/>
                </a:cubicBezTo>
                <a:cubicBezTo>
                  <a:pt x="305" y="79"/>
                  <a:pt x="291" y="83"/>
                  <a:pt x="291" y="29"/>
                </a:cubicBezTo>
              </a:path>
            </a:pathLst>
          </a:custGeom>
          <a:noFill/>
          <a:ln w="381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676520" y="44197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811080" y="4997520"/>
            <a:ext cx="274680" cy="330120"/>
          </a:xfrm>
          <a:custGeom>
            <a:avLst/>
            <a:gdLst/>
            <a:ahLst/>
            <a:rect l="l" t="t" r="r" b="b"/>
            <a:pathLst>
              <a:path w="173" h="208">
                <a:moveTo>
                  <a:pt x="139" y="164"/>
                </a:moveTo>
                <a:cubicBezTo>
                  <a:pt x="117" y="102"/>
                  <a:pt x="122" y="70"/>
                  <a:pt x="129" y="0"/>
                </a:cubicBezTo>
                <a:cubicBezTo>
                  <a:pt x="138" y="6"/>
                  <a:pt x="151" y="9"/>
                  <a:pt x="157" y="18"/>
                </a:cubicBezTo>
                <a:cubicBezTo>
                  <a:pt x="166" y="31"/>
                  <a:pt x="173" y="89"/>
                  <a:pt x="157" y="100"/>
                </a:cubicBezTo>
                <a:cubicBezTo>
                  <a:pt x="137" y="113"/>
                  <a:pt x="108" y="106"/>
                  <a:pt x="84" y="109"/>
                </a:cubicBezTo>
                <a:cubicBezTo>
                  <a:pt x="60" y="118"/>
                  <a:pt x="27" y="116"/>
                  <a:pt x="11" y="136"/>
                </a:cubicBezTo>
                <a:cubicBezTo>
                  <a:pt x="0" y="151"/>
                  <a:pt x="6" y="179"/>
                  <a:pt x="20" y="191"/>
                </a:cubicBezTo>
                <a:cubicBezTo>
                  <a:pt x="32" y="201"/>
                  <a:pt x="51" y="185"/>
                  <a:pt x="66" y="182"/>
                </a:cubicBezTo>
                <a:cubicBezTo>
                  <a:pt x="72" y="173"/>
                  <a:pt x="81" y="165"/>
                  <a:pt x="84" y="155"/>
                </a:cubicBezTo>
                <a:cubicBezTo>
                  <a:pt x="100" y="107"/>
                  <a:pt x="84" y="74"/>
                  <a:pt x="102" y="127"/>
                </a:cubicBezTo>
                <a:cubicBezTo>
                  <a:pt x="105" y="151"/>
                  <a:pt x="99" y="179"/>
                  <a:pt x="111" y="200"/>
                </a:cubicBezTo>
                <a:cubicBezTo>
                  <a:pt x="116" y="208"/>
                  <a:pt x="134" y="200"/>
                  <a:pt x="139" y="191"/>
                </a:cubicBezTo>
                <a:cubicBezTo>
                  <a:pt x="151" y="169"/>
                  <a:pt x="157" y="118"/>
                  <a:pt x="157" y="118"/>
                </a:cubicBezTo>
                <a:cubicBezTo>
                  <a:pt x="145" y="115"/>
                  <a:pt x="132" y="113"/>
                  <a:pt x="120" y="109"/>
                </a:cubicBezTo>
                <a:cubicBezTo>
                  <a:pt x="102" y="104"/>
                  <a:pt x="66" y="91"/>
                  <a:pt x="66" y="91"/>
                </a:cubicBezTo>
                <a:cubicBezTo>
                  <a:pt x="69" y="73"/>
                  <a:pt x="65" y="51"/>
                  <a:pt x="75" y="36"/>
                </a:cubicBezTo>
                <a:cubicBezTo>
                  <a:pt x="80" y="28"/>
                  <a:pt x="86" y="54"/>
                  <a:pt x="84" y="64"/>
                </a:cubicBezTo>
                <a:cubicBezTo>
                  <a:pt x="82" y="75"/>
                  <a:pt x="74" y="83"/>
                  <a:pt x="66" y="91"/>
                </a:cubicBezTo>
                <a:cubicBezTo>
                  <a:pt x="58" y="99"/>
                  <a:pt x="47" y="102"/>
                  <a:pt x="38" y="109"/>
                </a:cubicBezTo>
                <a:cubicBezTo>
                  <a:pt x="28" y="117"/>
                  <a:pt x="20" y="127"/>
                  <a:pt x="11" y="136"/>
                </a:cubicBezTo>
                <a:cubicBezTo>
                  <a:pt x="14" y="145"/>
                  <a:pt x="11" y="160"/>
                  <a:pt x="20" y="164"/>
                </a:cubicBezTo>
                <a:cubicBezTo>
                  <a:pt x="52" y="177"/>
                  <a:pt x="64" y="144"/>
                  <a:pt x="75" y="127"/>
                </a:cubicBezTo>
                <a:cubicBezTo>
                  <a:pt x="82" y="97"/>
                  <a:pt x="88" y="69"/>
                  <a:pt x="111" y="46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430280" y="5070600"/>
            <a:ext cx="379440" cy="287280"/>
          </a:xfrm>
          <a:custGeom>
            <a:avLst/>
            <a:gdLst/>
            <a:ahLst/>
            <a:rect l="l" t="t" r="r" b="b"/>
            <a:pathLst>
              <a:path w="239" h="181">
                <a:moveTo>
                  <a:pt x="76" y="54"/>
                </a:moveTo>
                <a:cubicBezTo>
                  <a:pt x="67" y="57"/>
                  <a:pt x="56" y="56"/>
                  <a:pt x="49" y="63"/>
                </a:cubicBezTo>
                <a:cubicBezTo>
                  <a:pt x="0" y="112"/>
                  <a:pt x="59" y="118"/>
                  <a:pt x="94" y="127"/>
                </a:cubicBezTo>
                <a:cubicBezTo>
                  <a:pt x="103" y="124"/>
                  <a:pt x="116" y="126"/>
                  <a:pt x="121" y="118"/>
                </a:cubicBezTo>
                <a:cubicBezTo>
                  <a:pt x="132" y="102"/>
                  <a:pt x="121" y="69"/>
                  <a:pt x="139" y="63"/>
                </a:cubicBezTo>
                <a:cubicBezTo>
                  <a:pt x="148" y="60"/>
                  <a:pt x="158" y="57"/>
                  <a:pt x="167" y="54"/>
                </a:cubicBezTo>
                <a:cubicBezTo>
                  <a:pt x="213" y="69"/>
                  <a:pt x="191" y="53"/>
                  <a:pt x="167" y="90"/>
                </a:cubicBezTo>
                <a:cubicBezTo>
                  <a:pt x="162" y="98"/>
                  <a:pt x="148" y="117"/>
                  <a:pt x="158" y="118"/>
                </a:cubicBezTo>
                <a:cubicBezTo>
                  <a:pt x="185" y="122"/>
                  <a:pt x="212" y="106"/>
                  <a:pt x="239" y="100"/>
                </a:cubicBezTo>
                <a:cubicBezTo>
                  <a:pt x="226" y="23"/>
                  <a:pt x="230" y="25"/>
                  <a:pt x="158" y="54"/>
                </a:cubicBezTo>
                <a:cubicBezTo>
                  <a:pt x="141" y="70"/>
                  <a:pt x="134" y="89"/>
                  <a:pt x="112" y="54"/>
                </a:cubicBezTo>
                <a:cubicBezTo>
                  <a:pt x="102" y="38"/>
                  <a:pt x="94" y="0"/>
                  <a:pt x="94" y="0"/>
                </a:cubicBezTo>
                <a:cubicBezTo>
                  <a:pt x="3" y="30"/>
                  <a:pt x="16" y="142"/>
                  <a:pt x="94" y="181"/>
                </a:cubicBezTo>
                <a:cubicBezTo>
                  <a:pt x="126" y="133"/>
                  <a:pt x="103" y="100"/>
                  <a:pt x="76" y="54"/>
                </a:cubicBez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925640" y="4738680"/>
            <a:ext cx="358920" cy="360360"/>
          </a:xfrm>
          <a:custGeom>
            <a:avLst/>
            <a:gdLst/>
            <a:ahLst/>
            <a:rect l="l" t="t" r="r" b="b"/>
            <a:pathLst>
              <a:path w="226" h="227">
                <a:moveTo>
                  <a:pt x="164" y="145"/>
                </a:moveTo>
                <a:cubicBezTo>
                  <a:pt x="176" y="110"/>
                  <a:pt x="166" y="88"/>
                  <a:pt x="155" y="54"/>
                </a:cubicBezTo>
                <a:cubicBezTo>
                  <a:pt x="146" y="57"/>
                  <a:pt x="132" y="55"/>
                  <a:pt x="127" y="63"/>
                </a:cubicBezTo>
                <a:cubicBezTo>
                  <a:pt x="82" y="130"/>
                  <a:pt x="153" y="97"/>
                  <a:pt x="91" y="118"/>
                </a:cubicBezTo>
                <a:cubicBezTo>
                  <a:pt x="94" y="133"/>
                  <a:pt x="87" y="155"/>
                  <a:pt x="100" y="163"/>
                </a:cubicBezTo>
                <a:cubicBezTo>
                  <a:pt x="109" y="169"/>
                  <a:pt x="122" y="146"/>
                  <a:pt x="118" y="136"/>
                </a:cubicBezTo>
                <a:cubicBezTo>
                  <a:pt x="113" y="124"/>
                  <a:pt x="94" y="124"/>
                  <a:pt x="82" y="118"/>
                </a:cubicBezTo>
                <a:cubicBezTo>
                  <a:pt x="0" y="145"/>
                  <a:pt x="57" y="194"/>
                  <a:pt x="109" y="209"/>
                </a:cubicBezTo>
                <a:cubicBezTo>
                  <a:pt x="124" y="206"/>
                  <a:pt x="146" y="212"/>
                  <a:pt x="155" y="199"/>
                </a:cubicBezTo>
                <a:cubicBezTo>
                  <a:pt x="179" y="167"/>
                  <a:pt x="151" y="98"/>
                  <a:pt x="173" y="163"/>
                </a:cubicBezTo>
                <a:cubicBezTo>
                  <a:pt x="176" y="181"/>
                  <a:pt x="169" y="205"/>
                  <a:pt x="182" y="218"/>
                </a:cubicBezTo>
                <a:cubicBezTo>
                  <a:pt x="191" y="227"/>
                  <a:pt x="214" y="221"/>
                  <a:pt x="218" y="209"/>
                </a:cubicBezTo>
                <a:cubicBezTo>
                  <a:pt x="226" y="183"/>
                  <a:pt x="212" y="154"/>
                  <a:pt x="209" y="127"/>
                </a:cubicBezTo>
                <a:cubicBezTo>
                  <a:pt x="164" y="130"/>
                  <a:pt x="117" y="147"/>
                  <a:pt x="73" y="136"/>
                </a:cubicBezTo>
                <a:cubicBezTo>
                  <a:pt x="58" y="132"/>
                  <a:pt x="98" y="114"/>
                  <a:pt x="100" y="99"/>
                </a:cubicBezTo>
                <a:cubicBezTo>
                  <a:pt x="104" y="66"/>
                  <a:pt x="94" y="33"/>
                  <a:pt x="91" y="0"/>
                </a:cubicBezTo>
                <a:cubicBezTo>
                  <a:pt x="70" y="32"/>
                  <a:pt x="59" y="69"/>
                  <a:pt x="100" y="90"/>
                </a:cubicBezTo>
              </a:path>
            </a:pathLst>
          </a:custGeom>
          <a:noFill/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1074600" y="5343480"/>
            <a:ext cx="335160" cy="217440"/>
          </a:xfrm>
          <a:custGeom>
            <a:avLst/>
            <a:gdLst/>
            <a:ahLst/>
            <a:rect l="l" t="t" r="r" b="b"/>
            <a:pathLst>
              <a:path w="211" h="137">
                <a:moveTo>
                  <a:pt x="154" y="0"/>
                </a:moveTo>
                <a:cubicBezTo>
                  <a:pt x="88" y="102"/>
                  <a:pt x="195" y="78"/>
                  <a:pt x="0" y="64"/>
                </a:cubicBezTo>
                <a:cubicBezTo>
                  <a:pt x="22" y="130"/>
                  <a:pt x="0" y="123"/>
                  <a:pt x="54" y="109"/>
                </a:cubicBezTo>
                <a:cubicBezTo>
                  <a:pt x="91" y="74"/>
                  <a:pt x="81" y="48"/>
                  <a:pt x="73" y="0"/>
                </a:cubicBezTo>
                <a:cubicBezTo>
                  <a:pt x="51" y="64"/>
                  <a:pt x="36" y="49"/>
                  <a:pt x="82" y="64"/>
                </a:cubicBezTo>
                <a:cubicBezTo>
                  <a:pt x="106" y="28"/>
                  <a:pt x="95" y="14"/>
                  <a:pt x="136" y="0"/>
                </a:cubicBezTo>
                <a:cubicBezTo>
                  <a:pt x="195" y="20"/>
                  <a:pt x="160" y="55"/>
                  <a:pt x="136" y="91"/>
                </a:cubicBezTo>
                <a:cubicBezTo>
                  <a:pt x="176" y="104"/>
                  <a:pt x="186" y="99"/>
                  <a:pt x="209" y="64"/>
                </a:cubicBezTo>
                <a:cubicBezTo>
                  <a:pt x="206" y="52"/>
                  <a:pt x="211" y="33"/>
                  <a:pt x="200" y="28"/>
                </a:cubicBezTo>
                <a:cubicBezTo>
                  <a:pt x="137" y="1"/>
                  <a:pt x="100" y="91"/>
                  <a:pt x="100" y="137"/>
                </a:cubicBezTo>
              </a:path>
            </a:pathLst>
          </a:custGeom>
          <a:noFill/>
          <a:ln w="936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523880" y="53341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oteí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657600" y="3962520"/>
            <a:ext cx="1333440" cy="761760"/>
          </a:xfrm>
          <a:custGeom>
            <a:avLst/>
            <a:gdLst/>
            <a:ahLst/>
            <a:rect l="l" t="t" r="r" b="b"/>
            <a:pathLst>
              <a:path w="840" h="480">
                <a:moveTo>
                  <a:pt x="168" y="480"/>
                </a:moveTo>
                <a:cubicBezTo>
                  <a:pt x="173" y="461"/>
                  <a:pt x="195" y="366"/>
                  <a:pt x="204" y="360"/>
                </a:cubicBezTo>
                <a:cubicBezTo>
                  <a:pt x="216" y="352"/>
                  <a:pt x="227" y="342"/>
                  <a:pt x="240" y="336"/>
                </a:cubicBezTo>
                <a:cubicBezTo>
                  <a:pt x="263" y="326"/>
                  <a:pt x="312" y="312"/>
                  <a:pt x="312" y="312"/>
                </a:cubicBezTo>
                <a:cubicBezTo>
                  <a:pt x="376" y="317"/>
                  <a:pt x="450" y="300"/>
                  <a:pt x="504" y="336"/>
                </a:cubicBezTo>
                <a:cubicBezTo>
                  <a:pt x="594" y="396"/>
                  <a:pt x="490" y="355"/>
                  <a:pt x="576" y="384"/>
                </a:cubicBezTo>
                <a:cubicBezTo>
                  <a:pt x="597" y="321"/>
                  <a:pt x="631" y="245"/>
                  <a:pt x="696" y="216"/>
                </a:cubicBezTo>
                <a:cubicBezTo>
                  <a:pt x="731" y="201"/>
                  <a:pt x="768" y="192"/>
                  <a:pt x="804" y="180"/>
                </a:cubicBezTo>
                <a:cubicBezTo>
                  <a:pt x="816" y="176"/>
                  <a:pt x="840" y="168"/>
                  <a:pt x="840" y="168"/>
                </a:cubicBezTo>
                <a:cubicBezTo>
                  <a:pt x="816" y="152"/>
                  <a:pt x="795" y="129"/>
                  <a:pt x="768" y="120"/>
                </a:cubicBezTo>
                <a:cubicBezTo>
                  <a:pt x="637" y="76"/>
                  <a:pt x="496" y="62"/>
                  <a:pt x="372" y="0"/>
                </a:cubicBezTo>
                <a:cubicBezTo>
                  <a:pt x="340" y="4"/>
                  <a:pt x="307" y="4"/>
                  <a:pt x="276" y="12"/>
                </a:cubicBezTo>
                <a:cubicBezTo>
                  <a:pt x="185" y="37"/>
                  <a:pt x="292" y="37"/>
                  <a:pt x="204" y="48"/>
                </a:cubicBezTo>
                <a:cubicBezTo>
                  <a:pt x="152" y="54"/>
                  <a:pt x="100" y="56"/>
                  <a:pt x="48" y="60"/>
                </a:cubicBezTo>
                <a:cubicBezTo>
                  <a:pt x="103" y="143"/>
                  <a:pt x="87" y="105"/>
                  <a:pt x="108" y="168"/>
                </a:cubicBezTo>
                <a:cubicBezTo>
                  <a:pt x="73" y="221"/>
                  <a:pt x="56" y="209"/>
                  <a:pt x="0" y="228"/>
                </a:cubicBezTo>
                <a:cubicBezTo>
                  <a:pt x="56" y="284"/>
                  <a:pt x="22" y="255"/>
                  <a:pt x="108" y="312"/>
                </a:cubicBezTo>
                <a:cubicBezTo>
                  <a:pt x="120" y="320"/>
                  <a:pt x="144" y="336"/>
                  <a:pt x="144" y="336"/>
                </a:cubicBezTo>
                <a:cubicBezTo>
                  <a:pt x="183" y="395"/>
                  <a:pt x="180" y="406"/>
                  <a:pt x="168" y="48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191120" y="4114800"/>
            <a:ext cx="30456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495680" y="3429000"/>
            <a:ext cx="1333800" cy="762120"/>
          </a:xfrm>
          <a:custGeom>
            <a:avLst/>
            <a:gdLst/>
            <a:ahLst/>
            <a:rect l="l" t="t" r="r" b="b"/>
            <a:pathLst>
              <a:path w="840" h="480">
                <a:moveTo>
                  <a:pt x="168" y="480"/>
                </a:moveTo>
                <a:cubicBezTo>
                  <a:pt x="173" y="461"/>
                  <a:pt x="195" y="366"/>
                  <a:pt x="204" y="360"/>
                </a:cubicBezTo>
                <a:cubicBezTo>
                  <a:pt x="216" y="352"/>
                  <a:pt x="227" y="342"/>
                  <a:pt x="240" y="336"/>
                </a:cubicBezTo>
                <a:cubicBezTo>
                  <a:pt x="263" y="326"/>
                  <a:pt x="312" y="312"/>
                  <a:pt x="312" y="312"/>
                </a:cubicBezTo>
                <a:cubicBezTo>
                  <a:pt x="376" y="317"/>
                  <a:pt x="450" y="300"/>
                  <a:pt x="504" y="336"/>
                </a:cubicBezTo>
                <a:cubicBezTo>
                  <a:pt x="594" y="396"/>
                  <a:pt x="490" y="355"/>
                  <a:pt x="576" y="384"/>
                </a:cubicBezTo>
                <a:cubicBezTo>
                  <a:pt x="597" y="321"/>
                  <a:pt x="631" y="245"/>
                  <a:pt x="696" y="216"/>
                </a:cubicBezTo>
                <a:cubicBezTo>
                  <a:pt x="731" y="201"/>
                  <a:pt x="768" y="192"/>
                  <a:pt x="804" y="180"/>
                </a:cubicBezTo>
                <a:cubicBezTo>
                  <a:pt x="816" y="176"/>
                  <a:pt x="840" y="168"/>
                  <a:pt x="840" y="168"/>
                </a:cubicBezTo>
                <a:cubicBezTo>
                  <a:pt x="816" y="152"/>
                  <a:pt x="795" y="129"/>
                  <a:pt x="768" y="120"/>
                </a:cubicBezTo>
                <a:cubicBezTo>
                  <a:pt x="637" y="76"/>
                  <a:pt x="496" y="62"/>
                  <a:pt x="372" y="0"/>
                </a:cubicBezTo>
                <a:cubicBezTo>
                  <a:pt x="340" y="4"/>
                  <a:pt x="307" y="4"/>
                  <a:pt x="276" y="12"/>
                </a:cubicBezTo>
                <a:cubicBezTo>
                  <a:pt x="185" y="37"/>
                  <a:pt x="292" y="37"/>
                  <a:pt x="204" y="48"/>
                </a:cubicBezTo>
                <a:cubicBezTo>
                  <a:pt x="152" y="54"/>
                  <a:pt x="100" y="56"/>
                  <a:pt x="48" y="60"/>
                </a:cubicBezTo>
                <a:cubicBezTo>
                  <a:pt x="103" y="143"/>
                  <a:pt x="87" y="105"/>
                  <a:pt x="108" y="168"/>
                </a:cubicBezTo>
                <a:cubicBezTo>
                  <a:pt x="73" y="221"/>
                  <a:pt x="56" y="209"/>
                  <a:pt x="0" y="228"/>
                </a:cubicBezTo>
                <a:cubicBezTo>
                  <a:pt x="56" y="284"/>
                  <a:pt x="22" y="255"/>
                  <a:pt x="108" y="312"/>
                </a:cubicBezTo>
                <a:cubicBezTo>
                  <a:pt x="120" y="320"/>
                  <a:pt x="144" y="336"/>
                  <a:pt x="144" y="336"/>
                </a:cubicBezTo>
                <a:cubicBezTo>
                  <a:pt x="183" y="395"/>
                  <a:pt x="180" y="406"/>
                  <a:pt x="168" y="48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029200" y="3581280"/>
            <a:ext cx="30492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800600" y="4267080"/>
            <a:ext cx="1333440" cy="762120"/>
          </a:xfrm>
          <a:custGeom>
            <a:avLst/>
            <a:gdLst/>
            <a:ahLst/>
            <a:rect l="l" t="t" r="r" b="b"/>
            <a:pathLst>
              <a:path w="840" h="480">
                <a:moveTo>
                  <a:pt x="168" y="480"/>
                </a:moveTo>
                <a:cubicBezTo>
                  <a:pt x="173" y="461"/>
                  <a:pt x="195" y="366"/>
                  <a:pt x="204" y="360"/>
                </a:cubicBezTo>
                <a:cubicBezTo>
                  <a:pt x="216" y="352"/>
                  <a:pt x="227" y="342"/>
                  <a:pt x="240" y="336"/>
                </a:cubicBezTo>
                <a:cubicBezTo>
                  <a:pt x="263" y="326"/>
                  <a:pt x="312" y="312"/>
                  <a:pt x="312" y="312"/>
                </a:cubicBezTo>
                <a:cubicBezTo>
                  <a:pt x="376" y="317"/>
                  <a:pt x="450" y="300"/>
                  <a:pt x="504" y="336"/>
                </a:cubicBezTo>
                <a:cubicBezTo>
                  <a:pt x="594" y="396"/>
                  <a:pt x="490" y="355"/>
                  <a:pt x="576" y="384"/>
                </a:cubicBezTo>
                <a:cubicBezTo>
                  <a:pt x="597" y="321"/>
                  <a:pt x="631" y="245"/>
                  <a:pt x="696" y="216"/>
                </a:cubicBezTo>
                <a:cubicBezTo>
                  <a:pt x="731" y="201"/>
                  <a:pt x="768" y="192"/>
                  <a:pt x="804" y="180"/>
                </a:cubicBezTo>
                <a:cubicBezTo>
                  <a:pt x="816" y="176"/>
                  <a:pt x="840" y="168"/>
                  <a:pt x="840" y="168"/>
                </a:cubicBezTo>
                <a:cubicBezTo>
                  <a:pt x="816" y="152"/>
                  <a:pt x="795" y="129"/>
                  <a:pt x="768" y="120"/>
                </a:cubicBezTo>
                <a:cubicBezTo>
                  <a:pt x="637" y="76"/>
                  <a:pt x="496" y="62"/>
                  <a:pt x="372" y="0"/>
                </a:cubicBezTo>
                <a:cubicBezTo>
                  <a:pt x="340" y="4"/>
                  <a:pt x="307" y="4"/>
                  <a:pt x="276" y="12"/>
                </a:cubicBezTo>
                <a:cubicBezTo>
                  <a:pt x="185" y="37"/>
                  <a:pt x="292" y="37"/>
                  <a:pt x="204" y="48"/>
                </a:cubicBezTo>
                <a:cubicBezTo>
                  <a:pt x="152" y="54"/>
                  <a:pt x="100" y="56"/>
                  <a:pt x="48" y="60"/>
                </a:cubicBezTo>
                <a:cubicBezTo>
                  <a:pt x="103" y="143"/>
                  <a:pt x="87" y="105"/>
                  <a:pt x="108" y="168"/>
                </a:cubicBezTo>
                <a:cubicBezTo>
                  <a:pt x="73" y="221"/>
                  <a:pt x="56" y="209"/>
                  <a:pt x="0" y="228"/>
                </a:cubicBezTo>
                <a:cubicBezTo>
                  <a:pt x="56" y="284"/>
                  <a:pt x="22" y="255"/>
                  <a:pt x="108" y="312"/>
                </a:cubicBezTo>
                <a:cubicBezTo>
                  <a:pt x="120" y="320"/>
                  <a:pt x="144" y="336"/>
                  <a:pt x="144" y="336"/>
                </a:cubicBezTo>
                <a:cubicBezTo>
                  <a:pt x="183" y="395"/>
                  <a:pt x="180" y="406"/>
                  <a:pt x="168" y="48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334120" y="4419720"/>
            <a:ext cx="30456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514600" y="342900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V="1">
            <a:off x="3124080" y="5105520"/>
            <a:ext cx="1371600" cy="304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505320" y="57150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Expresión de fu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057400" y="4800600"/>
            <a:ext cx="358920" cy="360360"/>
          </a:xfrm>
          <a:custGeom>
            <a:avLst/>
            <a:gdLst/>
            <a:ahLst/>
            <a:rect l="l" t="t" r="r" b="b"/>
            <a:pathLst>
              <a:path w="226" h="227">
                <a:moveTo>
                  <a:pt x="164" y="145"/>
                </a:moveTo>
                <a:cubicBezTo>
                  <a:pt x="176" y="110"/>
                  <a:pt x="166" y="88"/>
                  <a:pt x="155" y="54"/>
                </a:cubicBezTo>
                <a:cubicBezTo>
                  <a:pt x="146" y="57"/>
                  <a:pt x="132" y="55"/>
                  <a:pt x="127" y="63"/>
                </a:cubicBezTo>
                <a:cubicBezTo>
                  <a:pt x="82" y="130"/>
                  <a:pt x="153" y="97"/>
                  <a:pt x="91" y="118"/>
                </a:cubicBezTo>
                <a:cubicBezTo>
                  <a:pt x="94" y="133"/>
                  <a:pt x="87" y="155"/>
                  <a:pt x="100" y="163"/>
                </a:cubicBezTo>
                <a:cubicBezTo>
                  <a:pt x="109" y="169"/>
                  <a:pt x="122" y="146"/>
                  <a:pt x="118" y="136"/>
                </a:cubicBezTo>
                <a:cubicBezTo>
                  <a:pt x="113" y="124"/>
                  <a:pt x="94" y="124"/>
                  <a:pt x="82" y="118"/>
                </a:cubicBezTo>
                <a:cubicBezTo>
                  <a:pt x="0" y="145"/>
                  <a:pt x="57" y="194"/>
                  <a:pt x="109" y="209"/>
                </a:cubicBezTo>
                <a:cubicBezTo>
                  <a:pt x="124" y="206"/>
                  <a:pt x="146" y="212"/>
                  <a:pt x="155" y="199"/>
                </a:cubicBezTo>
                <a:cubicBezTo>
                  <a:pt x="179" y="167"/>
                  <a:pt x="151" y="98"/>
                  <a:pt x="173" y="163"/>
                </a:cubicBezTo>
                <a:cubicBezTo>
                  <a:pt x="176" y="181"/>
                  <a:pt x="169" y="205"/>
                  <a:pt x="182" y="218"/>
                </a:cubicBezTo>
                <a:cubicBezTo>
                  <a:pt x="191" y="227"/>
                  <a:pt x="214" y="221"/>
                  <a:pt x="218" y="209"/>
                </a:cubicBezTo>
                <a:cubicBezTo>
                  <a:pt x="226" y="183"/>
                  <a:pt x="212" y="154"/>
                  <a:pt x="209" y="127"/>
                </a:cubicBezTo>
                <a:cubicBezTo>
                  <a:pt x="164" y="130"/>
                  <a:pt x="117" y="147"/>
                  <a:pt x="73" y="136"/>
                </a:cubicBezTo>
                <a:cubicBezTo>
                  <a:pt x="58" y="132"/>
                  <a:pt x="98" y="114"/>
                  <a:pt x="100" y="99"/>
                </a:cubicBezTo>
                <a:cubicBezTo>
                  <a:pt x="104" y="66"/>
                  <a:pt x="94" y="33"/>
                  <a:pt x="91" y="0"/>
                </a:cubicBezTo>
                <a:cubicBezTo>
                  <a:pt x="70" y="32"/>
                  <a:pt x="59" y="69"/>
                  <a:pt x="100" y="90"/>
                </a:cubicBezTo>
              </a:path>
            </a:pathLst>
          </a:custGeom>
          <a:noFill/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733920" y="4267080"/>
            <a:ext cx="168120" cy="11772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077920" y="4890960"/>
            <a:ext cx="358920" cy="360360"/>
          </a:xfrm>
          <a:custGeom>
            <a:avLst/>
            <a:gdLst/>
            <a:ahLst/>
            <a:rect l="l" t="t" r="r" b="b"/>
            <a:pathLst>
              <a:path w="226" h="227">
                <a:moveTo>
                  <a:pt x="164" y="145"/>
                </a:moveTo>
                <a:cubicBezTo>
                  <a:pt x="176" y="110"/>
                  <a:pt x="166" y="88"/>
                  <a:pt x="155" y="54"/>
                </a:cubicBezTo>
                <a:cubicBezTo>
                  <a:pt x="146" y="57"/>
                  <a:pt x="132" y="55"/>
                  <a:pt x="127" y="63"/>
                </a:cubicBezTo>
                <a:cubicBezTo>
                  <a:pt x="82" y="130"/>
                  <a:pt x="153" y="97"/>
                  <a:pt x="91" y="118"/>
                </a:cubicBezTo>
                <a:cubicBezTo>
                  <a:pt x="94" y="133"/>
                  <a:pt x="87" y="155"/>
                  <a:pt x="100" y="163"/>
                </a:cubicBezTo>
                <a:cubicBezTo>
                  <a:pt x="109" y="169"/>
                  <a:pt x="122" y="146"/>
                  <a:pt x="118" y="136"/>
                </a:cubicBezTo>
                <a:cubicBezTo>
                  <a:pt x="113" y="124"/>
                  <a:pt x="94" y="124"/>
                  <a:pt x="82" y="118"/>
                </a:cubicBezTo>
                <a:cubicBezTo>
                  <a:pt x="0" y="145"/>
                  <a:pt x="57" y="194"/>
                  <a:pt x="109" y="209"/>
                </a:cubicBezTo>
                <a:cubicBezTo>
                  <a:pt x="124" y="206"/>
                  <a:pt x="146" y="212"/>
                  <a:pt x="155" y="199"/>
                </a:cubicBezTo>
                <a:cubicBezTo>
                  <a:pt x="179" y="167"/>
                  <a:pt x="151" y="98"/>
                  <a:pt x="173" y="163"/>
                </a:cubicBezTo>
                <a:cubicBezTo>
                  <a:pt x="176" y="181"/>
                  <a:pt x="169" y="205"/>
                  <a:pt x="182" y="218"/>
                </a:cubicBezTo>
                <a:cubicBezTo>
                  <a:pt x="191" y="227"/>
                  <a:pt x="214" y="221"/>
                  <a:pt x="218" y="209"/>
                </a:cubicBezTo>
                <a:cubicBezTo>
                  <a:pt x="226" y="183"/>
                  <a:pt x="212" y="154"/>
                  <a:pt x="209" y="127"/>
                </a:cubicBezTo>
                <a:cubicBezTo>
                  <a:pt x="164" y="130"/>
                  <a:pt x="117" y="147"/>
                  <a:pt x="73" y="136"/>
                </a:cubicBezTo>
                <a:cubicBezTo>
                  <a:pt x="58" y="132"/>
                  <a:pt x="98" y="114"/>
                  <a:pt x="100" y="99"/>
                </a:cubicBezTo>
                <a:cubicBezTo>
                  <a:pt x="104" y="66"/>
                  <a:pt x="94" y="33"/>
                  <a:pt x="91" y="0"/>
                </a:cubicBezTo>
                <a:cubicBezTo>
                  <a:pt x="70" y="32"/>
                  <a:pt x="59" y="69"/>
                  <a:pt x="100" y="90"/>
                </a:cubicBezTo>
              </a:path>
            </a:pathLst>
          </a:custGeom>
          <a:noFill/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886200" y="4419720"/>
            <a:ext cx="168120" cy="11736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962520" y="4038480"/>
            <a:ext cx="168120" cy="11772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638680" y="4495680"/>
            <a:ext cx="168480" cy="11772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noFill/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724280" y="3581280"/>
            <a:ext cx="168480" cy="11772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724280" y="3809880"/>
            <a:ext cx="168480" cy="11772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029200" y="4495680"/>
            <a:ext cx="168120" cy="11772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noFill/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486400" y="4648320"/>
            <a:ext cx="168120" cy="11736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noFill/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181480" y="3809880"/>
            <a:ext cx="168480" cy="11772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4419720" y="4343400"/>
            <a:ext cx="228600" cy="7632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724280" y="61722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962520" y="68580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Ensay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895480" y="7315200"/>
            <a:ext cx="396252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ión de ligando a recep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nsporte de moléculas o 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tividad enzim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67560" y="684360"/>
            <a:ext cx="610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dentificación de un gen basándose en su fu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rcRect l="0" t="29953" r="15329" b="40093"/>
          <a:stretch/>
        </p:blipFill>
        <p:spPr>
          <a:xfrm>
            <a:off x="765000" y="6659640"/>
            <a:ext cx="20163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380880" y="38088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ahoma"/>
              </a:rPr>
              <a:t>Selección por expressión fun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209680" y="1143000"/>
            <a:ext cx="303480" cy="149400"/>
          </a:xfrm>
          <a:custGeom>
            <a:avLst/>
            <a:gdLst/>
            <a:ahLst/>
            <a:rect l="l" t="t" r="r" b="b"/>
            <a:pathLst>
              <a:path w="191" h="94">
                <a:moveTo>
                  <a:pt x="0" y="90"/>
                </a:moveTo>
                <a:cubicBezTo>
                  <a:pt x="6" y="81"/>
                  <a:pt x="11" y="71"/>
                  <a:pt x="18" y="63"/>
                </a:cubicBezTo>
                <a:cubicBezTo>
                  <a:pt x="24" y="56"/>
                  <a:pt x="29" y="42"/>
                  <a:pt x="37" y="45"/>
                </a:cubicBezTo>
                <a:cubicBezTo>
                  <a:pt x="46" y="48"/>
                  <a:pt x="43" y="63"/>
                  <a:pt x="46" y="72"/>
                </a:cubicBezTo>
                <a:cubicBezTo>
                  <a:pt x="55" y="69"/>
                  <a:pt x="66" y="70"/>
                  <a:pt x="73" y="63"/>
                </a:cubicBezTo>
                <a:cubicBezTo>
                  <a:pt x="91" y="45"/>
                  <a:pt x="73" y="0"/>
                  <a:pt x="91" y="72"/>
                </a:cubicBezTo>
                <a:cubicBezTo>
                  <a:pt x="164" y="48"/>
                  <a:pt x="78" y="66"/>
                  <a:pt x="127" y="90"/>
                </a:cubicBezTo>
                <a:cubicBezTo>
                  <a:pt x="136" y="94"/>
                  <a:pt x="146" y="84"/>
                  <a:pt x="155" y="81"/>
                </a:cubicBezTo>
                <a:cubicBezTo>
                  <a:pt x="186" y="61"/>
                  <a:pt x="174" y="55"/>
                  <a:pt x="191" y="72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666880" y="1523880"/>
            <a:ext cx="433440" cy="154080"/>
          </a:xfrm>
          <a:custGeom>
            <a:avLst/>
            <a:gdLst/>
            <a:ahLst/>
            <a:rect l="l" t="t" r="r" b="b"/>
            <a:pathLst>
              <a:path w="273" h="97">
                <a:moveTo>
                  <a:pt x="0" y="70"/>
                </a:moveTo>
                <a:cubicBezTo>
                  <a:pt x="45" y="40"/>
                  <a:pt x="35" y="63"/>
                  <a:pt x="82" y="79"/>
                </a:cubicBezTo>
                <a:cubicBezTo>
                  <a:pt x="91" y="76"/>
                  <a:pt x="104" y="78"/>
                  <a:pt x="109" y="70"/>
                </a:cubicBezTo>
                <a:cubicBezTo>
                  <a:pt x="118" y="54"/>
                  <a:pt x="103" y="26"/>
                  <a:pt x="118" y="16"/>
                </a:cubicBezTo>
                <a:cubicBezTo>
                  <a:pt x="129" y="9"/>
                  <a:pt x="126" y="43"/>
                  <a:pt x="136" y="52"/>
                </a:cubicBezTo>
                <a:cubicBezTo>
                  <a:pt x="143" y="59"/>
                  <a:pt x="155" y="58"/>
                  <a:pt x="164" y="61"/>
                </a:cubicBezTo>
                <a:cubicBezTo>
                  <a:pt x="205" y="0"/>
                  <a:pt x="159" y="56"/>
                  <a:pt x="191" y="88"/>
                </a:cubicBezTo>
                <a:cubicBezTo>
                  <a:pt x="200" y="97"/>
                  <a:pt x="215" y="82"/>
                  <a:pt x="227" y="79"/>
                </a:cubicBezTo>
                <a:cubicBezTo>
                  <a:pt x="263" y="69"/>
                  <a:pt x="245" y="65"/>
                  <a:pt x="273" y="7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2666880" y="1295280"/>
            <a:ext cx="615960" cy="16200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276720" y="1219320"/>
            <a:ext cx="484200" cy="13176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6"/>
                </a:moveTo>
                <a:cubicBezTo>
                  <a:pt x="9" y="53"/>
                  <a:pt x="19" y="52"/>
                  <a:pt x="27" y="47"/>
                </a:cubicBezTo>
                <a:cubicBezTo>
                  <a:pt x="35" y="43"/>
                  <a:pt x="38" y="27"/>
                  <a:pt x="46" y="29"/>
                </a:cubicBezTo>
                <a:cubicBezTo>
                  <a:pt x="57" y="32"/>
                  <a:pt x="56" y="49"/>
                  <a:pt x="64" y="56"/>
                </a:cubicBezTo>
                <a:cubicBezTo>
                  <a:pt x="71" y="62"/>
                  <a:pt x="82" y="62"/>
                  <a:pt x="91" y="65"/>
                </a:cubicBezTo>
                <a:cubicBezTo>
                  <a:pt x="113" y="0"/>
                  <a:pt x="81" y="65"/>
                  <a:pt x="127" y="56"/>
                </a:cubicBezTo>
                <a:cubicBezTo>
                  <a:pt x="138" y="54"/>
                  <a:pt x="140" y="38"/>
                  <a:pt x="146" y="29"/>
                </a:cubicBezTo>
                <a:cubicBezTo>
                  <a:pt x="149" y="38"/>
                  <a:pt x="147" y="52"/>
                  <a:pt x="155" y="56"/>
                </a:cubicBezTo>
                <a:cubicBezTo>
                  <a:pt x="163" y="60"/>
                  <a:pt x="173" y="47"/>
                  <a:pt x="182" y="47"/>
                </a:cubicBezTo>
                <a:cubicBezTo>
                  <a:pt x="191" y="47"/>
                  <a:pt x="200" y="54"/>
                  <a:pt x="209" y="56"/>
                </a:cubicBezTo>
                <a:cubicBezTo>
                  <a:pt x="227" y="60"/>
                  <a:pt x="246" y="62"/>
                  <a:pt x="264" y="65"/>
                </a:cubicBezTo>
                <a:cubicBezTo>
                  <a:pt x="305" y="79"/>
                  <a:pt x="291" y="83"/>
                  <a:pt x="291" y="2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V="1">
            <a:off x="3505320" y="1523880"/>
            <a:ext cx="304560" cy="15264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362320" y="1295280"/>
            <a:ext cx="303120" cy="149400"/>
          </a:xfrm>
          <a:custGeom>
            <a:avLst/>
            <a:gdLst/>
            <a:ahLst/>
            <a:rect l="l" t="t" r="r" b="b"/>
            <a:pathLst>
              <a:path w="191" h="94">
                <a:moveTo>
                  <a:pt x="0" y="90"/>
                </a:moveTo>
                <a:cubicBezTo>
                  <a:pt x="6" y="81"/>
                  <a:pt x="11" y="71"/>
                  <a:pt x="18" y="63"/>
                </a:cubicBezTo>
                <a:cubicBezTo>
                  <a:pt x="24" y="56"/>
                  <a:pt x="29" y="42"/>
                  <a:pt x="37" y="45"/>
                </a:cubicBezTo>
                <a:cubicBezTo>
                  <a:pt x="46" y="48"/>
                  <a:pt x="43" y="63"/>
                  <a:pt x="46" y="72"/>
                </a:cubicBezTo>
                <a:cubicBezTo>
                  <a:pt x="55" y="69"/>
                  <a:pt x="66" y="70"/>
                  <a:pt x="73" y="63"/>
                </a:cubicBezTo>
                <a:cubicBezTo>
                  <a:pt x="91" y="45"/>
                  <a:pt x="73" y="0"/>
                  <a:pt x="91" y="72"/>
                </a:cubicBezTo>
                <a:cubicBezTo>
                  <a:pt x="164" y="48"/>
                  <a:pt x="78" y="66"/>
                  <a:pt x="127" y="90"/>
                </a:cubicBezTo>
                <a:cubicBezTo>
                  <a:pt x="136" y="94"/>
                  <a:pt x="146" y="84"/>
                  <a:pt x="155" y="81"/>
                </a:cubicBezTo>
                <a:cubicBezTo>
                  <a:pt x="186" y="61"/>
                  <a:pt x="174" y="55"/>
                  <a:pt x="191" y="72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819520" y="1143000"/>
            <a:ext cx="433440" cy="154080"/>
          </a:xfrm>
          <a:custGeom>
            <a:avLst/>
            <a:gdLst/>
            <a:ahLst/>
            <a:rect l="l" t="t" r="r" b="b"/>
            <a:pathLst>
              <a:path w="273" h="97">
                <a:moveTo>
                  <a:pt x="0" y="70"/>
                </a:moveTo>
                <a:cubicBezTo>
                  <a:pt x="45" y="40"/>
                  <a:pt x="35" y="63"/>
                  <a:pt x="82" y="79"/>
                </a:cubicBezTo>
                <a:cubicBezTo>
                  <a:pt x="91" y="76"/>
                  <a:pt x="104" y="78"/>
                  <a:pt x="109" y="70"/>
                </a:cubicBezTo>
                <a:cubicBezTo>
                  <a:pt x="118" y="54"/>
                  <a:pt x="103" y="26"/>
                  <a:pt x="118" y="16"/>
                </a:cubicBezTo>
                <a:cubicBezTo>
                  <a:pt x="129" y="9"/>
                  <a:pt x="126" y="43"/>
                  <a:pt x="136" y="52"/>
                </a:cubicBezTo>
                <a:cubicBezTo>
                  <a:pt x="143" y="59"/>
                  <a:pt x="155" y="58"/>
                  <a:pt x="164" y="61"/>
                </a:cubicBezTo>
                <a:cubicBezTo>
                  <a:pt x="205" y="0"/>
                  <a:pt x="159" y="56"/>
                  <a:pt x="191" y="88"/>
                </a:cubicBezTo>
                <a:cubicBezTo>
                  <a:pt x="200" y="97"/>
                  <a:pt x="215" y="82"/>
                  <a:pt x="227" y="79"/>
                </a:cubicBezTo>
                <a:cubicBezTo>
                  <a:pt x="263" y="69"/>
                  <a:pt x="245" y="65"/>
                  <a:pt x="273" y="7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200400" y="990720"/>
            <a:ext cx="615960" cy="16164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362320" y="1676520"/>
            <a:ext cx="484200" cy="13176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6"/>
                </a:moveTo>
                <a:cubicBezTo>
                  <a:pt x="9" y="53"/>
                  <a:pt x="19" y="52"/>
                  <a:pt x="27" y="47"/>
                </a:cubicBezTo>
                <a:cubicBezTo>
                  <a:pt x="35" y="43"/>
                  <a:pt x="38" y="27"/>
                  <a:pt x="46" y="29"/>
                </a:cubicBezTo>
                <a:cubicBezTo>
                  <a:pt x="57" y="32"/>
                  <a:pt x="56" y="49"/>
                  <a:pt x="64" y="56"/>
                </a:cubicBezTo>
                <a:cubicBezTo>
                  <a:pt x="71" y="62"/>
                  <a:pt x="82" y="62"/>
                  <a:pt x="91" y="65"/>
                </a:cubicBezTo>
                <a:cubicBezTo>
                  <a:pt x="113" y="0"/>
                  <a:pt x="81" y="65"/>
                  <a:pt x="127" y="56"/>
                </a:cubicBezTo>
                <a:cubicBezTo>
                  <a:pt x="138" y="54"/>
                  <a:pt x="140" y="38"/>
                  <a:pt x="146" y="29"/>
                </a:cubicBezTo>
                <a:cubicBezTo>
                  <a:pt x="149" y="38"/>
                  <a:pt x="147" y="52"/>
                  <a:pt x="155" y="56"/>
                </a:cubicBezTo>
                <a:cubicBezTo>
                  <a:pt x="163" y="60"/>
                  <a:pt x="173" y="47"/>
                  <a:pt x="182" y="47"/>
                </a:cubicBezTo>
                <a:cubicBezTo>
                  <a:pt x="191" y="47"/>
                  <a:pt x="200" y="54"/>
                  <a:pt x="209" y="56"/>
                </a:cubicBezTo>
                <a:cubicBezTo>
                  <a:pt x="227" y="60"/>
                  <a:pt x="246" y="62"/>
                  <a:pt x="264" y="65"/>
                </a:cubicBezTo>
                <a:cubicBezTo>
                  <a:pt x="305" y="79"/>
                  <a:pt x="291" y="83"/>
                  <a:pt x="291" y="2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2895480" y="1675800"/>
            <a:ext cx="304920" cy="15228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962520" y="121932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R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rot="16170000">
            <a:off x="2476080" y="2628360"/>
            <a:ext cx="1676520" cy="381240"/>
          </a:xfrm>
          <a:prstGeom prst="flowChartMagneticDrum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124080" y="1981080"/>
            <a:ext cx="381240" cy="60984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124080" y="2438280"/>
            <a:ext cx="381240" cy="152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124080" y="2666880"/>
            <a:ext cx="381240" cy="1526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3124080" y="3048120"/>
            <a:ext cx="381240" cy="15228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124080" y="2971800"/>
            <a:ext cx="381240" cy="15228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124080" y="3276720"/>
            <a:ext cx="381240" cy="15228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2209680" y="3200400"/>
            <a:ext cx="304920" cy="38088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362320" y="3352680"/>
            <a:ext cx="304560" cy="3812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2514600" y="3505320"/>
            <a:ext cx="304920" cy="38088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666880" y="3657600"/>
            <a:ext cx="304920" cy="38088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2819520" y="3809880"/>
            <a:ext cx="304560" cy="3812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971800" y="3962520"/>
            <a:ext cx="304920" cy="38088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124080" y="4114800"/>
            <a:ext cx="304920" cy="38088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276720" y="4267080"/>
            <a:ext cx="304560" cy="3812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H="1">
            <a:off x="1980720" y="3581280"/>
            <a:ext cx="228600" cy="152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H="1">
            <a:off x="2133360" y="3733920"/>
            <a:ext cx="228600" cy="152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2285640" y="3886200"/>
            <a:ext cx="228600" cy="152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2437920" y="4038480"/>
            <a:ext cx="228600" cy="152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H="1">
            <a:off x="2590560" y="4191120"/>
            <a:ext cx="228600" cy="152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H="1">
            <a:off x="2742840" y="4343400"/>
            <a:ext cx="228600" cy="152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H="1">
            <a:off x="2895120" y="4495680"/>
            <a:ext cx="228600" cy="152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H="1">
            <a:off x="3047760" y="4648320"/>
            <a:ext cx="228600" cy="152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H="1">
            <a:off x="3200040" y="4800600"/>
            <a:ext cx="228600" cy="152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276720" y="3733920"/>
            <a:ext cx="75960" cy="7596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276720" y="3733920"/>
            <a:ext cx="75960" cy="15228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809880" y="24382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Fraccionamiento según tama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3048120" y="1752480"/>
            <a:ext cx="533160" cy="381240"/>
          </a:xfrm>
          <a:custGeom>
            <a:avLst/>
            <a:gdLst>
              <a:gd name="textAreaLeft" fmla="*/ 71280 w 533160"/>
              <a:gd name="textAreaRight" fmla="*/ 461880 w 533160"/>
              <a:gd name="textAreaTop" fmla="*/ 58680 h 381240"/>
              <a:gd name="textAreaBottom" fmla="*/ 28440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671" stAng="-5400000" swAng="-5400000"/>
                <a:lnTo>
                  <a:pt x="0" y="12769"/>
                </a:lnTo>
                <a:arcTo wR="21600" hR="6671" stAng="10800000" swAng="-2468308"/>
                <a:lnTo>
                  <a:pt x="14400" y="21218"/>
                </a:lnTo>
                <a:lnTo>
                  <a:pt x="21600" y="16391"/>
                </a:lnTo>
                <a:lnTo>
                  <a:pt x="14400" y="10800"/>
                </a:lnTo>
                <a:lnTo>
                  <a:pt x="14400" y="12960"/>
                </a:lnTo>
                <a:arcTo wR="21600" hR="6671" stAng="8331692" swAng="1927237"/>
                <a:lnTo>
                  <a:pt x="2388" y="9720"/>
                </a:lnTo>
                <a:arcTo wR="21600" hR="6671" stAng="-10258929" swAng="4858929"/>
                <a:close/>
              </a:path>
              <a:path fill="darkenLess" w="21600" h="21600">
                <a:moveTo>
                  <a:pt x="21600" y="0"/>
                </a:moveTo>
                <a:arcTo wR="21600" hR="6671" stAng="-5400000" swAng="-5400000"/>
                <a:lnTo>
                  <a:pt x="0" y="6671"/>
                </a:lnTo>
                <a:arcTo wR="21600" hR="6671" stAng="10800000" swAng="-541071"/>
                <a:lnTo>
                  <a:pt x="2388" y="9720"/>
                </a:lnTo>
                <a:arcTo wR="21600" hR="6671" stAng="-10258929" swAng="4858929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352680" y="1447920"/>
            <a:ext cx="0" cy="5331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04920" y="3962520"/>
            <a:ext cx="1904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Expresión 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ensayo fun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en cada fra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H="1">
            <a:off x="2058840" y="4495680"/>
            <a:ext cx="1370880" cy="99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67056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670565"/>
              </a:path>
            </a:pathLst>
          </a:custGeom>
          <a:noFill/>
          <a:ln w="572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971800" y="510552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ubpoblación enriquecida en el mRNA de inter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4267080" y="6095880"/>
            <a:ext cx="0" cy="6098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886200" y="6629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cD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267080" y="70102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819520" y="762012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construcción de genote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3276720" y="4419720"/>
            <a:ext cx="304560" cy="228600"/>
          </a:xfrm>
          <a:prstGeom prst="can">
            <a:avLst>
              <a:gd name="adj" fmla="val 34583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429000" y="4419720"/>
            <a:ext cx="304920" cy="38088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429000" y="4572000"/>
            <a:ext cx="304920" cy="228600"/>
          </a:xfrm>
          <a:prstGeom prst="can">
            <a:avLst>
              <a:gd name="adj" fmla="val 34583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flipH="1" flipV="1">
            <a:off x="2590560" y="320040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4419720" y="8380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ahoma"/>
              </a:rPr>
              <a:t>genote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143000" y="5335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219320" y="6094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295280" y="9144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371600" y="9907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438280" y="8380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514600" y="9144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441520" y="96840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514600" y="99072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523880" y="106668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solidFill>
            <a:srgbClr val="00ffff"/>
          </a:solidFill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600200" y="106668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905120" y="6094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981080" y="6858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752480" y="10666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828800" y="11430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438280" y="11430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514600" y="12193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270080" y="533520"/>
            <a:ext cx="88920" cy="14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1219320" y="609480"/>
            <a:ext cx="88920" cy="180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955880" y="1066680"/>
            <a:ext cx="75960" cy="1018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5" y="8"/>
                  <a:pt x="9" y="17"/>
                  <a:pt x="16" y="24"/>
                </a:cubicBezTo>
                <a:cubicBezTo>
                  <a:pt x="23" y="31"/>
                  <a:pt x="34" y="32"/>
                  <a:pt x="40" y="40"/>
                </a:cubicBezTo>
                <a:cubicBezTo>
                  <a:pt x="45" y="47"/>
                  <a:pt x="48" y="64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917720" y="1117440"/>
            <a:ext cx="76320" cy="1018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22" y="22"/>
                  <a:pt x="27" y="43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905120" y="622440"/>
            <a:ext cx="6336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968480" y="67320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514600" y="1320840"/>
            <a:ext cx="12600" cy="38160"/>
          </a:xfrm>
          <a:custGeom>
            <a:avLst/>
            <a:gdLst/>
            <a:ahLst/>
            <a:rect l="l" t="t" r="r" b="b"/>
            <a:pathLst>
              <a:path w="8" h="24">
                <a:moveTo>
                  <a:pt x="0" y="0"/>
                </a:moveTo>
                <a:cubicBezTo>
                  <a:pt x="3" y="8"/>
                  <a:pt x="8" y="24"/>
                  <a:pt x="8" y="24"/>
                </a:cubicBezTo>
                <a:cubicBezTo>
                  <a:pt x="8" y="24"/>
                  <a:pt x="3" y="8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572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2436840" y="1371600"/>
            <a:ext cx="6516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41" y="40"/>
                </a:moveTo>
                <a:cubicBezTo>
                  <a:pt x="0" y="26"/>
                  <a:pt x="26" y="25"/>
                  <a:pt x="1" y="0"/>
                </a:cubicBezTo>
              </a:path>
            </a:pathLst>
          </a:custGeom>
          <a:noFill/>
          <a:ln w="572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581280" y="12193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657600" y="12952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819520" y="8380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895480" y="9144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962520" y="762120"/>
            <a:ext cx="30456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038480" y="838080"/>
            <a:ext cx="15264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965400" y="89208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4038480" y="91440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048120" y="99072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124080" y="99072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429000" y="5335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3505320" y="6094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276720" y="990720"/>
            <a:ext cx="30456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352680" y="1066680"/>
            <a:ext cx="15264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3962520" y="10666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038480" y="11430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708360" y="1219320"/>
            <a:ext cx="88920" cy="14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657600" y="1295280"/>
            <a:ext cx="88920" cy="180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3479760" y="990720"/>
            <a:ext cx="7632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5" y="8"/>
                  <a:pt x="9" y="17"/>
                  <a:pt x="16" y="24"/>
                </a:cubicBezTo>
                <a:cubicBezTo>
                  <a:pt x="23" y="31"/>
                  <a:pt x="34" y="32"/>
                  <a:pt x="40" y="40"/>
                </a:cubicBezTo>
                <a:cubicBezTo>
                  <a:pt x="45" y="47"/>
                  <a:pt x="48" y="64"/>
                  <a:pt x="48" y="64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3441600" y="1041480"/>
            <a:ext cx="7632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22" y="22"/>
                  <a:pt x="27" y="43"/>
                  <a:pt x="48" y="64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429000" y="546120"/>
            <a:ext cx="6336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3492360" y="59688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4038480" y="1244520"/>
            <a:ext cx="12960" cy="38160"/>
          </a:xfrm>
          <a:custGeom>
            <a:avLst/>
            <a:gdLst/>
            <a:ahLst/>
            <a:rect l="l" t="t" r="r" b="b"/>
            <a:pathLst>
              <a:path w="8" h="24">
                <a:moveTo>
                  <a:pt x="0" y="0"/>
                </a:moveTo>
                <a:cubicBezTo>
                  <a:pt x="3" y="8"/>
                  <a:pt x="8" y="24"/>
                  <a:pt x="8" y="24"/>
                </a:cubicBezTo>
                <a:cubicBezTo>
                  <a:pt x="8" y="24"/>
                  <a:pt x="3" y="8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960720" y="1295280"/>
            <a:ext cx="65160" cy="63720"/>
          </a:xfrm>
          <a:custGeom>
            <a:avLst/>
            <a:gdLst/>
            <a:ahLst/>
            <a:rect l="l" t="t" r="r" b="b"/>
            <a:pathLst>
              <a:path w="41" h="40">
                <a:moveTo>
                  <a:pt x="41" y="40"/>
                </a:moveTo>
                <a:cubicBezTo>
                  <a:pt x="0" y="26"/>
                  <a:pt x="26" y="25"/>
                  <a:pt x="1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259092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609480" y="19810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67652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14300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20968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281952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35268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03848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0948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114800" y="2133720"/>
            <a:ext cx="350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Rastreo por expres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819520" y="25146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590920" y="33526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666880" y="34290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362320" y="28954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2438280" y="29718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590920" y="304812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solidFill>
            <a:srgbClr val="00ffff"/>
          </a:solidFill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666880" y="304812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832120" y="283212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908440" y="290844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971800" y="31240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048120" y="32004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666880" y="3352680"/>
            <a:ext cx="139680" cy="3812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666880" y="3429000"/>
            <a:ext cx="88920" cy="14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174840" y="3124080"/>
            <a:ext cx="76320" cy="1018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5" y="8"/>
                  <a:pt x="9" y="17"/>
                  <a:pt x="16" y="24"/>
                </a:cubicBezTo>
                <a:cubicBezTo>
                  <a:pt x="23" y="31"/>
                  <a:pt x="34" y="32"/>
                  <a:pt x="40" y="40"/>
                </a:cubicBezTo>
                <a:cubicBezTo>
                  <a:pt x="45" y="47"/>
                  <a:pt x="48" y="64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137040" y="3174840"/>
            <a:ext cx="75960" cy="1018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22" y="22"/>
                  <a:pt x="27" y="43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832120" y="2844720"/>
            <a:ext cx="6336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895480" y="2895480"/>
            <a:ext cx="76320" cy="6372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048120" y="3581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066680" y="38862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6668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13372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327672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388620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4956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10666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60020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724280" y="39625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Rastreo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133720" y="4495680"/>
            <a:ext cx="0" cy="4572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981080" y="73915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2057400" y="74674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2209680" y="754380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solidFill>
            <a:srgbClr val="00ffff"/>
          </a:solidFill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2286000" y="754380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2590920" y="5029200"/>
            <a:ext cx="3504960" cy="1715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8000"/>
                </a:solidFill>
                <a:uFillTx/>
                <a:latin typeface="Tahoma"/>
              </a:rPr>
              <a:t>Ciclo de rastreo     N° cl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       2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         2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3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            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4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5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              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6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             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2514600" y="72388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Identificación de 1 clon que expresa la función de inter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33520" y="2133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       -     -     -      +      -    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914400" y="4038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      -     +     -        -      -    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2514600" y="472428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Rastreos suces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133720" y="5029200"/>
            <a:ext cx="0" cy="4572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133720" y="5562720"/>
            <a:ext cx="0" cy="4572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133720" y="6172200"/>
            <a:ext cx="0" cy="4572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2133720" y="6705720"/>
            <a:ext cx="0" cy="4572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ibliografía</a:t>
            </a:r>
            <a:br>
              <a:rPr sz="3200"/>
            </a:b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ara esta pa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combinant 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Watson JD, Gilman M, Witkowski JA , Zoller M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3º Edición (200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º Edi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"/>
          <p:cNvSpPr/>
          <p:nvPr/>
        </p:nvSpPr>
        <p:spPr>
          <a:xfrm>
            <a:off x="380880" y="38088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Caracterización Física del DNA clo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33520" y="914400"/>
            <a:ext cx="632448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Mapa de restri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Secuenci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9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Predicción de secuencias regulato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9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Identificación de marco de lectura abier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9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Predición de secuencia polipeptíd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9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Predicción de estructura secunda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9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Análisis de homología (función prob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9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533520" y="419112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Número de copias por g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0" y="510552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Caracterización Funcional del DNA clo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09480" y="5791320"/>
            <a:ext cx="62485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Análisis de regulación transcrip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Análisis del transcrito codifi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Expresión funcional  in vitro e in v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"/>
          <p:cNvSpPr/>
          <p:nvPr/>
        </p:nvSpPr>
        <p:spPr>
          <a:xfrm>
            <a:off x="380880" y="4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úmero de copias del gen por gen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762120" y="3429000"/>
            <a:ext cx="266688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rot="16200000">
            <a:off x="-206280" y="172692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NA genómico fragment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1523880" y="2590920"/>
            <a:ext cx="2819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pias del gen clo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.5  1.0  2.0  5.0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262320" y="20988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914400" y="5410080"/>
            <a:ext cx="380880" cy="0"/>
          </a:xfrm>
          <a:prstGeom prst="line">
            <a:avLst/>
          </a:prstGeom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447920" y="5410080"/>
            <a:ext cx="380880" cy="0"/>
          </a:xfrm>
          <a:prstGeom prst="line">
            <a:avLst/>
          </a:prstGeom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905120" y="5410080"/>
            <a:ext cx="380880" cy="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2362320" y="5410080"/>
            <a:ext cx="380880" cy="0"/>
          </a:xfrm>
          <a:prstGeom prst="line">
            <a:avLst/>
          </a:prstGeom>
          <a:ln w="763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819520" y="541008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343400" y="3809880"/>
            <a:ext cx="1905120" cy="2133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191120" y="60958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° copia estánd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V="1">
            <a:off x="4343400" y="3962160"/>
            <a:ext cx="1828800" cy="1981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5181480" y="4952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648320" y="55627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4419720" y="57150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486400" y="4572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rot="16219800">
            <a:off x="3064320" y="478368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ntensidad rela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"/>
          <p:cNvSpPr/>
          <p:nvPr/>
        </p:nvSpPr>
        <p:spPr>
          <a:xfrm>
            <a:off x="0" y="457200"/>
            <a:ext cx="685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Desnaturació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 Renatu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DNA Genómico   </a:t>
            </a: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   ss DNA </a:t>
            </a: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          ds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fragment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752480" y="914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886200" y="914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419720" y="9907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809880" y="137160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Velocidad de renatu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836640" y="5435640"/>
            <a:ext cx="510552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dc/dt = -kC</a:t>
            </a:r>
            <a:r>
              <a:rPr b="1" lang="en-US" sz="1600" spc="-1" strike="noStrike" baseline="30000">
                <a:solidFill>
                  <a:srgbClr val="3333cc"/>
                </a:solidFill>
                <a:latin typeface="Tahoma"/>
              </a:rPr>
              <a:t>2</a:t>
            </a:r>
            <a:r>
              <a:rPr b="1" lang="en-US" sz="1600" spc="-1" strike="noStrike" baseline="30000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 baseline="30000">
                <a:solidFill>
                  <a:srgbClr val="3333cc"/>
                </a:solidFill>
                <a:latin typeface="Tahoma"/>
              </a:rPr>
              <a:t>           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C:  conc. de DNA desnat. 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             a tiempo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C/Co = 1/kCot +1      Co: conc. de DNA       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             desnat. a tiempo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Cuando el 50% del DNA se ha renatu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C/Co = 0.5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Cot 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Tahoma"/>
              </a:rPr>
              <a:t>0.5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  = k</a:t>
            </a:r>
            <a:r>
              <a:rPr b="1" lang="en-US" sz="1600" spc="-1" strike="noStrike" baseline="30000">
                <a:solidFill>
                  <a:srgbClr val="ff0000"/>
                </a:solidFill>
                <a:latin typeface="Tahoma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3" name="" descr=""/>
          <p:cNvPicPr/>
          <p:nvPr/>
        </p:nvPicPr>
        <p:blipFill>
          <a:blip r:embed="rId1"/>
          <a:stretch/>
        </p:blipFill>
        <p:spPr>
          <a:xfrm>
            <a:off x="1484280" y="2340000"/>
            <a:ext cx="383868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"/>
          <p:cNvSpPr/>
          <p:nvPr/>
        </p:nvSpPr>
        <p:spPr>
          <a:xfrm>
            <a:off x="1052640" y="1936800"/>
            <a:ext cx="2590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871800" y="1936800"/>
            <a:ext cx="259092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281240" y="2089080"/>
            <a:ext cx="1066680" cy="1994040"/>
          </a:xfrm>
          <a:custGeom>
            <a:avLst/>
            <a:gdLst/>
            <a:ahLst/>
            <a:rect l="l" t="t" r="r" b="b"/>
            <a:pathLst>
              <a:path w="816" h="1448">
                <a:moveTo>
                  <a:pt x="0" y="8"/>
                </a:moveTo>
                <a:cubicBezTo>
                  <a:pt x="124" y="4"/>
                  <a:pt x="248" y="0"/>
                  <a:pt x="336" y="200"/>
                </a:cubicBezTo>
                <a:cubicBezTo>
                  <a:pt x="424" y="400"/>
                  <a:pt x="448" y="1000"/>
                  <a:pt x="528" y="1208"/>
                </a:cubicBezTo>
                <a:cubicBezTo>
                  <a:pt x="608" y="1416"/>
                  <a:pt x="768" y="1408"/>
                  <a:pt x="816" y="1448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967040" y="2089080"/>
            <a:ext cx="1066680" cy="1994040"/>
          </a:xfrm>
          <a:custGeom>
            <a:avLst/>
            <a:gdLst/>
            <a:ahLst/>
            <a:rect l="l" t="t" r="r" b="b"/>
            <a:pathLst>
              <a:path w="816" h="1448">
                <a:moveTo>
                  <a:pt x="0" y="8"/>
                </a:moveTo>
                <a:cubicBezTo>
                  <a:pt x="124" y="4"/>
                  <a:pt x="248" y="0"/>
                  <a:pt x="336" y="200"/>
                </a:cubicBezTo>
                <a:cubicBezTo>
                  <a:pt x="424" y="400"/>
                  <a:pt x="448" y="1000"/>
                  <a:pt x="528" y="1208"/>
                </a:cubicBezTo>
                <a:cubicBezTo>
                  <a:pt x="608" y="1416"/>
                  <a:pt x="768" y="1408"/>
                  <a:pt x="816" y="144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2500200" y="2089080"/>
            <a:ext cx="1067040" cy="1994040"/>
          </a:xfrm>
          <a:custGeom>
            <a:avLst/>
            <a:gdLst/>
            <a:ahLst/>
            <a:rect l="l" t="t" r="r" b="b"/>
            <a:pathLst>
              <a:path w="816" h="1448">
                <a:moveTo>
                  <a:pt x="0" y="8"/>
                </a:moveTo>
                <a:cubicBezTo>
                  <a:pt x="124" y="4"/>
                  <a:pt x="248" y="0"/>
                  <a:pt x="336" y="200"/>
                </a:cubicBezTo>
                <a:cubicBezTo>
                  <a:pt x="424" y="400"/>
                  <a:pt x="448" y="1000"/>
                  <a:pt x="528" y="1208"/>
                </a:cubicBezTo>
                <a:cubicBezTo>
                  <a:pt x="608" y="1416"/>
                  <a:pt x="768" y="1408"/>
                  <a:pt x="816" y="1448"/>
                </a:cubicBezTo>
              </a:path>
            </a:pathLst>
          </a:custGeom>
          <a:noFill/>
          <a:ln w="3816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366840" y="1708200"/>
            <a:ext cx="685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/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128600" y="17082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052640" y="140328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amaño de geno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052640" y="29275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1052640" y="414648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4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2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1       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789360" y="421164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2       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       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1281240" y="452772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t (mol seg/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024440" y="452772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t (mol seg/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948120" y="1974960"/>
            <a:ext cx="2514600" cy="2019240"/>
          </a:xfrm>
          <a:custGeom>
            <a:avLst/>
            <a:gdLst/>
            <a:ahLst/>
            <a:rect l="l" t="t" r="r" b="b"/>
            <a:pathLst>
              <a:path w="1392" h="1272">
                <a:moveTo>
                  <a:pt x="0" y="72"/>
                </a:moveTo>
                <a:cubicBezTo>
                  <a:pt x="80" y="36"/>
                  <a:pt x="160" y="0"/>
                  <a:pt x="288" y="72"/>
                </a:cubicBezTo>
                <a:cubicBezTo>
                  <a:pt x="416" y="144"/>
                  <a:pt x="624" y="328"/>
                  <a:pt x="768" y="504"/>
                </a:cubicBezTo>
                <a:cubicBezTo>
                  <a:pt x="912" y="680"/>
                  <a:pt x="1048" y="1000"/>
                  <a:pt x="1152" y="1128"/>
                </a:cubicBezTo>
                <a:cubicBezTo>
                  <a:pt x="1256" y="1256"/>
                  <a:pt x="1352" y="1248"/>
                  <a:pt x="1392" y="1272"/>
                </a:cubicBezTo>
              </a:path>
            </a:pathLst>
          </a:custGeom>
          <a:noFill/>
          <a:ln w="381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871800" y="29275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671400" y="5060880"/>
            <a:ext cx="3124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Genomas si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cada fragmento pres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una vez por geno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657600" y="4932360"/>
            <a:ext cx="32004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Genomas comple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fragmentos muy repeti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fragmentos poco repeti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fragmentos ún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"/>
          <p:cNvSpPr/>
          <p:nvPr/>
        </p:nvSpPr>
        <p:spPr>
          <a:xfrm>
            <a:off x="2571840" y="3546360"/>
            <a:ext cx="247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1752480" y="2971800"/>
            <a:ext cx="259092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905120" y="3124080"/>
            <a:ext cx="2361960" cy="1981440"/>
          </a:xfrm>
          <a:custGeom>
            <a:avLst/>
            <a:gdLst/>
            <a:ahLst/>
            <a:rect l="l" t="t" r="r" b="b"/>
            <a:pathLst>
              <a:path w="816" h="1448">
                <a:moveTo>
                  <a:pt x="0" y="8"/>
                </a:moveTo>
                <a:cubicBezTo>
                  <a:pt x="124" y="4"/>
                  <a:pt x="248" y="0"/>
                  <a:pt x="336" y="200"/>
                </a:cubicBezTo>
                <a:cubicBezTo>
                  <a:pt x="424" y="400"/>
                  <a:pt x="448" y="1000"/>
                  <a:pt x="528" y="1208"/>
                </a:cubicBezTo>
                <a:cubicBezTo>
                  <a:pt x="608" y="1416"/>
                  <a:pt x="768" y="1408"/>
                  <a:pt x="816" y="144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752480" y="4114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962520" y="556272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t (mol seg/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447920" y="518148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2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1   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1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914400" y="2895480"/>
            <a:ext cx="685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/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3124080" y="41148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09480" y="533520"/>
            <a:ext cx="6248520" cy="18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Número de copias de un gen clo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(cinética de hibridac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Marcar el cl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Hibridar con DNA genómico fragmentado y 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desnatu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Deterninar el valor de C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85800" y="6324480"/>
            <a:ext cx="48006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Número de copia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Cot gen ú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Cot del c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2209680" y="58672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Cot del cl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124080" y="5410080"/>
            <a:ext cx="0" cy="3812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33520" y="739152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Tiempo renaturación muy larg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genomas complejos y gran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genes con bajo número de cop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"/>
          <p:cNvSpPr/>
          <p:nvPr/>
        </p:nvSpPr>
        <p:spPr>
          <a:xfrm>
            <a:off x="2362320" y="2057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2060640" y="2411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2362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1905120" y="3352680"/>
            <a:ext cx="761760" cy="1905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905120" y="1295280"/>
            <a:ext cx="576000" cy="35568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2176560" y="1434960"/>
            <a:ext cx="75960" cy="76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2057400" y="1447920"/>
            <a:ext cx="576360" cy="35532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2328840" y="1587600"/>
            <a:ext cx="76320" cy="75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2209680" y="1600200"/>
            <a:ext cx="576360" cy="35568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2481120" y="1739880"/>
            <a:ext cx="76320" cy="76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514600" y="1600200"/>
            <a:ext cx="576360" cy="35568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2057400" y="1676520"/>
            <a:ext cx="576360" cy="35532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438280" y="1295280"/>
            <a:ext cx="576360" cy="35568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2743200" y="1447920"/>
            <a:ext cx="76320" cy="75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743200" y="1752480"/>
            <a:ext cx="76320" cy="76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286000" y="1828800"/>
            <a:ext cx="76320" cy="76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752480" y="33526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60020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1523880" y="4952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0" y="3657600"/>
            <a:ext cx="167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Fraccionamiento segun tama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819520" y="3962520"/>
            <a:ext cx="15238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4343400" y="3352680"/>
            <a:ext cx="762120" cy="19051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209680" y="342900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209680" y="350532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209680" y="358128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2209680" y="365760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209680" y="373392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209680" y="380988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209680" y="388620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209680" y="396252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2209680" y="403848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209680" y="411480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2209680" y="419112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2209680" y="426708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209680" y="434340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209680" y="441972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2209680" y="449568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2209680" y="457200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2209680" y="464832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2209680" y="472428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209680" y="480060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2209680" y="487692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209680" y="495288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209680" y="502920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209680" y="510552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2209680" y="518148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4572000" y="34290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572000" y="35053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572000" y="35812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572000" y="36576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4572000" y="37339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4572000" y="38098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572000" y="38862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572000" y="39625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572000" y="40384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572000" y="41148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4572000" y="41911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4572000" y="42670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572000" y="43434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4572000" y="44197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4572000" y="44956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572000" y="45720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572000" y="46483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4572000" y="47242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4572000" y="48006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4572000" y="48769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572000" y="49528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572000" y="50292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572000" y="51055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572000" y="51814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743200" y="327672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Transferencia a membr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2666880" y="411480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Inmovil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5772240" y="504828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5848200" y="481968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5543640" y="48960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619600" y="4743360"/>
            <a:ext cx="81000" cy="74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6153120" y="48960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5924520" y="504828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5705640" y="4714920"/>
            <a:ext cx="139680" cy="74520"/>
          </a:xfrm>
          <a:custGeom>
            <a:avLst/>
            <a:gdLst/>
            <a:ahLst/>
            <a:rect l="l" t="t" r="r" b="b"/>
            <a:pathLst>
              <a:path w="84" h="30">
                <a:moveTo>
                  <a:pt x="0" y="30"/>
                </a:moveTo>
                <a:cubicBezTo>
                  <a:pt x="24" y="14"/>
                  <a:pt x="54" y="0"/>
                  <a:pt x="84" y="0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5527800" y="4981680"/>
            <a:ext cx="161640" cy="182520"/>
          </a:xfrm>
          <a:custGeom>
            <a:avLst/>
            <a:gdLst/>
            <a:ahLst/>
            <a:rect l="l" t="t" r="r" b="b"/>
            <a:pathLst>
              <a:path w="97" h="120">
                <a:moveTo>
                  <a:pt x="46" y="0"/>
                </a:moveTo>
                <a:cubicBezTo>
                  <a:pt x="44" y="16"/>
                  <a:pt x="49" y="35"/>
                  <a:pt x="40" y="48"/>
                </a:cubicBezTo>
                <a:cubicBezTo>
                  <a:pt x="33" y="58"/>
                  <a:pt x="13" y="51"/>
                  <a:pt x="4" y="60"/>
                </a:cubicBezTo>
                <a:cubicBezTo>
                  <a:pt x="0" y="64"/>
                  <a:pt x="16" y="64"/>
                  <a:pt x="22" y="66"/>
                </a:cubicBezTo>
                <a:cubicBezTo>
                  <a:pt x="40" y="70"/>
                  <a:pt x="58" y="74"/>
                  <a:pt x="76" y="78"/>
                </a:cubicBezTo>
                <a:cubicBezTo>
                  <a:pt x="97" y="110"/>
                  <a:pt x="82" y="105"/>
                  <a:pt x="52" y="120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5819760" y="4762440"/>
            <a:ext cx="200160" cy="93600"/>
          </a:xfrm>
          <a:custGeom>
            <a:avLst/>
            <a:gdLst/>
            <a:ahLst/>
            <a:rect l="l" t="t" r="r" b="b"/>
            <a:pathLst>
              <a:path w="120" h="62">
                <a:moveTo>
                  <a:pt x="120" y="24"/>
                </a:moveTo>
                <a:cubicBezTo>
                  <a:pt x="82" y="49"/>
                  <a:pt x="112" y="19"/>
                  <a:pt x="72" y="6"/>
                </a:cubicBezTo>
                <a:cubicBezTo>
                  <a:pt x="46" y="9"/>
                  <a:pt x="0" y="0"/>
                  <a:pt x="36" y="36"/>
                </a:cubicBezTo>
                <a:cubicBezTo>
                  <a:pt x="62" y="62"/>
                  <a:pt x="60" y="36"/>
                  <a:pt x="6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5715000" y="4952880"/>
            <a:ext cx="149400" cy="92160"/>
          </a:xfrm>
          <a:custGeom>
            <a:avLst/>
            <a:gdLst/>
            <a:ahLst/>
            <a:rect l="l" t="t" r="r" b="b"/>
            <a:pathLst>
              <a:path w="89" h="60">
                <a:moveTo>
                  <a:pt x="84" y="60"/>
                </a:moveTo>
                <a:cubicBezTo>
                  <a:pt x="37" y="44"/>
                  <a:pt x="89" y="16"/>
                  <a:pt x="42" y="0"/>
                </a:cubicBezTo>
                <a:cubicBezTo>
                  <a:pt x="24" y="26"/>
                  <a:pt x="37" y="54"/>
                  <a:pt x="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019920" y="5086440"/>
            <a:ext cx="180720" cy="100080"/>
          </a:xfrm>
          <a:custGeom>
            <a:avLst/>
            <a:gdLst/>
            <a:ahLst/>
            <a:rect l="l" t="t" r="r" b="b"/>
            <a:pathLst>
              <a:path w="108" h="66">
                <a:moveTo>
                  <a:pt x="0" y="0"/>
                </a:moveTo>
                <a:cubicBezTo>
                  <a:pt x="6" y="2"/>
                  <a:pt x="13" y="2"/>
                  <a:pt x="18" y="6"/>
                </a:cubicBezTo>
                <a:cubicBezTo>
                  <a:pt x="31" y="16"/>
                  <a:pt x="39" y="33"/>
                  <a:pt x="54" y="42"/>
                </a:cubicBezTo>
                <a:cubicBezTo>
                  <a:pt x="73" y="53"/>
                  <a:pt x="108" y="37"/>
                  <a:pt x="108" y="66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5962680" y="4886280"/>
            <a:ext cx="200160" cy="88920"/>
          </a:xfrm>
          <a:custGeom>
            <a:avLst/>
            <a:gdLst/>
            <a:ahLst/>
            <a:rect l="l" t="t" r="r" b="b"/>
            <a:pathLst>
              <a:path w="120" h="58">
                <a:moveTo>
                  <a:pt x="120" y="18"/>
                </a:moveTo>
                <a:cubicBezTo>
                  <a:pt x="96" y="26"/>
                  <a:pt x="84" y="36"/>
                  <a:pt x="66" y="54"/>
                </a:cubicBezTo>
                <a:cubicBezTo>
                  <a:pt x="0" y="41"/>
                  <a:pt x="48" y="58"/>
                  <a:pt x="54" y="36"/>
                </a:cubicBezTo>
                <a:cubicBezTo>
                  <a:pt x="57" y="24"/>
                  <a:pt x="48" y="12"/>
                  <a:pt x="48" y="0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4724280" y="5410080"/>
            <a:ext cx="0" cy="12193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H="1">
            <a:off x="4800600" y="5257800"/>
            <a:ext cx="1980720" cy="213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3352680" y="579132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Hibrid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4343400" y="6705720"/>
            <a:ext cx="762120" cy="1904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4572000" y="67816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4572000" y="68580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4572000" y="69343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4572000" y="70102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572000" y="70866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572000" y="71629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4572000" y="7238880"/>
            <a:ext cx="2286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4572000" y="73152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572000" y="73915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572000" y="74674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4572000" y="75438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572000" y="76201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4572000" y="76960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572000" y="77724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572000" y="78487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572000" y="79246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4572000" y="80010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572000" y="80773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572000" y="81532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4572000" y="82296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4572000" y="83059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4572000" y="83818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572000" y="84582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572000" y="85345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304920" y="15228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Detección de los transcritos intracelulares complementarios al DNA clo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7" name="" descr=""/>
          <p:cNvPicPr/>
          <p:nvPr/>
        </p:nvPicPr>
        <p:blipFill>
          <a:blip r:embed="rId1"/>
          <a:stretch/>
        </p:blipFill>
        <p:spPr>
          <a:xfrm>
            <a:off x="285840" y="1981080"/>
            <a:ext cx="62863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"/>
          <p:cNvSpPr/>
          <p:nvPr/>
        </p:nvSpPr>
        <p:spPr>
          <a:xfrm>
            <a:off x="3276720" y="12193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2971800" y="1600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R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276720" y="1905120"/>
            <a:ext cx="0" cy="6858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2819520" y="457200"/>
            <a:ext cx="576000" cy="35568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3090960" y="596880"/>
            <a:ext cx="75960" cy="76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2971800" y="609480"/>
            <a:ext cx="576360" cy="35568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3243240" y="749160"/>
            <a:ext cx="76320" cy="76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124080" y="762120"/>
            <a:ext cx="576360" cy="35532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3395520" y="901800"/>
            <a:ext cx="76320" cy="75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3429000" y="762120"/>
            <a:ext cx="576360" cy="35532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2971800" y="838080"/>
            <a:ext cx="576360" cy="35568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3352680" y="457200"/>
            <a:ext cx="576360" cy="35568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3657600" y="609480"/>
            <a:ext cx="76320" cy="76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3657600" y="914400"/>
            <a:ext cx="76320" cy="76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3200400" y="990720"/>
            <a:ext cx="76320" cy="75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2438280" y="3124080"/>
            <a:ext cx="443160" cy="88920"/>
          </a:xfrm>
          <a:custGeom>
            <a:avLst/>
            <a:gdLst/>
            <a:ahLst/>
            <a:rect l="l" t="t" r="r" b="b"/>
            <a:pathLst>
              <a:path w="291" h="70">
                <a:moveTo>
                  <a:pt x="0" y="14"/>
                </a:moveTo>
                <a:cubicBezTo>
                  <a:pt x="12" y="10"/>
                  <a:pt x="24" y="0"/>
                  <a:pt x="36" y="2"/>
                </a:cubicBezTo>
                <a:cubicBezTo>
                  <a:pt x="129" y="18"/>
                  <a:pt x="18" y="44"/>
                  <a:pt x="108" y="14"/>
                </a:cubicBezTo>
                <a:cubicBezTo>
                  <a:pt x="156" y="18"/>
                  <a:pt x="205" y="17"/>
                  <a:pt x="252" y="26"/>
                </a:cubicBezTo>
                <a:cubicBezTo>
                  <a:pt x="291" y="34"/>
                  <a:pt x="288" y="70"/>
                  <a:pt x="288" y="3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124080" y="3147840"/>
            <a:ext cx="424080" cy="228600"/>
          </a:xfrm>
          <a:custGeom>
            <a:avLst/>
            <a:gdLst/>
            <a:ahLst/>
            <a:rect l="l" t="t" r="r" b="b"/>
            <a:pathLst>
              <a:path w="267" h="78">
                <a:moveTo>
                  <a:pt x="0" y="37"/>
                </a:moveTo>
                <a:cubicBezTo>
                  <a:pt x="25" y="0"/>
                  <a:pt x="34" y="4"/>
                  <a:pt x="48" y="45"/>
                </a:cubicBezTo>
                <a:cubicBezTo>
                  <a:pt x="112" y="24"/>
                  <a:pt x="32" y="45"/>
                  <a:pt x="96" y="45"/>
                </a:cubicBezTo>
                <a:cubicBezTo>
                  <a:pt x="112" y="45"/>
                  <a:pt x="128" y="40"/>
                  <a:pt x="144" y="37"/>
                </a:cubicBezTo>
                <a:cubicBezTo>
                  <a:pt x="160" y="42"/>
                  <a:pt x="176" y="48"/>
                  <a:pt x="192" y="53"/>
                </a:cubicBezTo>
                <a:cubicBezTo>
                  <a:pt x="267" y="78"/>
                  <a:pt x="225" y="7"/>
                  <a:pt x="248" y="53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971800" y="3048120"/>
            <a:ext cx="431640" cy="120600"/>
          </a:xfrm>
          <a:custGeom>
            <a:avLst/>
            <a:gdLst/>
            <a:ahLst/>
            <a:rect l="l" t="t" r="r" b="b"/>
            <a:pathLst>
              <a:path w="272" h="76">
                <a:moveTo>
                  <a:pt x="0" y="9"/>
                </a:moveTo>
                <a:cubicBezTo>
                  <a:pt x="45" y="0"/>
                  <a:pt x="76" y="6"/>
                  <a:pt x="120" y="17"/>
                </a:cubicBezTo>
                <a:cubicBezTo>
                  <a:pt x="141" y="14"/>
                  <a:pt x="163" y="3"/>
                  <a:pt x="184" y="9"/>
                </a:cubicBezTo>
                <a:cubicBezTo>
                  <a:pt x="258" y="29"/>
                  <a:pt x="149" y="76"/>
                  <a:pt x="248" y="17"/>
                </a:cubicBezTo>
                <a:cubicBezTo>
                  <a:pt x="256" y="20"/>
                  <a:pt x="272" y="25"/>
                  <a:pt x="272" y="25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3581280" y="2666880"/>
            <a:ext cx="424080" cy="123840"/>
          </a:xfrm>
          <a:custGeom>
            <a:avLst/>
            <a:gdLst/>
            <a:ahLst/>
            <a:rect l="l" t="t" r="r" b="b"/>
            <a:pathLst>
              <a:path w="267" h="78">
                <a:moveTo>
                  <a:pt x="0" y="37"/>
                </a:moveTo>
                <a:cubicBezTo>
                  <a:pt x="25" y="0"/>
                  <a:pt x="34" y="4"/>
                  <a:pt x="48" y="45"/>
                </a:cubicBezTo>
                <a:cubicBezTo>
                  <a:pt x="112" y="24"/>
                  <a:pt x="32" y="45"/>
                  <a:pt x="96" y="45"/>
                </a:cubicBezTo>
                <a:cubicBezTo>
                  <a:pt x="112" y="45"/>
                  <a:pt x="128" y="40"/>
                  <a:pt x="144" y="37"/>
                </a:cubicBezTo>
                <a:cubicBezTo>
                  <a:pt x="160" y="42"/>
                  <a:pt x="176" y="48"/>
                  <a:pt x="192" y="53"/>
                </a:cubicBezTo>
                <a:cubicBezTo>
                  <a:pt x="267" y="78"/>
                  <a:pt x="225" y="7"/>
                  <a:pt x="248" y="53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3429000" y="2919240"/>
            <a:ext cx="431640" cy="120960"/>
          </a:xfrm>
          <a:custGeom>
            <a:avLst/>
            <a:gdLst/>
            <a:ahLst/>
            <a:rect l="l" t="t" r="r" b="b"/>
            <a:pathLst>
              <a:path w="272" h="76">
                <a:moveTo>
                  <a:pt x="0" y="9"/>
                </a:moveTo>
                <a:cubicBezTo>
                  <a:pt x="45" y="0"/>
                  <a:pt x="76" y="6"/>
                  <a:pt x="120" y="17"/>
                </a:cubicBezTo>
                <a:cubicBezTo>
                  <a:pt x="141" y="14"/>
                  <a:pt x="163" y="3"/>
                  <a:pt x="184" y="9"/>
                </a:cubicBezTo>
                <a:cubicBezTo>
                  <a:pt x="258" y="29"/>
                  <a:pt x="149" y="76"/>
                  <a:pt x="248" y="17"/>
                </a:cubicBezTo>
                <a:cubicBezTo>
                  <a:pt x="256" y="20"/>
                  <a:pt x="272" y="25"/>
                  <a:pt x="272" y="25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2895480" y="2743200"/>
            <a:ext cx="462240" cy="111240"/>
          </a:xfrm>
          <a:custGeom>
            <a:avLst/>
            <a:gdLst/>
            <a:ahLst/>
            <a:rect l="l" t="t" r="r" b="b"/>
            <a:pathLst>
              <a:path w="291" h="70">
                <a:moveTo>
                  <a:pt x="0" y="14"/>
                </a:moveTo>
                <a:cubicBezTo>
                  <a:pt x="12" y="10"/>
                  <a:pt x="24" y="0"/>
                  <a:pt x="36" y="2"/>
                </a:cubicBezTo>
                <a:cubicBezTo>
                  <a:pt x="129" y="18"/>
                  <a:pt x="18" y="44"/>
                  <a:pt x="108" y="14"/>
                </a:cubicBezTo>
                <a:cubicBezTo>
                  <a:pt x="156" y="18"/>
                  <a:pt x="205" y="17"/>
                  <a:pt x="252" y="26"/>
                </a:cubicBezTo>
                <a:cubicBezTo>
                  <a:pt x="291" y="34"/>
                  <a:pt x="288" y="70"/>
                  <a:pt x="288" y="3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2666880" y="3352680"/>
            <a:ext cx="546120" cy="36720"/>
          </a:xfrm>
          <a:custGeom>
            <a:avLst/>
            <a:gdLst/>
            <a:ahLst/>
            <a:rect l="l" t="t" r="r" b="b"/>
            <a:pathLst>
              <a:path w="344" h="23">
                <a:moveTo>
                  <a:pt x="0" y="15"/>
                </a:moveTo>
                <a:cubicBezTo>
                  <a:pt x="40" y="5"/>
                  <a:pt x="73" y="10"/>
                  <a:pt x="112" y="23"/>
                </a:cubicBezTo>
                <a:cubicBezTo>
                  <a:pt x="165" y="14"/>
                  <a:pt x="170" y="0"/>
                  <a:pt x="216" y="23"/>
                </a:cubicBezTo>
                <a:cubicBezTo>
                  <a:pt x="301" y="12"/>
                  <a:pt x="259" y="15"/>
                  <a:pt x="344" y="15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2971800" y="2819520"/>
            <a:ext cx="254160" cy="2520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2514600" y="2895480"/>
            <a:ext cx="25416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2514600" y="3200400"/>
            <a:ext cx="25416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3733920" y="3200400"/>
            <a:ext cx="25380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3276720" y="3505320"/>
            <a:ext cx="0" cy="9144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2666880" y="4495680"/>
            <a:ext cx="25416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2666880" y="4419720"/>
            <a:ext cx="254160" cy="2520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886200" y="1981080"/>
            <a:ext cx="25416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191120" y="1828800"/>
            <a:ext cx="25380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114800" y="2133720"/>
            <a:ext cx="254160" cy="2520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4343400" y="1981080"/>
            <a:ext cx="25416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4952880" y="1600200"/>
            <a:ext cx="16002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NA clo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naturado y mar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H="1">
            <a:off x="3352680" y="2057400"/>
            <a:ext cx="121896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2971800" y="4648320"/>
            <a:ext cx="254160" cy="2520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2971800" y="4572000"/>
            <a:ext cx="25416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3429000" y="4648320"/>
            <a:ext cx="254160" cy="2520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3429000" y="4572000"/>
            <a:ext cx="25416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1447920" y="37339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ucleasa 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3276720" y="4800600"/>
            <a:ext cx="0" cy="9144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2438280" y="5943600"/>
            <a:ext cx="1676520" cy="23623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1295280" y="5105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natu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495680" y="60199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4572000" y="5715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4572000" y="8001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124080" y="7315200"/>
            <a:ext cx="3049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4724280" y="68580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lectrofo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80880" y="3049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peo 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"/>
          <p:cNvSpPr/>
          <p:nvPr/>
        </p:nvSpPr>
        <p:spPr>
          <a:xfrm>
            <a:off x="380880" y="609480"/>
            <a:ext cx="556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omparación del tamaño del DNA clonado y el transcrito respec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2362320" y="1981080"/>
            <a:ext cx="13716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1981080" y="1608120"/>
            <a:ext cx="1791000" cy="347760"/>
          </a:xfrm>
          <a:custGeom>
            <a:avLst/>
            <a:gdLst/>
            <a:ahLst/>
            <a:rect l="l" t="t" r="r" b="b"/>
            <a:pathLst>
              <a:path w="1128" h="219">
                <a:moveTo>
                  <a:pt x="0" y="187"/>
                </a:moveTo>
                <a:cubicBezTo>
                  <a:pt x="235" y="208"/>
                  <a:pt x="468" y="201"/>
                  <a:pt x="704" y="195"/>
                </a:cubicBezTo>
                <a:cubicBezTo>
                  <a:pt x="672" y="174"/>
                  <a:pt x="673" y="160"/>
                  <a:pt x="664" y="123"/>
                </a:cubicBezTo>
                <a:cubicBezTo>
                  <a:pt x="671" y="74"/>
                  <a:pt x="676" y="20"/>
                  <a:pt x="728" y="3"/>
                </a:cubicBezTo>
                <a:cubicBezTo>
                  <a:pt x="744" y="6"/>
                  <a:pt x="764" y="0"/>
                  <a:pt x="776" y="11"/>
                </a:cubicBezTo>
                <a:cubicBezTo>
                  <a:pt x="776" y="11"/>
                  <a:pt x="796" y="71"/>
                  <a:pt x="800" y="83"/>
                </a:cubicBezTo>
                <a:cubicBezTo>
                  <a:pt x="803" y="91"/>
                  <a:pt x="808" y="107"/>
                  <a:pt x="808" y="107"/>
                </a:cubicBezTo>
                <a:cubicBezTo>
                  <a:pt x="797" y="164"/>
                  <a:pt x="789" y="144"/>
                  <a:pt x="760" y="187"/>
                </a:cubicBezTo>
                <a:cubicBezTo>
                  <a:pt x="808" y="219"/>
                  <a:pt x="760" y="196"/>
                  <a:pt x="808" y="195"/>
                </a:cubicBezTo>
                <a:cubicBezTo>
                  <a:pt x="915" y="193"/>
                  <a:pt x="1021" y="195"/>
                  <a:pt x="1128" y="195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2819520" y="16002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 flipH="1">
            <a:off x="3200040" y="1676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 flipV="1">
            <a:off x="4343400" y="1897200"/>
            <a:ext cx="762120" cy="7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5334120" y="1897200"/>
            <a:ext cx="4572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2286000" y="2438280"/>
            <a:ext cx="13716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2286000" y="2514600"/>
            <a:ext cx="13716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572000" y="2514600"/>
            <a:ext cx="13716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2286000" y="3048120"/>
            <a:ext cx="13716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819520" y="2971800"/>
            <a:ext cx="5331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2362320" y="153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228600" y="1676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NA genó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228600" y="22860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DNA comp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228600" y="2819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DNA pa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4495680" y="3048120"/>
            <a:ext cx="5335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2514600" y="2743200"/>
            <a:ext cx="1066680" cy="838080"/>
          </a:xfrm>
          <a:prstGeom prst="ellipse">
            <a:avLst/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 flipH="1">
            <a:off x="2666520" y="3581280"/>
            <a:ext cx="304920" cy="83844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80880" y="46483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Extensión del cDNA clonado a partir del transcrito respec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1219320" y="5638680"/>
            <a:ext cx="350496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5029200" y="54864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m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3733920" y="5791320"/>
            <a:ext cx="6858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3048120" y="58672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57200" y="5943600"/>
            <a:ext cx="2438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Transcriptasa rever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+ dNT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572000" y="57913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ahoma"/>
              </a:rPr>
              <a:t>c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1295280" y="6858000"/>
            <a:ext cx="350532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809880" y="7010280"/>
            <a:ext cx="6858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 flipH="1">
            <a:off x="1447920" y="7010280"/>
            <a:ext cx="2286000" cy="0"/>
          </a:xfrm>
          <a:prstGeom prst="line">
            <a:avLst/>
          </a:prstGeom>
          <a:ln w="5724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1295280" y="8001000"/>
            <a:ext cx="350532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1295280" y="8153280"/>
            <a:ext cx="35053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2971800" y="7162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609480"/>
            <a:ext cx="5791320" cy="74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GENOTE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Conjunto de vectores recombinant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Vecto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+ 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Insertos de DNA forán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DNA genómico (cromosómi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El conjunto de recombinantes representa el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genoma (cromosoma) completo de un individu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DNA codificante y DNA no codific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De cD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El conjunto de recombinantes representa sólo los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genes expresados por un tipo celular o tejido en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determinadas circunstanci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De expre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Los recombinantes pueden expresar la información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genética que portan (productos génic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68580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Genotecas de DNA genómico (cromosómi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547640"/>
            <a:ext cx="6705720" cy="34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19120"/>
                <a:tab algn="l" pos="9097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Insertos</a:t>
            </a:r>
            <a:r>
              <a:rPr b="0" lang="en-US" sz="2000" spc="-1" strike="noStrike">
                <a:solidFill>
                  <a:srgbClr val="009900"/>
                </a:solidFill>
                <a:latin typeface="Tahoma"/>
              </a:rPr>
              <a:t>: fragmentos de DNA genómico (cromosómi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19120"/>
                <a:tab algn="l" pos="9097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19120"/>
                <a:tab algn="l" pos="9097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Generación de fragmentos   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Endomucleasas de restri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19120"/>
                <a:tab algn="l" pos="9097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Mecánica (cizall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19120"/>
                <a:tab algn="l" pos="9097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Son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19120"/>
                <a:tab algn="l" pos="9097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Selección de fragmentos según tamaño (tamices molecular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19120"/>
                <a:tab algn="l" pos="9097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66644" t="0" r="0" b="0"/>
          <a:stretch/>
        </p:blipFill>
        <p:spPr>
          <a:xfrm>
            <a:off x="4149720" y="4500720"/>
            <a:ext cx="2112840" cy="3933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125360" y="5292720"/>
            <a:ext cx="20574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60280" y="6876360"/>
            <a:ext cx="612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babilidad de encontrar un determinado segmento de DNA (una secuencia particular ) en una genoteca que consta de  N recombinantes independientes :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= [ln(1-P)] / [ln(1-1/n)]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= tamaño del genoma /tamaño promedio de los insert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0280" y="4932360"/>
            <a:ext cx="6019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Número de recombinantes necesarios para representar todo el genoma dependerá 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tamaño del genoma en cuest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longitud promedio de los inser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0280" y="611280"/>
            <a:ext cx="6308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Vector</a:t>
            </a:r>
            <a:r>
              <a:rPr b="0" lang="en-US" sz="1800" spc="-1" strike="noStrike">
                <a:solidFill>
                  <a:srgbClr val="009900"/>
                </a:solidFill>
                <a:latin typeface="Tahoma"/>
              </a:rPr>
              <a:t>: acorde al tamaño del inser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Ej.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Vectores lambda 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(Insertos hasta 17 Kp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Cosmidios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(Insertos hasta 45 Kp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Recombinant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6320" y="3559320"/>
            <a:ext cx="990360" cy="99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836546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8365468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47800">
            <a:off x="782640" y="3634920"/>
            <a:ext cx="837720" cy="83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928992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9289926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 rot="10665000">
            <a:off x="785520" y="3552120"/>
            <a:ext cx="7617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056" y="142"/>
                </a:moveTo>
                <a:arcTo wR="10800" hR="10800" stAng="-5957565" swAng="5957565"/>
                <a:lnTo>
                  <a:pt x="10800" y="10800"/>
                </a:lnTo>
                <a:close/>
              </a:path>
              <a:path fill="none" w="21600" h="21600">
                <a:moveTo>
                  <a:pt x="9056" y="142"/>
                </a:moveTo>
                <a:arcTo wR="10800" hR="10800" stAng="-5957565" swAng="5957565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 rot="10269600">
            <a:off x="938880" y="3611880"/>
            <a:ext cx="60912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40240" y="3254400"/>
            <a:ext cx="990360" cy="99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970" y="1140"/>
                </a:moveTo>
                <a:arcTo wR="10800" hR="10800" stAng="-6993904" swAng="19959372"/>
                <a:lnTo>
                  <a:pt x="10800" y="10800"/>
                </a:lnTo>
                <a:close/>
              </a:path>
              <a:path fill="none" w="21600" h="21600">
                <a:moveTo>
                  <a:pt x="5970" y="1140"/>
                </a:moveTo>
                <a:arcTo wR="10800" hR="10800" stAng="-6993904" swAng="19959372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247800">
            <a:off x="4516560" y="3330360"/>
            <a:ext cx="837720" cy="83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221" y="1552"/>
                </a:moveTo>
                <a:arcTo wR="10800" hR="10800" stAng="-7266089" swAng="19969378"/>
                <a:lnTo>
                  <a:pt x="10800" y="10800"/>
                </a:lnTo>
                <a:close/>
              </a:path>
              <a:path fill="none" w="21600" h="21600">
                <a:moveTo>
                  <a:pt x="5221" y="1552"/>
                </a:moveTo>
                <a:arcTo wR="10800" hR="10800" stAng="-7266089" swAng="19969378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 rot="10665000">
            <a:off x="4560840" y="3364560"/>
            <a:ext cx="762840" cy="45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76" y="1612"/>
                </a:moveTo>
                <a:arcTo wR="10800" hR="10800" stAng="-3497495" swAng="2007300"/>
                <a:lnTo>
                  <a:pt x="10800" y="10800"/>
                </a:lnTo>
                <a:close/>
              </a:path>
              <a:path fill="none" w="21600" h="21600">
                <a:moveTo>
                  <a:pt x="16476" y="1612"/>
                </a:moveTo>
                <a:arcTo wR="10800" hR="10800" stAng="-3497495" swAng="2007300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 rot="8311200">
            <a:off x="1905480" y="3290040"/>
            <a:ext cx="614160" cy="16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59" y="97"/>
                </a:moveTo>
                <a:arcTo wR="10800" hR="10800" stAng="-5860120" swAng="1829622"/>
                <a:lnTo>
                  <a:pt x="10800" y="10800"/>
                </a:lnTo>
                <a:close/>
              </a:path>
              <a:path fill="none" w="21600" h="21600">
                <a:moveTo>
                  <a:pt x="9359" y="97"/>
                </a:moveTo>
                <a:arcTo wR="10800" hR="10800" stAng="-5860120" swAng="1829622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 rot="8621400">
            <a:off x="1999800" y="3284640"/>
            <a:ext cx="607320" cy="16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17" y="45"/>
                </a:moveTo>
                <a:arcTo wR="10800" hR="10800" stAng="-5713315" swAng="1923212"/>
                <a:lnTo>
                  <a:pt x="10800" y="10800"/>
                </a:lnTo>
                <a:close/>
              </a:path>
              <a:path fill="none" w="21600" h="21600">
                <a:moveTo>
                  <a:pt x="9817" y="45"/>
                </a:moveTo>
                <a:arcTo wR="10800" hR="10800" stAng="-5713315" swAng="1923212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8621400">
            <a:off x="4215240" y="3197880"/>
            <a:ext cx="842400" cy="15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17" y="45"/>
                </a:moveTo>
                <a:arcTo wR="10800" hR="10800" stAng="-5713315" swAng="1923212"/>
                <a:lnTo>
                  <a:pt x="10800" y="10800"/>
                </a:lnTo>
                <a:close/>
              </a:path>
              <a:path fill="none" w="21600" h="21600">
                <a:moveTo>
                  <a:pt x="9817" y="45"/>
                </a:moveTo>
                <a:arcTo wR="10800" hR="10800" stAng="-5713315" swAng="1923212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03400" y="3179880"/>
            <a:ext cx="990360" cy="99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261" y="2205"/>
                </a:moveTo>
                <a:arcTo wR="10800" hR="10800" stAng="-7635813" swAng="20601281"/>
                <a:lnTo>
                  <a:pt x="10800" y="10800"/>
                </a:lnTo>
                <a:close/>
              </a:path>
              <a:path fill="none" w="21600" h="21600">
                <a:moveTo>
                  <a:pt x="4261" y="2205"/>
                </a:moveTo>
                <a:arcTo wR="10800" hR="10800" stAng="-7635813" swAng="20601281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247800">
            <a:off x="2077920" y="3254040"/>
            <a:ext cx="838080" cy="83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251" y="3076"/>
                </a:moveTo>
                <a:arcTo wR="10800" hR="10800" stAng="-8060544" swAng="20763832"/>
                <a:lnTo>
                  <a:pt x="10800" y="10800"/>
                </a:lnTo>
                <a:close/>
              </a:path>
              <a:path fill="none" w="21600" h="21600">
                <a:moveTo>
                  <a:pt x="3251" y="3076"/>
                </a:moveTo>
                <a:arcTo wR="10800" hR="10800" stAng="-8060544" swAng="20763832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68640" y="3635280"/>
            <a:ext cx="990360" cy="99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836546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8365468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247800">
            <a:off x="3144960" y="3711240"/>
            <a:ext cx="837720" cy="83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928992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9289926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 rot="10665000">
            <a:off x="3147120" y="3628080"/>
            <a:ext cx="7624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056" y="142"/>
                </a:moveTo>
                <a:arcTo wR="10800" hR="10800" stAng="-5957565" swAng="5957565"/>
                <a:lnTo>
                  <a:pt x="10800" y="10800"/>
                </a:lnTo>
                <a:close/>
              </a:path>
              <a:path fill="none" w="21600" h="21600">
                <a:moveTo>
                  <a:pt x="9056" y="142"/>
                </a:moveTo>
                <a:arcTo wR="10800" hR="10800" stAng="-5957565" swAng="5957565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 rot="10269600">
            <a:off x="3301200" y="3688200"/>
            <a:ext cx="60912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76640" y="914400"/>
            <a:ext cx="32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Genotecas de cDNA</a:t>
            </a: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600200"/>
            <a:ext cx="6477120" cy="63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Obtención de los Insertos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Aislar transcritos (RNA con pol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Sintetizar cDNA (partidor oligo dT </a:t>
            </a:r>
            <a:r>
              <a:rPr b="0" lang="en-US" sz="1800" spc="-1" strike="noStrike" baseline="-25000">
                <a:solidFill>
                  <a:srgbClr val="0033cc"/>
                </a:solidFill>
                <a:latin typeface="Tahoma"/>
              </a:rPr>
              <a:t>15-18 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o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hexámeros de secuencia aleat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Preservar la integridad de los R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Síntesis de cDNA compl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Representación de transcritos poco abund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Vecto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Usualmente  plasmidios 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derivados del bacteriófago lamb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(aceptan insertos hasta 10-17 Kpb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Número de recombinantes: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Según número de genes transcripcionalmente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activos en un determinado tipo cel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89000" y="11872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Clonamiento de genes desde una genote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2286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Clon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conjunto de células (individuos), genéticamen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iguales, derivados de un progenitor ú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25909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26668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19810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00200" y="20574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6880" y="19051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3200" y="19810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70120" y="203508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43200" y="205740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213372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213372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1676520"/>
            <a:ext cx="30456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09680" y="1752480"/>
            <a:ext cx="15264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1080" y="21337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57400" y="22096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66880" y="22096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22860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50960" y="2590920"/>
            <a:ext cx="88920" cy="14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2666880"/>
            <a:ext cx="88920" cy="180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84480" y="2133720"/>
            <a:ext cx="7596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5" y="8"/>
                  <a:pt x="9" y="17"/>
                  <a:pt x="16" y="24"/>
                </a:cubicBezTo>
                <a:cubicBezTo>
                  <a:pt x="23" y="31"/>
                  <a:pt x="34" y="32"/>
                  <a:pt x="40" y="40"/>
                </a:cubicBezTo>
                <a:cubicBezTo>
                  <a:pt x="45" y="47"/>
                  <a:pt x="48" y="64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46320" y="2184480"/>
            <a:ext cx="7632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22" y="22"/>
                  <a:pt x="27" y="43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1689120"/>
            <a:ext cx="6336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97080" y="173988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2387520"/>
            <a:ext cx="12600" cy="38160"/>
          </a:xfrm>
          <a:custGeom>
            <a:avLst/>
            <a:gdLst/>
            <a:ahLst/>
            <a:rect l="l" t="t" r="r" b="b"/>
            <a:pathLst>
              <a:path w="8" h="24">
                <a:moveTo>
                  <a:pt x="0" y="0"/>
                </a:moveTo>
                <a:cubicBezTo>
                  <a:pt x="3" y="8"/>
                  <a:pt x="8" y="24"/>
                  <a:pt x="8" y="24"/>
                </a:cubicBezTo>
                <a:cubicBezTo>
                  <a:pt x="8" y="24"/>
                  <a:pt x="3" y="8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65440" y="2438280"/>
            <a:ext cx="65160" cy="63720"/>
          </a:xfrm>
          <a:custGeom>
            <a:avLst/>
            <a:gdLst/>
            <a:ahLst/>
            <a:rect l="l" t="t" r="r" b="b"/>
            <a:pathLst>
              <a:path w="41" h="40">
                <a:moveTo>
                  <a:pt x="41" y="40"/>
                </a:moveTo>
                <a:cubicBezTo>
                  <a:pt x="0" y="26"/>
                  <a:pt x="26" y="25"/>
                  <a:pt x="1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05320" y="17524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10</a:t>
            </a:r>
            <a:r>
              <a:rPr b="0" lang="en-US" sz="1800" spc="-1" strike="noStrike" baseline="30000">
                <a:solidFill>
                  <a:srgbClr val="0033cc"/>
                </a:solidFill>
                <a:latin typeface="Tahoma"/>
              </a:rPr>
              <a:t>5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-10</a:t>
            </a:r>
            <a:r>
              <a:rPr b="0" lang="en-US" sz="1800" spc="-1" strike="noStrike" baseline="30000">
                <a:solidFill>
                  <a:srgbClr val="0033cc"/>
                </a:solidFill>
                <a:latin typeface="Tahoma"/>
              </a:rPr>
              <a:t>6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 recombin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26668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62320" y="281952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Incorporación en células hosped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3657600"/>
            <a:ext cx="1447560" cy="45720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37339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6576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3733920"/>
            <a:ext cx="380880" cy="304560"/>
          </a:xfrm>
          <a:custGeom>
            <a:avLst/>
            <a:gdLst/>
            <a:ahLst/>
            <a:rect l="l" t="t" r="r" b="b"/>
            <a:pathLst>
              <a:path w="374" h="307">
                <a:moveTo>
                  <a:pt x="236" y="72"/>
                </a:moveTo>
                <a:cubicBezTo>
                  <a:pt x="218" y="78"/>
                  <a:pt x="192" y="75"/>
                  <a:pt x="181" y="91"/>
                </a:cubicBezTo>
                <a:cubicBezTo>
                  <a:pt x="159" y="122"/>
                  <a:pt x="118" y="227"/>
                  <a:pt x="145" y="200"/>
                </a:cubicBezTo>
                <a:cubicBezTo>
                  <a:pt x="163" y="182"/>
                  <a:pt x="184" y="165"/>
                  <a:pt x="200" y="145"/>
                </a:cubicBezTo>
                <a:cubicBezTo>
                  <a:pt x="227" y="111"/>
                  <a:pt x="272" y="36"/>
                  <a:pt x="272" y="36"/>
                </a:cubicBezTo>
                <a:cubicBezTo>
                  <a:pt x="282" y="75"/>
                  <a:pt x="329" y="241"/>
                  <a:pt x="309" y="254"/>
                </a:cubicBezTo>
                <a:cubicBezTo>
                  <a:pt x="272" y="278"/>
                  <a:pt x="236" y="145"/>
                  <a:pt x="236" y="145"/>
                </a:cubicBezTo>
                <a:cubicBezTo>
                  <a:pt x="218" y="151"/>
                  <a:pt x="195" y="177"/>
                  <a:pt x="181" y="163"/>
                </a:cubicBezTo>
                <a:cubicBezTo>
                  <a:pt x="168" y="150"/>
                  <a:pt x="216" y="120"/>
                  <a:pt x="200" y="109"/>
                </a:cubicBezTo>
                <a:cubicBezTo>
                  <a:pt x="179" y="95"/>
                  <a:pt x="151" y="121"/>
                  <a:pt x="127" y="127"/>
                </a:cubicBezTo>
                <a:cubicBezTo>
                  <a:pt x="166" y="245"/>
                  <a:pt x="127" y="154"/>
                  <a:pt x="163" y="36"/>
                </a:cubicBezTo>
                <a:cubicBezTo>
                  <a:pt x="168" y="20"/>
                  <a:pt x="188" y="12"/>
                  <a:pt x="200" y="0"/>
                </a:cubicBezTo>
                <a:cubicBezTo>
                  <a:pt x="217" y="52"/>
                  <a:pt x="239" y="87"/>
                  <a:pt x="200" y="145"/>
                </a:cubicBezTo>
                <a:cubicBezTo>
                  <a:pt x="189" y="161"/>
                  <a:pt x="163" y="157"/>
                  <a:pt x="145" y="163"/>
                </a:cubicBezTo>
                <a:cubicBezTo>
                  <a:pt x="145" y="163"/>
                  <a:pt x="171" y="128"/>
                  <a:pt x="181" y="109"/>
                </a:cubicBezTo>
                <a:cubicBezTo>
                  <a:pt x="190" y="92"/>
                  <a:pt x="194" y="72"/>
                  <a:pt x="200" y="54"/>
                </a:cubicBezTo>
                <a:cubicBezTo>
                  <a:pt x="270" y="126"/>
                  <a:pt x="218" y="51"/>
                  <a:pt x="218" y="145"/>
                </a:cubicBezTo>
                <a:cubicBezTo>
                  <a:pt x="218" y="164"/>
                  <a:pt x="230" y="182"/>
                  <a:pt x="236" y="200"/>
                </a:cubicBezTo>
                <a:cubicBezTo>
                  <a:pt x="253" y="130"/>
                  <a:pt x="258" y="86"/>
                  <a:pt x="309" y="36"/>
                </a:cubicBezTo>
                <a:cubicBezTo>
                  <a:pt x="315" y="54"/>
                  <a:pt x="338" y="75"/>
                  <a:pt x="327" y="91"/>
                </a:cubicBezTo>
                <a:cubicBezTo>
                  <a:pt x="302" y="126"/>
                  <a:pt x="218" y="163"/>
                  <a:pt x="218" y="163"/>
                </a:cubicBezTo>
                <a:cubicBezTo>
                  <a:pt x="224" y="201"/>
                  <a:pt x="209" y="307"/>
                  <a:pt x="291" y="291"/>
                </a:cubicBezTo>
                <a:cubicBezTo>
                  <a:pt x="308" y="288"/>
                  <a:pt x="315" y="266"/>
                  <a:pt x="327" y="254"/>
                </a:cubicBezTo>
                <a:cubicBezTo>
                  <a:pt x="334" y="232"/>
                  <a:pt x="374" y="145"/>
                  <a:pt x="327" y="127"/>
                </a:cubicBezTo>
                <a:cubicBezTo>
                  <a:pt x="287" y="112"/>
                  <a:pt x="242" y="139"/>
                  <a:pt x="200" y="145"/>
                </a:cubicBezTo>
                <a:cubicBezTo>
                  <a:pt x="185" y="187"/>
                  <a:pt x="184" y="227"/>
                  <a:pt x="127" y="236"/>
                </a:cubicBezTo>
                <a:cubicBezTo>
                  <a:pt x="108" y="239"/>
                  <a:pt x="90" y="224"/>
                  <a:pt x="72" y="218"/>
                </a:cubicBezTo>
                <a:cubicBezTo>
                  <a:pt x="66" y="200"/>
                  <a:pt x="45" y="180"/>
                  <a:pt x="54" y="163"/>
                </a:cubicBezTo>
                <a:cubicBezTo>
                  <a:pt x="74" y="123"/>
                  <a:pt x="165" y="159"/>
                  <a:pt x="181" y="163"/>
                </a:cubicBezTo>
                <a:cubicBezTo>
                  <a:pt x="169" y="145"/>
                  <a:pt x="155" y="128"/>
                  <a:pt x="145" y="109"/>
                </a:cubicBezTo>
                <a:cubicBezTo>
                  <a:pt x="136" y="92"/>
                  <a:pt x="146" y="59"/>
                  <a:pt x="127" y="54"/>
                </a:cubicBezTo>
                <a:cubicBezTo>
                  <a:pt x="86" y="43"/>
                  <a:pt x="0" y="72"/>
                  <a:pt x="0" y="72"/>
                </a:cubicBezTo>
              </a:path>
            </a:pathLst>
          </a:custGeom>
          <a:noFill/>
          <a:ln w="93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38098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3733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20440800">
            <a:off x="2285640" y="3580920"/>
            <a:ext cx="1447920" cy="45720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3733920"/>
            <a:ext cx="30456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19520" y="3809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3581280"/>
            <a:ext cx="381240" cy="304920"/>
          </a:xfrm>
          <a:custGeom>
            <a:avLst/>
            <a:gdLst/>
            <a:ahLst/>
            <a:rect l="l" t="t" r="r" b="b"/>
            <a:pathLst>
              <a:path w="374" h="307">
                <a:moveTo>
                  <a:pt x="236" y="72"/>
                </a:moveTo>
                <a:cubicBezTo>
                  <a:pt x="218" y="78"/>
                  <a:pt x="192" y="75"/>
                  <a:pt x="181" y="91"/>
                </a:cubicBezTo>
                <a:cubicBezTo>
                  <a:pt x="159" y="122"/>
                  <a:pt x="118" y="227"/>
                  <a:pt x="145" y="200"/>
                </a:cubicBezTo>
                <a:cubicBezTo>
                  <a:pt x="163" y="182"/>
                  <a:pt x="184" y="165"/>
                  <a:pt x="200" y="145"/>
                </a:cubicBezTo>
                <a:cubicBezTo>
                  <a:pt x="227" y="111"/>
                  <a:pt x="272" y="36"/>
                  <a:pt x="272" y="36"/>
                </a:cubicBezTo>
                <a:cubicBezTo>
                  <a:pt x="282" y="75"/>
                  <a:pt x="329" y="241"/>
                  <a:pt x="309" y="254"/>
                </a:cubicBezTo>
                <a:cubicBezTo>
                  <a:pt x="272" y="278"/>
                  <a:pt x="236" y="145"/>
                  <a:pt x="236" y="145"/>
                </a:cubicBezTo>
                <a:cubicBezTo>
                  <a:pt x="218" y="151"/>
                  <a:pt x="195" y="177"/>
                  <a:pt x="181" y="163"/>
                </a:cubicBezTo>
                <a:cubicBezTo>
                  <a:pt x="168" y="150"/>
                  <a:pt x="216" y="120"/>
                  <a:pt x="200" y="109"/>
                </a:cubicBezTo>
                <a:cubicBezTo>
                  <a:pt x="179" y="95"/>
                  <a:pt x="151" y="121"/>
                  <a:pt x="127" y="127"/>
                </a:cubicBezTo>
                <a:cubicBezTo>
                  <a:pt x="166" y="245"/>
                  <a:pt x="127" y="154"/>
                  <a:pt x="163" y="36"/>
                </a:cubicBezTo>
                <a:cubicBezTo>
                  <a:pt x="168" y="20"/>
                  <a:pt x="188" y="12"/>
                  <a:pt x="200" y="0"/>
                </a:cubicBezTo>
                <a:cubicBezTo>
                  <a:pt x="217" y="52"/>
                  <a:pt x="239" y="87"/>
                  <a:pt x="200" y="145"/>
                </a:cubicBezTo>
                <a:cubicBezTo>
                  <a:pt x="189" y="161"/>
                  <a:pt x="163" y="157"/>
                  <a:pt x="145" y="163"/>
                </a:cubicBezTo>
                <a:cubicBezTo>
                  <a:pt x="145" y="163"/>
                  <a:pt x="171" y="128"/>
                  <a:pt x="181" y="109"/>
                </a:cubicBezTo>
                <a:cubicBezTo>
                  <a:pt x="190" y="92"/>
                  <a:pt x="194" y="72"/>
                  <a:pt x="200" y="54"/>
                </a:cubicBezTo>
                <a:cubicBezTo>
                  <a:pt x="270" y="126"/>
                  <a:pt x="218" y="51"/>
                  <a:pt x="218" y="145"/>
                </a:cubicBezTo>
                <a:cubicBezTo>
                  <a:pt x="218" y="164"/>
                  <a:pt x="230" y="182"/>
                  <a:pt x="236" y="200"/>
                </a:cubicBezTo>
                <a:cubicBezTo>
                  <a:pt x="253" y="130"/>
                  <a:pt x="258" y="86"/>
                  <a:pt x="309" y="36"/>
                </a:cubicBezTo>
                <a:cubicBezTo>
                  <a:pt x="315" y="54"/>
                  <a:pt x="338" y="75"/>
                  <a:pt x="327" y="91"/>
                </a:cubicBezTo>
                <a:cubicBezTo>
                  <a:pt x="302" y="126"/>
                  <a:pt x="218" y="163"/>
                  <a:pt x="218" y="163"/>
                </a:cubicBezTo>
                <a:cubicBezTo>
                  <a:pt x="224" y="201"/>
                  <a:pt x="209" y="307"/>
                  <a:pt x="291" y="291"/>
                </a:cubicBezTo>
                <a:cubicBezTo>
                  <a:pt x="308" y="288"/>
                  <a:pt x="315" y="266"/>
                  <a:pt x="327" y="254"/>
                </a:cubicBezTo>
                <a:cubicBezTo>
                  <a:pt x="334" y="232"/>
                  <a:pt x="374" y="145"/>
                  <a:pt x="327" y="127"/>
                </a:cubicBezTo>
                <a:cubicBezTo>
                  <a:pt x="287" y="112"/>
                  <a:pt x="242" y="139"/>
                  <a:pt x="200" y="145"/>
                </a:cubicBezTo>
                <a:cubicBezTo>
                  <a:pt x="185" y="187"/>
                  <a:pt x="184" y="227"/>
                  <a:pt x="127" y="236"/>
                </a:cubicBezTo>
                <a:cubicBezTo>
                  <a:pt x="108" y="239"/>
                  <a:pt x="90" y="224"/>
                  <a:pt x="72" y="218"/>
                </a:cubicBezTo>
                <a:cubicBezTo>
                  <a:pt x="66" y="200"/>
                  <a:pt x="45" y="180"/>
                  <a:pt x="54" y="163"/>
                </a:cubicBezTo>
                <a:cubicBezTo>
                  <a:pt x="74" y="123"/>
                  <a:pt x="165" y="159"/>
                  <a:pt x="181" y="163"/>
                </a:cubicBezTo>
                <a:cubicBezTo>
                  <a:pt x="169" y="145"/>
                  <a:pt x="155" y="128"/>
                  <a:pt x="145" y="109"/>
                </a:cubicBezTo>
                <a:cubicBezTo>
                  <a:pt x="136" y="92"/>
                  <a:pt x="146" y="59"/>
                  <a:pt x="127" y="54"/>
                </a:cubicBezTo>
                <a:cubicBezTo>
                  <a:pt x="86" y="43"/>
                  <a:pt x="0" y="72"/>
                  <a:pt x="0" y="72"/>
                </a:cubicBezTo>
              </a:path>
            </a:pathLst>
          </a:custGeom>
          <a:noFill/>
          <a:ln w="93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3809880"/>
            <a:ext cx="15264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38862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20944800">
            <a:off x="1066320" y="4343040"/>
            <a:ext cx="1447920" cy="45720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949000">
            <a:off x="1371600" y="441936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20949000">
            <a:off x="1599840" y="44197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20950800">
            <a:off x="1980720" y="4419720"/>
            <a:ext cx="381240" cy="304560"/>
          </a:xfrm>
          <a:custGeom>
            <a:avLst/>
            <a:gdLst/>
            <a:ahLst/>
            <a:rect l="l" t="t" r="r" b="b"/>
            <a:pathLst>
              <a:path w="374" h="307">
                <a:moveTo>
                  <a:pt x="236" y="72"/>
                </a:moveTo>
                <a:cubicBezTo>
                  <a:pt x="218" y="78"/>
                  <a:pt x="192" y="75"/>
                  <a:pt x="181" y="91"/>
                </a:cubicBezTo>
                <a:cubicBezTo>
                  <a:pt x="159" y="122"/>
                  <a:pt x="118" y="227"/>
                  <a:pt x="145" y="200"/>
                </a:cubicBezTo>
                <a:cubicBezTo>
                  <a:pt x="163" y="182"/>
                  <a:pt x="184" y="165"/>
                  <a:pt x="200" y="145"/>
                </a:cubicBezTo>
                <a:cubicBezTo>
                  <a:pt x="227" y="111"/>
                  <a:pt x="272" y="36"/>
                  <a:pt x="272" y="36"/>
                </a:cubicBezTo>
                <a:cubicBezTo>
                  <a:pt x="282" y="75"/>
                  <a:pt x="329" y="241"/>
                  <a:pt x="309" y="254"/>
                </a:cubicBezTo>
                <a:cubicBezTo>
                  <a:pt x="272" y="278"/>
                  <a:pt x="236" y="145"/>
                  <a:pt x="236" y="145"/>
                </a:cubicBezTo>
                <a:cubicBezTo>
                  <a:pt x="218" y="151"/>
                  <a:pt x="195" y="177"/>
                  <a:pt x="181" y="163"/>
                </a:cubicBezTo>
                <a:cubicBezTo>
                  <a:pt x="168" y="150"/>
                  <a:pt x="216" y="120"/>
                  <a:pt x="200" y="109"/>
                </a:cubicBezTo>
                <a:cubicBezTo>
                  <a:pt x="179" y="95"/>
                  <a:pt x="151" y="121"/>
                  <a:pt x="127" y="127"/>
                </a:cubicBezTo>
                <a:cubicBezTo>
                  <a:pt x="166" y="245"/>
                  <a:pt x="127" y="154"/>
                  <a:pt x="163" y="36"/>
                </a:cubicBezTo>
                <a:cubicBezTo>
                  <a:pt x="168" y="20"/>
                  <a:pt x="188" y="12"/>
                  <a:pt x="200" y="0"/>
                </a:cubicBezTo>
                <a:cubicBezTo>
                  <a:pt x="217" y="52"/>
                  <a:pt x="239" y="87"/>
                  <a:pt x="200" y="145"/>
                </a:cubicBezTo>
                <a:cubicBezTo>
                  <a:pt x="189" y="161"/>
                  <a:pt x="163" y="157"/>
                  <a:pt x="145" y="163"/>
                </a:cubicBezTo>
                <a:cubicBezTo>
                  <a:pt x="145" y="163"/>
                  <a:pt x="171" y="128"/>
                  <a:pt x="181" y="109"/>
                </a:cubicBezTo>
                <a:cubicBezTo>
                  <a:pt x="190" y="92"/>
                  <a:pt x="194" y="72"/>
                  <a:pt x="200" y="54"/>
                </a:cubicBezTo>
                <a:cubicBezTo>
                  <a:pt x="270" y="126"/>
                  <a:pt x="218" y="51"/>
                  <a:pt x="218" y="145"/>
                </a:cubicBezTo>
                <a:cubicBezTo>
                  <a:pt x="218" y="164"/>
                  <a:pt x="230" y="182"/>
                  <a:pt x="236" y="200"/>
                </a:cubicBezTo>
                <a:cubicBezTo>
                  <a:pt x="253" y="130"/>
                  <a:pt x="258" y="86"/>
                  <a:pt x="309" y="36"/>
                </a:cubicBezTo>
                <a:cubicBezTo>
                  <a:pt x="315" y="54"/>
                  <a:pt x="338" y="75"/>
                  <a:pt x="327" y="91"/>
                </a:cubicBezTo>
                <a:cubicBezTo>
                  <a:pt x="302" y="126"/>
                  <a:pt x="218" y="163"/>
                  <a:pt x="218" y="163"/>
                </a:cubicBezTo>
                <a:cubicBezTo>
                  <a:pt x="224" y="201"/>
                  <a:pt x="209" y="307"/>
                  <a:pt x="291" y="291"/>
                </a:cubicBezTo>
                <a:cubicBezTo>
                  <a:pt x="308" y="288"/>
                  <a:pt x="315" y="266"/>
                  <a:pt x="327" y="254"/>
                </a:cubicBezTo>
                <a:cubicBezTo>
                  <a:pt x="334" y="232"/>
                  <a:pt x="374" y="145"/>
                  <a:pt x="327" y="127"/>
                </a:cubicBezTo>
                <a:cubicBezTo>
                  <a:pt x="287" y="112"/>
                  <a:pt x="242" y="139"/>
                  <a:pt x="200" y="145"/>
                </a:cubicBezTo>
                <a:cubicBezTo>
                  <a:pt x="185" y="187"/>
                  <a:pt x="184" y="227"/>
                  <a:pt x="127" y="236"/>
                </a:cubicBezTo>
                <a:cubicBezTo>
                  <a:pt x="108" y="239"/>
                  <a:pt x="90" y="224"/>
                  <a:pt x="72" y="218"/>
                </a:cubicBezTo>
                <a:cubicBezTo>
                  <a:pt x="66" y="200"/>
                  <a:pt x="45" y="180"/>
                  <a:pt x="54" y="163"/>
                </a:cubicBezTo>
                <a:cubicBezTo>
                  <a:pt x="74" y="123"/>
                  <a:pt x="165" y="159"/>
                  <a:pt x="181" y="163"/>
                </a:cubicBezTo>
                <a:cubicBezTo>
                  <a:pt x="169" y="145"/>
                  <a:pt x="155" y="128"/>
                  <a:pt x="145" y="109"/>
                </a:cubicBezTo>
                <a:cubicBezTo>
                  <a:pt x="136" y="92"/>
                  <a:pt x="146" y="59"/>
                  <a:pt x="127" y="54"/>
                </a:cubicBezTo>
                <a:cubicBezTo>
                  <a:pt x="86" y="43"/>
                  <a:pt x="0" y="72"/>
                  <a:pt x="0" y="72"/>
                </a:cubicBezTo>
              </a:path>
            </a:pathLst>
          </a:custGeom>
          <a:noFill/>
          <a:ln w="93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20949000">
            <a:off x="1447920" y="44956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20949000">
            <a:off x="1600200" y="4495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651600">
            <a:off x="2971800" y="4266720"/>
            <a:ext cx="1447920" cy="45720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650400">
            <a:off x="3276360" y="434304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650400">
            <a:off x="3200400" y="44197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666000">
            <a:off x="3885840" y="4343040"/>
            <a:ext cx="380880" cy="304920"/>
          </a:xfrm>
          <a:custGeom>
            <a:avLst/>
            <a:gdLst/>
            <a:ahLst/>
            <a:rect l="l" t="t" r="r" b="b"/>
            <a:pathLst>
              <a:path w="374" h="307">
                <a:moveTo>
                  <a:pt x="236" y="72"/>
                </a:moveTo>
                <a:cubicBezTo>
                  <a:pt x="218" y="78"/>
                  <a:pt x="192" y="75"/>
                  <a:pt x="181" y="91"/>
                </a:cubicBezTo>
                <a:cubicBezTo>
                  <a:pt x="159" y="122"/>
                  <a:pt x="118" y="227"/>
                  <a:pt x="145" y="200"/>
                </a:cubicBezTo>
                <a:cubicBezTo>
                  <a:pt x="163" y="182"/>
                  <a:pt x="184" y="165"/>
                  <a:pt x="200" y="145"/>
                </a:cubicBezTo>
                <a:cubicBezTo>
                  <a:pt x="227" y="111"/>
                  <a:pt x="272" y="36"/>
                  <a:pt x="272" y="36"/>
                </a:cubicBezTo>
                <a:cubicBezTo>
                  <a:pt x="282" y="75"/>
                  <a:pt x="329" y="241"/>
                  <a:pt x="309" y="254"/>
                </a:cubicBezTo>
                <a:cubicBezTo>
                  <a:pt x="272" y="278"/>
                  <a:pt x="236" y="145"/>
                  <a:pt x="236" y="145"/>
                </a:cubicBezTo>
                <a:cubicBezTo>
                  <a:pt x="218" y="151"/>
                  <a:pt x="195" y="177"/>
                  <a:pt x="181" y="163"/>
                </a:cubicBezTo>
                <a:cubicBezTo>
                  <a:pt x="168" y="150"/>
                  <a:pt x="216" y="120"/>
                  <a:pt x="200" y="109"/>
                </a:cubicBezTo>
                <a:cubicBezTo>
                  <a:pt x="179" y="95"/>
                  <a:pt x="151" y="121"/>
                  <a:pt x="127" y="127"/>
                </a:cubicBezTo>
                <a:cubicBezTo>
                  <a:pt x="166" y="245"/>
                  <a:pt x="127" y="154"/>
                  <a:pt x="163" y="36"/>
                </a:cubicBezTo>
                <a:cubicBezTo>
                  <a:pt x="168" y="20"/>
                  <a:pt x="188" y="12"/>
                  <a:pt x="200" y="0"/>
                </a:cubicBezTo>
                <a:cubicBezTo>
                  <a:pt x="217" y="52"/>
                  <a:pt x="239" y="87"/>
                  <a:pt x="200" y="145"/>
                </a:cubicBezTo>
                <a:cubicBezTo>
                  <a:pt x="189" y="161"/>
                  <a:pt x="163" y="157"/>
                  <a:pt x="145" y="163"/>
                </a:cubicBezTo>
                <a:cubicBezTo>
                  <a:pt x="145" y="163"/>
                  <a:pt x="171" y="128"/>
                  <a:pt x="181" y="109"/>
                </a:cubicBezTo>
                <a:cubicBezTo>
                  <a:pt x="190" y="92"/>
                  <a:pt x="194" y="72"/>
                  <a:pt x="200" y="54"/>
                </a:cubicBezTo>
                <a:cubicBezTo>
                  <a:pt x="270" y="126"/>
                  <a:pt x="218" y="51"/>
                  <a:pt x="218" y="145"/>
                </a:cubicBezTo>
                <a:cubicBezTo>
                  <a:pt x="218" y="164"/>
                  <a:pt x="230" y="182"/>
                  <a:pt x="236" y="200"/>
                </a:cubicBezTo>
                <a:cubicBezTo>
                  <a:pt x="253" y="130"/>
                  <a:pt x="258" y="86"/>
                  <a:pt x="309" y="36"/>
                </a:cubicBezTo>
                <a:cubicBezTo>
                  <a:pt x="315" y="54"/>
                  <a:pt x="338" y="75"/>
                  <a:pt x="327" y="91"/>
                </a:cubicBezTo>
                <a:cubicBezTo>
                  <a:pt x="302" y="126"/>
                  <a:pt x="218" y="163"/>
                  <a:pt x="218" y="163"/>
                </a:cubicBezTo>
                <a:cubicBezTo>
                  <a:pt x="224" y="201"/>
                  <a:pt x="209" y="307"/>
                  <a:pt x="291" y="291"/>
                </a:cubicBezTo>
                <a:cubicBezTo>
                  <a:pt x="308" y="288"/>
                  <a:pt x="315" y="266"/>
                  <a:pt x="327" y="254"/>
                </a:cubicBezTo>
                <a:cubicBezTo>
                  <a:pt x="334" y="232"/>
                  <a:pt x="374" y="145"/>
                  <a:pt x="327" y="127"/>
                </a:cubicBezTo>
                <a:cubicBezTo>
                  <a:pt x="287" y="112"/>
                  <a:pt x="242" y="139"/>
                  <a:pt x="200" y="145"/>
                </a:cubicBezTo>
                <a:cubicBezTo>
                  <a:pt x="185" y="187"/>
                  <a:pt x="184" y="227"/>
                  <a:pt x="127" y="236"/>
                </a:cubicBezTo>
                <a:cubicBezTo>
                  <a:pt x="108" y="239"/>
                  <a:pt x="90" y="224"/>
                  <a:pt x="72" y="218"/>
                </a:cubicBezTo>
                <a:cubicBezTo>
                  <a:pt x="66" y="200"/>
                  <a:pt x="45" y="180"/>
                  <a:pt x="54" y="163"/>
                </a:cubicBezTo>
                <a:cubicBezTo>
                  <a:pt x="74" y="123"/>
                  <a:pt x="165" y="159"/>
                  <a:pt x="181" y="163"/>
                </a:cubicBezTo>
                <a:cubicBezTo>
                  <a:pt x="169" y="145"/>
                  <a:pt x="155" y="128"/>
                  <a:pt x="145" y="109"/>
                </a:cubicBezTo>
                <a:cubicBezTo>
                  <a:pt x="136" y="92"/>
                  <a:pt x="146" y="59"/>
                  <a:pt x="127" y="54"/>
                </a:cubicBezTo>
                <a:cubicBezTo>
                  <a:pt x="86" y="43"/>
                  <a:pt x="0" y="72"/>
                  <a:pt x="0" y="72"/>
                </a:cubicBezTo>
              </a:path>
            </a:pathLst>
          </a:custGeom>
          <a:noFill/>
          <a:ln w="93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650400">
            <a:off x="3352320" y="441972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650400">
            <a:off x="3276720" y="441936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6019920"/>
            <a:ext cx="2119320" cy="10573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rot="12825000">
            <a:off x="572400" y="4547520"/>
            <a:ext cx="33843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4" y="10"/>
                </a:moveTo>
                <a:arcTo wR="10800" hR="10800" stAng="-5548315" swAng="5049145"/>
                <a:lnTo>
                  <a:pt x="10800" y="10800"/>
                </a:lnTo>
                <a:close/>
              </a:path>
              <a:path fill="none" w="21600" h="21600">
                <a:moveTo>
                  <a:pt x="10334" y="10"/>
                </a:moveTo>
                <a:arcTo wR="10800" hR="10800" stAng="-5548315" swAng="5049145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6629400"/>
            <a:ext cx="14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655308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rot="1731600">
            <a:off x="1075680" y="6314400"/>
            <a:ext cx="3385440" cy="288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337" swAng="4413241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337" swAng="4413241"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05120" y="6781680"/>
            <a:ext cx="15228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57600" y="7543800"/>
            <a:ext cx="2119320" cy="10573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rot="12825000">
            <a:off x="2782080" y="6071400"/>
            <a:ext cx="33843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4" y="10"/>
                </a:moveTo>
                <a:arcTo wR="10800" hR="10800" stAng="-5548315" swAng="5049145"/>
                <a:lnTo>
                  <a:pt x="10800" y="10800"/>
                </a:lnTo>
                <a:close/>
              </a:path>
              <a:path fill="none" w="21600" h="21600">
                <a:moveTo>
                  <a:pt x="10334" y="10"/>
                </a:moveTo>
                <a:arcTo wR="10800" hR="10800" stAng="-5548315" swAng="5049145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57600" y="8153280"/>
            <a:ext cx="144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91320" y="80773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rot="1731600">
            <a:off x="3285360" y="7838280"/>
            <a:ext cx="3385440" cy="288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337" swAng="4413241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337" swAng="4413241"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6248520"/>
            <a:ext cx="1981440" cy="8380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4114800"/>
            <a:ext cx="762120" cy="266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4800600"/>
            <a:ext cx="152280" cy="175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590560" y="4267080"/>
            <a:ext cx="152280" cy="259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123720" y="4876920"/>
            <a:ext cx="762120" cy="1676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33920" y="7772400"/>
            <a:ext cx="1981080" cy="8380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38480" y="8001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7848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14800" y="83059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91120" y="8077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7848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82296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0600" y="8001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29200" y="7848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81480" y="8001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83059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00600" y="83818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48320" y="8077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86400" y="8001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81532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95680" y="83818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2880" y="8458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8001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38680" y="8153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10080" y="82296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7238880"/>
            <a:ext cx="38088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6934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Crec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04920" y="380880"/>
            <a:ext cx="655308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Identificación del clon de interés en una genote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Tahoma"/>
              </a:rPr>
              <a:t>Rastreo de una genoteca para identificar los clones de células que portan un DNA recombinante deter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1.-Basado en secuencia nucleotídica de inte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828440" y="3200400"/>
            <a:ext cx="6094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3962520"/>
            <a:ext cx="1844640" cy="16081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4114800"/>
            <a:ext cx="16056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4419720"/>
            <a:ext cx="160200" cy="14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4952880"/>
            <a:ext cx="16056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4572000"/>
            <a:ext cx="16020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5105520"/>
            <a:ext cx="160200" cy="14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52480" y="4343400"/>
            <a:ext cx="16056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81080" y="4724280"/>
            <a:ext cx="16056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43200" y="4648320"/>
            <a:ext cx="7221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57600" y="3962520"/>
            <a:ext cx="1844640" cy="16081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67080" y="4114800"/>
            <a:ext cx="16056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62520" y="4419720"/>
            <a:ext cx="160200" cy="14580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38480" y="4952880"/>
            <a:ext cx="16056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43400" y="4572000"/>
            <a:ext cx="16020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48320" y="5105520"/>
            <a:ext cx="160200" cy="14580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24280" y="4343400"/>
            <a:ext cx="16056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52880" y="4724280"/>
            <a:ext cx="16056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00600" y="5715000"/>
            <a:ext cx="1440" cy="657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38480" y="6342120"/>
            <a:ext cx="1844640" cy="16081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648320" y="6494400"/>
            <a:ext cx="16020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6799320"/>
            <a:ext cx="16020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19720" y="7332840"/>
            <a:ext cx="160200" cy="14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24280" y="6951600"/>
            <a:ext cx="16056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7485120"/>
            <a:ext cx="16020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05520" y="6723000"/>
            <a:ext cx="16020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4120" y="7104240"/>
            <a:ext cx="160200" cy="14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9828000">
            <a:off x="4968360" y="4940280"/>
            <a:ext cx="647280" cy="73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15000" y="58086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91320" y="55800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86400" y="565632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62720" y="550404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565632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867280" y="58086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648400" y="5475240"/>
            <a:ext cx="139680" cy="74520"/>
          </a:xfrm>
          <a:custGeom>
            <a:avLst/>
            <a:gdLst/>
            <a:ahLst/>
            <a:rect l="l" t="t" r="r" b="b"/>
            <a:pathLst>
              <a:path w="84" h="30">
                <a:moveTo>
                  <a:pt x="0" y="30"/>
                </a:moveTo>
                <a:cubicBezTo>
                  <a:pt x="24" y="14"/>
                  <a:pt x="54" y="0"/>
                  <a:pt x="84" y="0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70560" y="5742000"/>
            <a:ext cx="162000" cy="182520"/>
          </a:xfrm>
          <a:custGeom>
            <a:avLst/>
            <a:gdLst/>
            <a:ahLst/>
            <a:rect l="l" t="t" r="r" b="b"/>
            <a:pathLst>
              <a:path w="97" h="120">
                <a:moveTo>
                  <a:pt x="46" y="0"/>
                </a:moveTo>
                <a:cubicBezTo>
                  <a:pt x="44" y="16"/>
                  <a:pt x="49" y="35"/>
                  <a:pt x="40" y="48"/>
                </a:cubicBezTo>
                <a:cubicBezTo>
                  <a:pt x="33" y="58"/>
                  <a:pt x="13" y="51"/>
                  <a:pt x="4" y="60"/>
                </a:cubicBezTo>
                <a:cubicBezTo>
                  <a:pt x="0" y="64"/>
                  <a:pt x="16" y="64"/>
                  <a:pt x="22" y="66"/>
                </a:cubicBezTo>
                <a:cubicBezTo>
                  <a:pt x="40" y="70"/>
                  <a:pt x="58" y="74"/>
                  <a:pt x="76" y="78"/>
                </a:cubicBezTo>
                <a:cubicBezTo>
                  <a:pt x="97" y="110"/>
                  <a:pt x="82" y="105"/>
                  <a:pt x="52" y="120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81480" y="7543800"/>
            <a:ext cx="214560" cy="74520"/>
          </a:xfrm>
          <a:custGeom>
            <a:avLst/>
            <a:gdLst/>
            <a:ahLst/>
            <a:rect l="l" t="t" r="r" b="b"/>
            <a:pathLst>
              <a:path w="128" h="21">
                <a:moveTo>
                  <a:pt x="0" y="3"/>
                </a:moveTo>
                <a:cubicBezTo>
                  <a:pt x="27" y="11"/>
                  <a:pt x="56" y="21"/>
                  <a:pt x="84" y="21"/>
                </a:cubicBezTo>
                <a:cubicBezTo>
                  <a:pt x="128" y="21"/>
                  <a:pt x="126" y="0"/>
                  <a:pt x="126" y="21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62520" y="5522760"/>
            <a:ext cx="200160" cy="93960"/>
          </a:xfrm>
          <a:custGeom>
            <a:avLst/>
            <a:gdLst/>
            <a:ahLst/>
            <a:rect l="l" t="t" r="r" b="b"/>
            <a:pathLst>
              <a:path w="120" h="62">
                <a:moveTo>
                  <a:pt x="120" y="24"/>
                </a:moveTo>
                <a:cubicBezTo>
                  <a:pt x="82" y="49"/>
                  <a:pt x="112" y="19"/>
                  <a:pt x="72" y="6"/>
                </a:cubicBezTo>
                <a:cubicBezTo>
                  <a:pt x="46" y="9"/>
                  <a:pt x="0" y="0"/>
                  <a:pt x="36" y="36"/>
                </a:cubicBezTo>
                <a:cubicBezTo>
                  <a:pt x="62" y="62"/>
                  <a:pt x="60" y="36"/>
                  <a:pt x="6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657760" y="5713560"/>
            <a:ext cx="149400" cy="91800"/>
          </a:xfrm>
          <a:custGeom>
            <a:avLst/>
            <a:gdLst/>
            <a:ahLst/>
            <a:rect l="l" t="t" r="r" b="b"/>
            <a:pathLst>
              <a:path w="89" h="60">
                <a:moveTo>
                  <a:pt x="84" y="60"/>
                </a:moveTo>
                <a:cubicBezTo>
                  <a:pt x="37" y="44"/>
                  <a:pt x="89" y="16"/>
                  <a:pt x="42" y="0"/>
                </a:cubicBezTo>
                <a:cubicBezTo>
                  <a:pt x="24" y="26"/>
                  <a:pt x="37" y="54"/>
                  <a:pt x="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962680" y="5846760"/>
            <a:ext cx="181080" cy="100080"/>
          </a:xfrm>
          <a:custGeom>
            <a:avLst/>
            <a:gdLst/>
            <a:ahLst/>
            <a:rect l="l" t="t" r="r" b="b"/>
            <a:pathLst>
              <a:path w="108" h="66">
                <a:moveTo>
                  <a:pt x="0" y="0"/>
                </a:moveTo>
                <a:cubicBezTo>
                  <a:pt x="6" y="2"/>
                  <a:pt x="13" y="2"/>
                  <a:pt x="18" y="6"/>
                </a:cubicBezTo>
                <a:cubicBezTo>
                  <a:pt x="31" y="16"/>
                  <a:pt x="39" y="33"/>
                  <a:pt x="54" y="42"/>
                </a:cubicBezTo>
                <a:cubicBezTo>
                  <a:pt x="73" y="53"/>
                  <a:pt x="108" y="37"/>
                  <a:pt x="108" y="66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95480" y="441972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419112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66880" y="4267080"/>
            <a:ext cx="81000" cy="74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41148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4267080"/>
            <a:ext cx="81000" cy="74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8120" y="441972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28880" y="4086360"/>
            <a:ext cx="139680" cy="74520"/>
          </a:xfrm>
          <a:custGeom>
            <a:avLst/>
            <a:gdLst/>
            <a:ahLst/>
            <a:rect l="l" t="t" r="r" b="b"/>
            <a:pathLst>
              <a:path w="84" h="30">
                <a:moveTo>
                  <a:pt x="0" y="30"/>
                </a:moveTo>
                <a:cubicBezTo>
                  <a:pt x="24" y="14"/>
                  <a:pt x="54" y="0"/>
                  <a:pt x="84" y="0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651040" y="4352760"/>
            <a:ext cx="162000" cy="182880"/>
          </a:xfrm>
          <a:custGeom>
            <a:avLst/>
            <a:gdLst/>
            <a:ahLst/>
            <a:rect l="l" t="t" r="r" b="b"/>
            <a:pathLst>
              <a:path w="97" h="120">
                <a:moveTo>
                  <a:pt x="46" y="0"/>
                </a:moveTo>
                <a:cubicBezTo>
                  <a:pt x="44" y="16"/>
                  <a:pt x="49" y="35"/>
                  <a:pt x="40" y="48"/>
                </a:cubicBezTo>
                <a:cubicBezTo>
                  <a:pt x="33" y="58"/>
                  <a:pt x="13" y="51"/>
                  <a:pt x="4" y="60"/>
                </a:cubicBezTo>
                <a:cubicBezTo>
                  <a:pt x="0" y="64"/>
                  <a:pt x="16" y="64"/>
                  <a:pt x="22" y="66"/>
                </a:cubicBezTo>
                <a:cubicBezTo>
                  <a:pt x="40" y="70"/>
                  <a:pt x="58" y="74"/>
                  <a:pt x="76" y="78"/>
                </a:cubicBezTo>
                <a:cubicBezTo>
                  <a:pt x="97" y="110"/>
                  <a:pt x="82" y="105"/>
                  <a:pt x="52" y="120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43360" y="4133880"/>
            <a:ext cx="199800" cy="93600"/>
          </a:xfrm>
          <a:custGeom>
            <a:avLst/>
            <a:gdLst/>
            <a:ahLst/>
            <a:rect l="l" t="t" r="r" b="b"/>
            <a:pathLst>
              <a:path w="120" h="62">
                <a:moveTo>
                  <a:pt x="120" y="24"/>
                </a:moveTo>
                <a:cubicBezTo>
                  <a:pt x="82" y="49"/>
                  <a:pt x="112" y="19"/>
                  <a:pt x="72" y="6"/>
                </a:cubicBezTo>
                <a:cubicBezTo>
                  <a:pt x="46" y="9"/>
                  <a:pt x="0" y="0"/>
                  <a:pt x="36" y="36"/>
                </a:cubicBezTo>
                <a:cubicBezTo>
                  <a:pt x="62" y="62"/>
                  <a:pt x="60" y="36"/>
                  <a:pt x="6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38600" y="4324320"/>
            <a:ext cx="149040" cy="92160"/>
          </a:xfrm>
          <a:custGeom>
            <a:avLst/>
            <a:gdLst/>
            <a:ahLst/>
            <a:rect l="l" t="t" r="r" b="b"/>
            <a:pathLst>
              <a:path w="89" h="60">
                <a:moveTo>
                  <a:pt x="84" y="60"/>
                </a:moveTo>
                <a:cubicBezTo>
                  <a:pt x="37" y="44"/>
                  <a:pt x="89" y="16"/>
                  <a:pt x="42" y="0"/>
                </a:cubicBezTo>
                <a:cubicBezTo>
                  <a:pt x="24" y="26"/>
                  <a:pt x="37" y="54"/>
                  <a:pt x="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43160" y="4457880"/>
            <a:ext cx="181080" cy="99720"/>
          </a:xfrm>
          <a:custGeom>
            <a:avLst/>
            <a:gdLst/>
            <a:ahLst/>
            <a:rect l="l" t="t" r="r" b="b"/>
            <a:pathLst>
              <a:path w="108" h="66">
                <a:moveTo>
                  <a:pt x="0" y="0"/>
                </a:moveTo>
                <a:cubicBezTo>
                  <a:pt x="6" y="2"/>
                  <a:pt x="13" y="2"/>
                  <a:pt x="18" y="6"/>
                </a:cubicBezTo>
                <a:cubicBezTo>
                  <a:pt x="31" y="16"/>
                  <a:pt x="39" y="33"/>
                  <a:pt x="54" y="42"/>
                </a:cubicBezTo>
                <a:cubicBezTo>
                  <a:pt x="73" y="53"/>
                  <a:pt x="108" y="37"/>
                  <a:pt x="108" y="66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4257720"/>
            <a:ext cx="199800" cy="88920"/>
          </a:xfrm>
          <a:custGeom>
            <a:avLst/>
            <a:gdLst/>
            <a:ahLst/>
            <a:rect l="l" t="t" r="r" b="b"/>
            <a:pathLst>
              <a:path w="120" h="58">
                <a:moveTo>
                  <a:pt x="120" y="18"/>
                </a:moveTo>
                <a:cubicBezTo>
                  <a:pt x="96" y="26"/>
                  <a:pt x="84" y="36"/>
                  <a:pt x="66" y="54"/>
                </a:cubicBezTo>
                <a:cubicBezTo>
                  <a:pt x="0" y="41"/>
                  <a:pt x="48" y="58"/>
                  <a:pt x="54" y="36"/>
                </a:cubicBezTo>
                <a:cubicBezTo>
                  <a:pt x="57" y="24"/>
                  <a:pt x="48" y="12"/>
                  <a:pt x="48" y="0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57400" y="7924680"/>
            <a:ext cx="160200" cy="146160"/>
          </a:xfrm>
          <a:prstGeom prst="ellipse">
            <a:avLst/>
          </a:prstGeom>
          <a:solidFill>
            <a:srgbClr val="00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6477120"/>
            <a:ext cx="2486160" cy="2192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048120" y="7238880"/>
            <a:ext cx="914400" cy="282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6858000"/>
            <a:ext cx="1844640" cy="1608120"/>
          </a:xfrm>
          <a:prstGeom prst="ellipse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57400" y="7848720"/>
            <a:ext cx="160200" cy="145800"/>
          </a:xfrm>
          <a:prstGeom prst="ellipse">
            <a:avLst/>
          </a:prstGeom>
          <a:solidFill>
            <a:srgbClr val="00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81080" y="1905120"/>
            <a:ext cx="2119320" cy="10573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rot="12825000">
            <a:off x="1105560" y="432720"/>
            <a:ext cx="33843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4" y="10"/>
                </a:moveTo>
                <a:arcTo wR="10800" hR="10800" stAng="-5548315" swAng="5049145"/>
                <a:lnTo>
                  <a:pt x="10800" y="10800"/>
                </a:lnTo>
                <a:close/>
              </a:path>
              <a:path fill="none" w="21600" h="21600">
                <a:moveTo>
                  <a:pt x="10334" y="10"/>
                </a:moveTo>
                <a:arcTo wR="10800" hR="10800" stAng="-5548315" swAng="5049145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2514600"/>
            <a:ext cx="18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14800" y="24382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 rot="1731600">
            <a:off x="1609560" y="2198880"/>
            <a:ext cx="3384720" cy="288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337" swAng="4413241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337" swAng="4413241"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2133720"/>
            <a:ext cx="1981080" cy="8380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2362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666880" y="22096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438280" y="26668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14600" y="2438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19520" y="2286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25909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23623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22096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05320" y="2362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505320" y="26668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24080" y="2743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2438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9880" y="23623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71800" y="25146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19520" y="27432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28195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19520" y="2362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62520" y="25146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733920" y="25909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267080" y="2895480"/>
            <a:ext cx="19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Hidridación con sonda nucleotíd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7T20:20:13Z</dcterms:created>
  <dc:creator>Cecilia Rojas</dc:creator>
  <dc:description/>
  <dc:language>en-US</dc:language>
  <cp:lastModifiedBy>Gina</cp:lastModifiedBy>
  <cp:lastPrinted>2001-06-01T18:55:41Z</cp:lastPrinted>
  <dcterms:modified xsi:type="dcterms:W3CDTF">2008-06-09T16:42:28Z</dcterms:modified>
  <cp:revision>91</cp:revision>
  <dc:subject/>
  <dc:title>No Slide Title</dc:title>
</cp:coreProperties>
</file>