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1F05-9E9E-4372-9F05-B8C549A4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65EE-0337-49A1-A018-EAF4ED01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44A3-DED3-4513-ABB2-77A9EB2F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8801-9807-4B2C-83CB-EEC6A056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A390-9372-4650-9D56-A852DC52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49F6-0272-46C8-B086-5C0249EC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7ADC-38DE-4315-94A1-6C6563B1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CC0-6E88-48C6-98CF-B7FC800D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B66-5D15-451C-889D-3299C1CA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479F-1FF0-4703-AB95-4EB79976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4FC5-336A-4BA5-ACBD-998DF373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F01-E116-44A3-A75E-5E7FC7D6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64EA-A2AD-4EDD-A061-D0632E1EEA6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ía y S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f: Patricio Ro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acciones Nucle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a de los núcleos en AM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: 1.0072764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: 4.002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a componentes He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H + 2n: 4.031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a dispon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H-He: 0.0292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7% de la masa de un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.4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oules / re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ciones nucle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 consideramos lumino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si 10</a:t>
            </a:r>
            <a:r>
              <a:rPr b="0" lang="es-CL" sz="2800" spc="-1" strike="noStrike" baseline="30000">
                <a:solidFill>
                  <a:srgbClr val="000000"/>
                </a:solidFill>
                <a:latin typeface="Arial"/>
              </a:rPr>
              <a:t>38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reacciones/seg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ás de 4 millones de toneladas son convertidos por seg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ción P-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440" y="17398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o como es que pueden choc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necesita temperatura mínim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0 millones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5695" r="0" b="51940"/>
          <a:stretch/>
        </p:blipFill>
        <p:spPr>
          <a:xfrm>
            <a:off x="76320" y="2743200"/>
            <a:ext cx="8877240" cy="2362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55472" r="0" b="9001"/>
          <a:stretch/>
        </p:blipFill>
        <p:spPr>
          <a:xfrm>
            <a:off x="76320" y="4876920"/>
            <a:ext cx="8877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7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fotón se demora típicamente 30000 años en salir del centro del 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2826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e Hidrostá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66760" y="12826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Esta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!... Auto-regu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minución en temp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cion en la conversión de H en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minución en la presión del núc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cion y calent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za en temp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o en la conversión de H en 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mento en la presión del núcl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sión y enfri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Sol mantiene una temperatura constan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rmostato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0" t="0" r="0" b="14824"/>
          <a:stretch/>
        </p:blipFill>
        <p:spPr>
          <a:xfrm>
            <a:off x="0" y="1447920"/>
            <a:ext cx="89917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ciones nucle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emperatura del Sol se autorreg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mantiene en el tiemp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to tiemp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 de la m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 sabrán con la proxima tarea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despué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 sabrán en la próxim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perficie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43000" y="1554120"/>
            <a:ext cx="6629400" cy="5303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66760" y="12826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entes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adioa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eote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tr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Interior del S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2280" y="1282680"/>
            <a:ext cx="88776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4896" t="0" r="23391" b="0"/>
          <a:stretch/>
        </p:blipFill>
        <p:spPr>
          <a:xfrm>
            <a:off x="4724280" y="1447920"/>
            <a:ext cx="459108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descubría mucho menos de lo que se predec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mbian de form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6826" t="0" r="26826" b="0"/>
          <a:stretch/>
        </p:blipFill>
        <p:spPr>
          <a:xfrm>
            <a:off x="5029200" y="1523880"/>
            <a:ext cx="41148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smología S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dicciones cumplid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15033" t="0" r="14380" b="4165"/>
          <a:stretch/>
        </p:blipFill>
        <p:spPr>
          <a:xfrm>
            <a:off x="4343400" y="2841480"/>
            <a:ext cx="4800600" cy="4092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0" t="0" r="0" b="15368"/>
          <a:stretch/>
        </p:blipFill>
        <p:spPr>
          <a:xfrm>
            <a:off x="0" y="3400560"/>
            <a:ext cx="39625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chas S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9144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4191120"/>
            <a:ext cx="7620120" cy="4762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73915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chas S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sectores frí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o magnético detiene conv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18294" t="0" r="15856" b="16673"/>
          <a:stretch/>
        </p:blipFill>
        <p:spPr>
          <a:xfrm>
            <a:off x="3886200" y="1447920"/>
            <a:ext cx="525780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 el ciclo sol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28268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upciones S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19315" t="0" r="18886" b="4100"/>
          <a:stretch/>
        </p:blipFill>
        <p:spPr>
          <a:xfrm>
            <a:off x="1981080" y="1282680"/>
            <a:ext cx="54864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693396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entes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Química?: por ejemplo, Carbón, Petroleo, G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veen energía solar que se almaceno en árboles, algas, ani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ólica, Fluv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mbién proviene de clima que es producido por el S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rupciones S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657600" y="2286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38234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Interior del S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1282680"/>
            <a:ext cx="887760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ción coronal en 6 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ñ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52480" y="2752560"/>
            <a:ext cx="58485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a cercana a la del núcle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terio por más de 50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entada por reconexión de campos magn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nto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ículas aceleradas por campo magné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ulsadas en donde esas líneas se rompen: Hoyos Cor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ulsadas en erupciones sol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ículas ion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68028" t="0" r="0" b="11732"/>
          <a:stretch/>
        </p:blipFill>
        <p:spPr>
          <a:xfrm>
            <a:off x="6305400" y="1523880"/>
            <a:ext cx="28386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3200" y="641520"/>
            <a:ext cx="8877600" cy="55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ía So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uminosidad: 3.8e26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mos con gastos de la huma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l 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ñ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: 17e12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o con un crecimiento de un mero 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emos utilizar toda la energía que nos llega del Sol en 466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~1600 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ños se debe utilizar toda la energía que el Sol emi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ciones Energé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Ti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ación Solar: 1.34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oules/s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ía interna: 7.5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oules/s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ox. mitad por reacciones nucleares, mitad por acre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7960" y="136440"/>
            <a:ext cx="812808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o produce el Sol su energí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apso gravit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ede sustentar al Sol por 25 millones de año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icie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ciones quí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e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mil años sol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ciones nucle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ción de masa en ener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prot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1.6726x10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neutr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1.6749x10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-27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electr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9.109x10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-31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eutrón tiene mayor masa que un protón y un electrón combinad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eutrón tiene vida media de 12 min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Átomos estables deben tener menor masa que sus component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6760" y="685800"/>
            <a:ext cx="887724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2:57:18Z</dcterms:created>
  <dc:creator>Patricio Rojo</dc:creator>
  <dc:description/>
  <dc:language>en-US</dc:language>
  <cp:lastModifiedBy>Patricio Rojo</cp:lastModifiedBy>
  <dcterms:modified xsi:type="dcterms:W3CDTF">2008-05-30T04:59:47Z</dcterms:modified>
  <cp:revision>16</cp:revision>
  <dc:subject/>
  <dc:title>Energía</dc:title>
</cp:coreProperties>
</file>