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26D-7A2B-4FB9-9F4E-CC80D02E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D54-FB71-4E69-A610-6AF5073B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EB5-D987-4BF8-90E7-1621CC8A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61A-B31E-409D-B686-F6614F93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8FF4-29CC-4EB2-8AF6-35CACDF1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FFF-CAB5-4BC0-B5FC-7057D4CD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82A-78E3-4357-B908-143A6B6D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AD1-E802-4306-9ACC-74490336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CE2-2311-4995-99EA-16DDC240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6E6-D209-458A-93F2-CBB9475A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A406-172B-4454-B326-C12B906A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F347-61B5-4EFE-AA90-95702290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C87C-C8A3-4418-A829-18FC90B1284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ía y S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f: Patricio R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 de los núcleos en AM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: 1.0072764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: 4.002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 componentes He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H + 2n: 4.031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H-He: 0.0292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7% de la masa de un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.4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oules / re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 consideramos lumino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si 10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reacciones/seg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s de 4 millones de toneladas son convertidos por seg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ción P-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440" y="17398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o como es que pueden choc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necesita temperatura mínim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0 millones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5695" r="0" b="51940"/>
          <a:stretch/>
        </p:blipFill>
        <p:spPr>
          <a:xfrm>
            <a:off x="76320" y="2743200"/>
            <a:ext cx="8877240" cy="2362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55472" r="0" b="9001"/>
          <a:stretch/>
        </p:blipFill>
        <p:spPr>
          <a:xfrm>
            <a:off x="76320" y="4876920"/>
            <a:ext cx="8877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7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fotón se demora típicamente 30000 años en salir del centro del 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e Hidrost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676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Esta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!... Auto-regu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minución en temp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cion en la conversión de H en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minución en la presión del núc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cion y calen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za en temp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o en la conversión de H en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mento en la presión del núc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sión y enfr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Sol mantiene una temperatura consta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rmostato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0" b="14824"/>
          <a:stretch/>
        </p:blipFill>
        <p:spPr>
          <a:xfrm>
            <a:off x="0" y="1447920"/>
            <a:ext cx="89917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emperatura del Sol se autorreg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mantiene en el tiemp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to tiemp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 de la m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sabrán con la proxima tare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despué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sabrán en la próxi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perficie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1554120"/>
            <a:ext cx="6629400" cy="5303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6676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ntes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adio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ot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tr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Interior del S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1282680"/>
            <a:ext cx="88776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4896" t="0" r="23391" b="0"/>
          <a:stretch/>
        </p:blipFill>
        <p:spPr>
          <a:xfrm>
            <a:off x="4724280" y="1447920"/>
            <a:ext cx="459108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scubría mucho menos de lo que se predec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mbian de form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6826" t="0" r="26826" b="0"/>
          <a:stretch/>
        </p:blipFill>
        <p:spPr>
          <a:xfrm>
            <a:off x="5029200" y="1523880"/>
            <a:ext cx="41148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smología 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dicciones cumplid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5033" t="0" r="14380" b="4165"/>
          <a:stretch/>
        </p:blipFill>
        <p:spPr>
          <a:xfrm>
            <a:off x="4343400" y="2841480"/>
            <a:ext cx="4800600" cy="4092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0" t="0" r="0" b="15368"/>
          <a:stretch/>
        </p:blipFill>
        <p:spPr>
          <a:xfrm>
            <a:off x="0" y="3400560"/>
            <a:ext cx="39625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cha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4191120"/>
            <a:ext cx="7620120" cy="4762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73915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cha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sectores frí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o magnético detiene conv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8294" t="0" r="15856" b="16673"/>
          <a:stretch/>
        </p:blipFill>
        <p:spPr>
          <a:xfrm>
            <a:off x="3886200" y="1447920"/>
            <a:ext cx="52578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 el ciclo sol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upcione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19315" t="0" r="18886" b="4100"/>
          <a:stretch/>
        </p:blipFill>
        <p:spPr>
          <a:xfrm>
            <a:off x="1981080" y="1282680"/>
            <a:ext cx="54864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9339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ntes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Química?: por ejemplo, Carbón, Petroleo, G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veen energía solar que se almaceno en árboles, algas, ani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ólica, Fluv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mbién proviene de clima que es producido por el 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rupcione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65760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823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Interior del S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1282680"/>
            <a:ext cx="88776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ción coronal en 6 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ñ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52480" y="2752560"/>
            <a:ext cx="58485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a cercana a la del núcl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terio por más de 50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entada por reconexión de campos magn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nto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ículas aceleradas por campo mag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ulsadas en donde esas líneas se rompen: Hoyos Cor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ulsadas en erupciones so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ículas ion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68028" t="0" r="0" b="11732"/>
          <a:stretch/>
        </p:blipFill>
        <p:spPr>
          <a:xfrm>
            <a:off x="6305400" y="1523880"/>
            <a:ext cx="28386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" y="641520"/>
            <a:ext cx="8877600" cy="55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ía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uminosidad: 3.8e26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mos con gastos de la huma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l 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ñ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: 17e12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o con un crecimiento de un mero 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mos utilizar toda la energía que nos llega del Sol en 466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~1600 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ños se debe utilizar toda la energía que el Sol emi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ciones Energé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Ti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ación Solar: 1.34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oules/s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ía interna: 7.5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oules/s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x. mitad por reacciones nucleares, mitad por acre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960" y="136440"/>
            <a:ext cx="81280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o produce el Sol su energ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apso gravi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sustentar al Sol por 25 millones de año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ici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ciones quí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e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mil años sol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ción de masa en ener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prot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1.6726x10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neutr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1.6749x10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electr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9.109x10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-31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eutrón tiene mayor masa que un protón y un electrón combinad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utrón tiene vida media de 12 min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Átomos estables deben tener menor masa que sus component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6760" y="68580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2:57:18Z</dcterms:created>
  <dc:creator>Patricio Rojo</dc:creator>
  <dc:description/>
  <dc:language>en-US</dc:language>
  <cp:lastModifiedBy>Patricio Rojo</cp:lastModifiedBy>
  <dcterms:modified xsi:type="dcterms:W3CDTF">2008-05-30T04:59:47Z</dcterms:modified>
  <cp:revision>16</cp:revision>
  <dc:subject/>
  <dc:title>Energía</dc:title>
</cp:coreProperties>
</file>