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B2D-EED1-4877-AB65-1F5B7F61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411-69CB-40DA-9C64-9FC47C2D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C6C-9848-435F-B375-E87A1333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DE8-DA05-4FEE-B666-82984F84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5E0-2463-479C-8A22-D093E97D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C24-53C8-4725-A720-2EAAD270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E5B-E784-4E43-93DF-9AE1FCE8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479-3EA0-40FD-AFC1-F00EE679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868-6E36-41E5-BD90-AEBD9F85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A08-37B3-42F9-A3EC-C356E2F5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F56-0D74-4518-B266-1512E868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A6C-DC3A-4170-8990-96A3E774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517A-3004-4984-9416-C6254BCA9D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y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: Patricio 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e los núcleos en AM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: 1.007276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: 4.00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componentes He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 + 2n: 4.03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H-He: 0.0292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7% de la masa de u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oules / re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consideramos lumin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i 10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reacciones/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s de 4 millones de toneladas son convertidos por 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ón P-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440" y="17398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como es que pueden cho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necesita temperatura mínim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 millones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5695" r="0" b="51940"/>
          <a:stretch/>
        </p:blipFill>
        <p:spPr>
          <a:xfrm>
            <a:off x="76320" y="2743200"/>
            <a:ext cx="88772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55472" r="0" b="9001"/>
          <a:stretch/>
        </p:blipFill>
        <p:spPr>
          <a:xfrm>
            <a:off x="76320" y="4876920"/>
            <a:ext cx="887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7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fotón se demora típicamente 30000 años en salir del centro del 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Est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!... Auto-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minución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on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minución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cion y calen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za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mento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ón y enfr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Sol mantiene una temperatura const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sta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4824"/>
          <a:stretch/>
        </p:blipFill>
        <p:spPr>
          <a:xfrm>
            <a:off x="0" y="1447920"/>
            <a:ext cx="8991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emperatura del Sol se autorreg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antiene en el tiemp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o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 de la 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con la proxima tare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despué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en la 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erficie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554120"/>
            <a:ext cx="6629400" cy="530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dio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ot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4896" t="0" r="23391" b="0"/>
          <a:stretch/>
        </p:blipFill>
        <p:spPr>
          <a:xfrm>
            <a:off x="4724280" y="1447920"/>
            <a:ext cx="45910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scubría mucho menos de lo que se prede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n de form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6826" t="0" r="26826" b="0"/>
          <a:stretch/>
        </p:blipFill>
        <p:spPr>
          <a:xfrm>
            <a:off x="5029200" y="1523880"/>
            <a:ext cx="41148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smología 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dicciones cumplid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5033" t="0" r="14380" b="4165"/>
          <a:stretch/>
        </p:blipFill>
        <p:spPr>
          <a:xfrm>
            <a:off x="4343400" y="2841480"/>
            <a:ext cx="4800600" cy="409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0" r="0" b="15368"/>
          <a:stretch/>
        </p:blipFill>
        <p:spPr>
          <a:xfrm>
            <a:off x="0" y="3400560"/>
            <a:ext cx="3962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73915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sectores fr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o magnético detiene conv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8294" t="0" r="15856" b="16673"/>
          <a:stretch/>
        </p:blipFill>
        <p:spPr>
          <a:xfrm>
            <a:off x="3886200" y="1447920"/>
            <a:ext cx="52578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 el ciclo so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9315" t="0" r="18886" b="4100"/>
          <a:stretch/>
        </p:blipFill>
        <p:spPr>
          <a:xfrm>
            <a:off x="1981080" y="1282680"/>
            <a:ext cx="5486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ímica?: por ejemplo, Carbón, Petroleo,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veen energía solar que se almaceno en árboles, algas, ani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ólica, Fluv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proviene de clima que es producido por el 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823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ción coronal en 6 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ñ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2752560"/>
            <a:ext cx="5848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a cercana a la del núcl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terio por más de 5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ntada por reconexión de campos mag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n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aceleradas por campo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donde esas líneas se rompen: Hoyos Cor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erupciones so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ion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8028" t="0" r="0" b="11732"/>
          <a:stretch/>
        </p:blipFill>
        <p:spPr>
          <a:xfrm>
            <a:off x="6305400" y="1523880"/>
            <a:ext cx="28386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" y="641520"/>
            <a:ext cx="8877600" cy="55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minosidad: 3.8e26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mos con gastos de la huma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: 17e12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con un crecimiento de un mero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mos utilizar toda la energía que nos llega del Sol en 466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~1600 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ños se debe utilizar toda la energía que el Sol emi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ciones Energ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Ti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ción Solar: 1.34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ía interna: 7.5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. mitad por reacciones nucleares, mitad por acre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136440"/>
            <a:ext cx="81280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produce el Sol su ener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ap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sustentar al Sol por 25 millones de añ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ici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quí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l años sol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ción de masa en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26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neu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4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9.10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ón tiene mayor masa que un protón y un electrón combinad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utrón tiene vida media de 12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tomos estables deben tener menor masa que sus componen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760" y="68580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2:57:18Z</dcterms:created>
  <dc:creator>Patricio Rojo</dc:creator>
  <dc:description/>
  <dc:language>en-US</dc:language>
  <cp:lastModifiedBy>Patricio Rojo</cp:lastModifiedBy>
  <dcterms:modified xsi:type="dcterms:W3CDTF">2008-05-30T04:59:47Z</dcterms:modified>
  <cp:revision>16</cp:revision>
  <dc:subject/>
  <dc:title>Energía</dc:title>
</cp:coreProperties>
</file>