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3B9C-2531-4132-B195-01B00C31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38BD-43DB-4017-BCF6-E84578E1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7CD6-3395-4974-9B4D-F199E598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53E9-5C21-4632-9C26-2D12CE71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867C-AA06-499E-96C8-C524D84B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029-EA02-4308-AEFF-6EF98635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2F2F-D1B3-4F9A-875C-50617631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2C0-AFA1-414A-96C4-EBF66827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A67-E996-41BC-9137-87EF8D21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455F-3456-4A0F-973E-657344EE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EA6C-67DC-4254-B6E2-6A3B6030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47D-F80E-4794-AA27-F5CF4E55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515C-070C-4D6C-9C8D-C85C69CF31E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ía y S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f: Patricio Ro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acciones Nucle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a de los núcleos en AM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: 1.0072764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: 4.002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a componentes He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H + 2n: 4.031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a dispon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H-He: 0.0292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7% de la masa de un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.4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oules / re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ciones nucle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 consideramos lumino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si 10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38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reacciones/seg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s de 4 millones de toneladas son convertidos por seg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ción P-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440" y="17398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o como es que pueden choc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necesita temperatura mínim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0 millones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5695" r="0" b="51940"/>
          <a:stretch/>
        </p:blipFill>
        <p:spPr>
          <a:xfrm>
            <a:off x="76320" y="2743200"/>
            <a:ext cx="8877240" cy="2362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55472" r="0" b="9001"/>
          <a:stretch/>
        </p:blipFill>
        <p:spPr>
          <a:xfrm>
            <a:off x="76320" y="4876920"/>
            <a:ext cx="8877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7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fotón se demora típicamente 30000 años en salir del centro del 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2826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e Hidrostá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6760" y="12826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Esta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!... Auto-regu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minución en temp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cion en la conversión de H en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minución en la presión del núc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cion y calent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za en temp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o en la conversión de H en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mento en la presión del núc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sión y enfri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Sol mantiene una temperatura consta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rmostato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0" r="0" b="14824"/>
          <a:stretch/>
        </p:blipFill>
        <p:spPr>
          <a:xfrm>
            <a:off x="0" y="1447920"/>
            <a:ext cx="89917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ciones nucle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emperatura del Sol se autorreg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mantiene en el tiemp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to tiemp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 de la m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 sabrán con la proxima tarea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despué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 sabrán en la próxim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perficie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1554120"/>
            <a:ext cx="6629400" cy="5303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66760" y="12826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entes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adio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eote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tr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Interior del S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1282680"/>
            <a:ext cx="88776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4896" t="0" r="23391" b="0"/>
          <a:stretch/>
        </p:blipFill>
        <p:spPr>
          <a:xfrm>
            <a:off x="4724280" y="1447920"/>
            <a:ext cx="459108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descubría mucho menos de lo que se predec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mbian de form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6826" t="0" r="26826" b="0"/>
          <a:stretch/>
        </p:blipFill>
        <p:spPr>
          <a:xfrm>
            <a:off x="5029200" y="1523880"/>
            <a:ext cx="41148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smología 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dicciones cumplid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15033" t="0" r="14380" b="4165"/>
          <a:stretch/>
        </p:blipFill>
        <p:spPr>
          <a:xfrm>
            <a:off x="4343400" y="2841480"/>
            <a:ext cx="4800600" cy="4092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0" t="0" r="0" b="15368"/>
          <a:stretch/>
        </p:blipFill>
        <p:spPr>
          <a:xfrm>
            <a:off x="0" y="3400560"/>
            <a:ext cx="39625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chas S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4191120"/>
            <a:ext cx="7620120" cy="4762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73915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chas S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sectores frí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o magnético detiene conv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18294" t="0" r="15856" b="16673"/>
          <a:stretch/>
        </p:blipFill>
        <p:spPr>
          <a:xfrm>
            <a:off x="3886200" y="1447920"/>
            <a:ext cx="525780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 el ciclo sol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2826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upciones S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19315" t="0" r="18886" b="4100"/>
          <a:stretch/>
        </p:blipFill>
        <p:spPr>
          <a:xfrm>
            <a:off x="1981080" y="1282680"/>
            <a:ext cx="54864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93396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entes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Química?: por ejemplo, Carbón, Petroleo, G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veen energía solar que se almaceno en árboles, algas, ani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ólica, Fluv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mbién proviene de clima que es producido por el 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rupciones S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657600" y="2286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3823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Interior del S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1282680"/>
            <a:ext cx="88776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ción coronal en 6 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ñ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52480" y="2752560"/>
            <a:ext cx="58485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a cercana a la del núcl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terio por más de 50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entada por reconexión de campos magn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nto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ículas aceleradas por campo magn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ulsadas en donde esas líneas se rompen: Hoyos Cor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ulsadas en erupciones sol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ículas ion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68028" t="0" r="0" b="11732"/>
          <a:stretch/>
        </p:blipFill>
        <p:spPr>
          <a:xfrm>
            <a:off x="6305400" y="1523880"/>
            <a:ext cx="28386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3200" y="641520"/>
            <a:ext cx="8877600" cy="55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ía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uminosidad: 3.8e26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mos con gastos de la huma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l 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ñ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: 17e12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o con un crecimiento de un mero 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emos utilizar toda la energía que nos llega del Sol en 466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~1600 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ños se debe utilizar toda la energía que el Sol emi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ciones Energé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Ti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ación Solar: 1.34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oules/s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ía interna: 7.5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oules/s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x. mitad por reacciones nucleares, mitad por acre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7960" y="136440"/>
            <a:ext cx="812808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o produce el Sol su energí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apso gravit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sustentar al Sol por 25 millones de año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icie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ciones quí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e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mil años sol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ciones nucle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ción de masa en ener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prot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1.6726x10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neutr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1.6749x10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electr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9.109x10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-31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eutrón tiene mayor masa que un protón y un electrón combinad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eutrón tiene vida media de 12 min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Átomos estables deben tener menor masa que sus component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6760" y="68580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2:57:18Z</dcterms:created>
  <dc:creator>Patricio Rojo</dc:creator>
  <dc:description/>
  <dc:language>en-US</dc:language>
  <cp:lastModifiedBy>Patricio Rojo</cp:lastModifiedBy>
  <dcterms:modified xsi:type="dcterms:W3CDTF">2008-05-30T04:59:47Z</dcterms:modified>
  <cp:revision>16</cp:revision>
  <dc:subject/>
  <dc:title>Energía</dc:title>
</cp:coreProperties>
</file>