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026-A1D1-443B-83DC-E56D1550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2E7-DA1A-44E1-9452-CA9C89C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D92-571E-43E7-9F85-17BDC307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2EC-E0B5-4136-8B9B-4C859BD3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190-E955-4DC1-A328-697ADD46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B19-9E5A-49CD-B52A-9890FB21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739-E2DD-4220-B005-05CB018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26B-7D3A-4F1B-B4EB-35FD16C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C8F-848D-40DB-BB04-DDCAA7C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DEA-EEA5-4AEA-B5D2-F62DE17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499-E2A7-4B34-8031-B403179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0BD-2CE3-4A6C-BC01-2107FD0B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C2CB-4A39-4A16-9902-8FA619DC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267920"/>
            <a:ext cx="705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RIES  DE  TAYLOR  Y  LAUR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k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k = 1,…,m-1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 m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x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, y 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n el anillo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, 0, r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.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,  n &lt; 0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 &lt; -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-1, -2, …,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tiene infinitas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340000" y="2637000"/>
                <a:ext cx="647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156360" y="4365720"/>
                <a:ext cx="504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aracterización equivalente de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os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holomorfa 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tal que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 = 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) ,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polo de orden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h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holomorfa en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tal que 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=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-p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32360" y="350028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255640" y="509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TEOREMA  DE  LOS  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LES 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.   Si  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una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08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867280" y="2205000"/>
                <a:ext cx="289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340000" y="321300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analitic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=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76720" y="364500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084720" y="3860640"/>
                <a:ext cx="10083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40360" y="5084640"/>
                <a:ext cx="1114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24000" y="371628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y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3200" spc="-1" strike="noStrike">
                <a:solidFill>
                  <a:srgbClr val="0099ff"/>
                </a:solidFill>
                <a:latin typeface="Arial"/>
              </a:rPr>
              <a:t>,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tiene derivada de todo orden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 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y el correspondiente disco de convergencia se determina encontrando el punto mas cerca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no es holomorfa.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   z –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                         ,  n=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y       es cualquier circulo de centr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12000" y="2205000"/>
                <a:ext cx="433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643280" y="2133720"/>
                <a:ext cx="425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59280" y="3500280"/>
                <a:ext cx="43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19640" y="3357720"/>
                <a:ext cx="1656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4581360"/>
                <a:ext cx="4320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04000" y="4508640"/>
                <a:ext cx="333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67640" y="4508640"/>
                <a:ext cx="331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1928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on holomorf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 = 0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80360" y="2565360"/>
                <a:ext cx="50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o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635280" y="407664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5877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Universidad de Chile</cp:lastModifiedBy>
  <dcterms:modified xsi:type="dcterms:W3CDTF">2007-05-11T17:36:10Z</dcterms:modified>
  <cp:revision>14</cp:revision>
  <dc:subject/>
  <dc:title>TEOREMA DE CAUCHY CAUCHY-GOURSAT</dc:title>
</cp:coreProperties>
</file>