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4DE-A85C-4674-BA1D-C48A34A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FE0-D636-46CC-9A98-7D5A34B4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1BE-7097-4138-AA17-89631D18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99B-F2F1-410D-9156-B8FFFB1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57F-95A4-4628-935B-F824C890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6E0-B64A-4382-AEC9-448D6E9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FFC-09EF-4A13-B394-AB9F3DC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640-EEB6-4930-8E2E-B7925CF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789-AF21-4B7F-B145-D78B094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C0-A203-4E51-881B-92172DC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145-99E4-452F-BFC5-A171D9DB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D0E-3B33-46CF-8B34-37F170C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9DF-7E61-41CC-B7E3-E06AF408C31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Ñ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76360" y="328464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19280" y="436572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51640" y="4365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8-04T16:22:06Z</dcterms:modified>
  <cp:revision>11</cp:revision>
  <dc:subject/>
  <dc:title>TEOREMA DE CAUCHY CAUCHY-GOURSAT</dc:title>
</cp:coreProperties>
</file>