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82E-2465-4EA8-9886-DAB5B971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0BB-83B0-4F3E-8228-519AB08D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0A9-2C17-46E5-BCCE-5DE19731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3C3-0B4D-4B4B-A7EA-128B7CB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F6A-7E3B-45C6-AC6D-C488038E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FA7-6C6B-4650-8C9A-0CD5254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0EA-4927-4715-98C9-2EBF7618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6A0-7ABA-4EBA-925E-98738B6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646-0A37-4856-8A45-CC17EF2D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59F-6B86-469F-9168-C75C3FC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8D2-E40E-46A6-9FFE-69AAE42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786-22A9-4A80-85CD-B94F29DA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8B0D-BF13-40F8-A92F-5D326E6D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05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IES  DE  TAYLOR  Y  LAUR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k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k = 1,…,m-1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 m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x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, y 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n el anillo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, 0, r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.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,  n &lt; 0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 &lt; -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-1, -2, …,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tiene infinitas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40000" y="2637000"/>
                <a:ext cx="647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56360" y="4365720"/>
                <a:ext cx="504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.   Si  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una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08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867280" y="2205000"/>
                <a:ext cx="289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340000" y="3213000"/>
                <a:ext cx="44640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analitic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=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364500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084720" y="3860640"/>
                <a:ext cx="1008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40360" y="5084640"/>
                <a:ext cx="1114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24000" y="371628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y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3200" spc="-1" strike="noStrike">
                <a:solidFill>
                  <a:srgbClr val="0099ff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tiene derivada de todo orden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 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y el correspondiente disco de convergencia se determina encontrando el punto mas cerca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no es holomorfa.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   z –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                         ,  n=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y       es cualquier circulo de centr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2205000"/>
                <a:ext cx="433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43280" y="2133720"/>
                <a:ext cx="425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3500280"/>
                <a:ext cx="4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19640" y="3357720"/>
                <a:ext cx="1656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4581360"/>
                <a:ext cx="4320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04000" y="4508640"/>
                <a:ext cx="3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67640" y="4508640"/>
                <a:ext cx="331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1928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on holomorf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 = 0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80360" y="2565360"/>
                <a:ext cx="50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o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635280" y="407664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5877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5-11T17:36:10Z</dcterms:modified>
  <cp:revision>14</cp:revision>
  <dc:subject/>
  <dc:title>TEOREMA DE CAUCHY CAUCHY-GOURSAT</dc:title>
</cp:coreProperties>
</file>