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60B-FE0D-45C5-A99B-55735915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000-D0AA-4C55-BD63-BBC31568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D54-7F89-4DEC-B6D8-A93EBF67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BC9-E24F-403E-8738-2C0D4C4C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94C-F3C2-4D2A-B5D6-57E85E65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026-3982-4874-B3C5-844E8EC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19D-00E1-4E44-A50A-F61616DA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CB1-B3DC-4E3D-AC55-61F1317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96-B172-4128-9448-F346D7D1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11E-0CEE-45A0-95A7-588F582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387-7A40-4682-A472-3348D205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5E3-0635-4224-B0A9-FFA7EA45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8BAB-11AB-466A-A5E8-054F2C4D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05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RIES  DE  TAYLOR  Y  LAUR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k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k = 1,…,m-1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lim 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( m)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x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, y 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n el anillo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, 0, r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.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f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,  n &lt; 0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 &lt; -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iii) 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-1, -2, …,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tiene infinitas potencias negativas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40000" y="2781360"/>
                <a:ext cx="647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84720" y="4653000"/>
                <a:ext cx="50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451640" y="5516640"/>
                <a:ext cx="647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648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analitic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=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364500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084720" y="3860640"/>
                <a:ext cx="1008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40360" y="5084640"/>
                <a:ext cx="1114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24000" y="371628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y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3200" spc="-1" strike="noStrike">
                <a:solidFill>
                  <a:srgbClr val="0099ff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D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CL" sz="3200" spc="-1" strike="noStrike">
                <a:solidFill>
                  <a:srgbClr val="0099ff"/>
                </a:solidFill>
                <a:latin typeface="Arial"/>
              </a:rPr>
              <a:t>tiene derivada de todo orden en</a:t>
            </a:r>
            <a:r>
              <a:rPr b="1" i="1" lang="es-CL" sz="3200" spc="-1" strike="noStrike">
                <a:solidFill>
                  <a:srgbClr val="000000"/>
                </a:solidFill>
                <a:latin typeface="Arial"/>
              </a:rPr>
              <a:t>   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y el correspondiente disco de convergencia se determina encontrando el punto mas cercan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no es holomorfa.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   z –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                          ,  n&lt;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y       es cualquier circulo de centr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12000" y="2205000"/>
                <a:ext cx="433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43280" y="2133720"/>
                <a:ext cx="425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3500280"/>
                <a:ext cx="4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35400" y="3359160"/>
                <a:ext cx="1825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00000" y="4581360"/>
                <a:ext cx="4320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04000" y="4508640"/>
                <a:ext cx="3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67640" y="4508640"/>
                <a:ext cx="331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1928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on holomorf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 = 0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80360" y="3068640"/>
                <a:ext cx="50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o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{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635280" y="407664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5877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5-04T21:48:12Z</dcterms:modified>
  <cp:revision>13</cp:revision>
  <dc:subject/>
  <dc:title>TEOREMA DE CAUCHY CAUCHY-GOURSAT</dc:title>
</cp:coreProperties>
</file>