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C00-39F4-4081-9577-FF8DC734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010-4A8A-40CE-89A8-A53660D3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03D-92F6-415E-9CC4-9ED71D29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CEE-26E7-4FFC-B70C-85E1D4D8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AE1-0ACF-4A75-B434-57A9DEBC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A86-FEB4-405B-B4CB-F1FF4B2C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F7F-CC3C-4240-A91D-91B77809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3FC-06BA-4AB0-AC9F-9569950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C59-B2F5-4D3A-8B67-A2BC7A43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DD9-BBDE-48FC-9EA5-102F2A1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DF3-A32A-49B7-A510-4FA1826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726-92AB-4C4E-BDCC-31D4D9F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7299-49E2-4E10-A36A-0F767E4E540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C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COMPLEJA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26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Ñ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11280" y="1413000"/>
                <a:ext cx="1871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35640" y="170028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79640" y="2997360"/>
                <a:ext cx="216072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763640" y="4149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653000"/>
                <a:ext cx="143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1928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3429000"/>
                <a:ext cx="6409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24000" y="1268280"/>
                <a:ext cx="1513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07672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95640" y="2924280"/>
                <a:ext cx="1563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47640" y="422100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12920" y="4702320"/>
                <a:ext cx="169380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92360" y="162864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76360" y="3284640"/>
                <a:ext cx="57596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br>
              <a:rPr sz="44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AUCHY-GOURS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2781360"/>
            <a:ext cx="7274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ƒ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holomorfa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 D, D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mente conexo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(s.c.) en el plano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        es cualquier c.s.s.p.t. cerrada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258920" y="4005360"/>
                <a:ext cx="1128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87640" y="4869000"/>
                <a:ext cx="252108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71640" y="1413000"/>
                <a:ext cx="1439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364000" y="2708280"/>
                <a:ext cx="1656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835280" y="4365720"/>
                <a:ext cx="341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427640" y="4005360"/>
                <a:ext cx="24494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08000" y="2852640"/>
                <a:ext cx="1727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           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16000" y="1341360"/>
                <a:ext cx="1655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124000" y="2781360"/>
                <a:ext cx="1511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867280" y="2637000"/>
                <a:ext cx="15829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08000" y="4292640"/>
                <a:ext cx="335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427640" y="4221000"/>
                <a:ext cx="9190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732720" y="3933720"/>
                <a:ext cx="1655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INDEPENDENCIA DE LA TRAYE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holomorfa en D, D s.c., y         y        son c.s.s.p.t. cerradas en D que unen dos puntos             en D 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misma orienta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)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XISTENCIA DE ANTIDE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es holomorfa en D, D s.c., existe     holomorfa en D tal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,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19280" y="1989000"/>
                <a:ext cx="37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92720" y="2060640"/>
                <a:ext cx="3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12000" y="2060640"/>
                <a:ext cx="284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508720" y="2276640"/>
                <a:ext cx="792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19280" y="4365720"/>
                <a:ext cx="37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651640" y="4365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403280" y="4869000"/>
                <a:ext cx="19447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03280" y="5661000"/>
                <a:ext cx="1944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492360" y="573408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64000" y="5661000"/>
                <a:ext cx="1008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771640" y="3068640"/>
                <a:ext cx="345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TEOREMA DE LA DE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D s.c.,      holomorf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y      son c.s.s.p.t. cerradas contenidos en D que encierran a      y                       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MPORTANTE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: Este resultado permite reemplazar el calculo de integrales sobre curvas por integrales sobr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IRCULOS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87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92720" y="2060640"/>
                <a:ext cx="100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835280" y="256536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484360" y="2492280"/>
                <a:ext cx="284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35280" y="2852640"/>
                <a:ext cx="311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284720" y="2924280"/>
                <a:ext cx="1527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987640" y="3500280"/>
                <a:ext cx="26640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δ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1    Caso para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ea      holomorfa en D, D s.c., y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cualquier c.s.s.p.t. cerrada en 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835280" y="2924280"/>
                <a:ext cx="26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148360" y="2924280"/>
                <a:ext cx="792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92360" y="3357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300720" y="3213000"/>
                <a:ext cx="1800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411280" y="4365720"/>
                <a:ext cx="3095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2    Caso para derivadas de orde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     holomorfa en D, D s.c. y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ntonces      tien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rivadas de todo orden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y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             y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79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867280" y="2060640"/>
                <a:ext cx="865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71640" y="2492280"/>
                <a:ext cx="324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667640" y="2492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050920" y="3573360"/>
                <a:ext cx="42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40000" y="5373720"/>
                <a:ext cx="936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808440" y="5300640"/>
                <a:ext cx="1774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Universidad de Chile</cp:lastModifiedBy>
  <dcterms:modified xsi:type="dcterms:W3CDTF">2007-08-04T16:22:06Z</dcterms:modified>
  <cp:revision>11</cp:revision>
  <dc:subject/>
  <dc:title>TEOREMA DE CAUCHY CAUCHY-GOURSAT</dc:title>
</cp:coreProperties>
</file>