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8F0D-44B2-4D51-BD6A-149D2C98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2F5-3EC1-4EAF-B237-BBEC71EF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CC0-A359-43A2-B4EE-15B2537B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939-F737-4A7C-A2D0-DAD4D82DF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5E7F-1338-47C5-A26F-62EAE274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3513-7847-4D69-8AA4-6EE525A8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A37-10C6-4F06-B1C7-6F1B7A19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F8D6-3977-4C2F-804A-139FECA6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790-B2F9-41B2-83DE-876FF8C7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58A-3A2D-499B-9459-A829E38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13DA-6498-48A2-9B91-5C582F29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59AC-ED6E-4FF8-8434-3ABBCB08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CAA4-5509-42A3-982B-381E21C68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10108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19280" y="260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estricción 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5280" y="1219320"/>
            <a:ext cx="17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stas por sent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 ar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14:39:27Z</dcterms:created>
  <dc:creator>cc</dc:creator>
  <dc:description/>
  <dc:language>en-US</dc:language>
  <cp:lastModifiedBy>Cristián Cortés</cp:lastModifiedBy>
  <dcterms:modified xsi:type="dcterms:W3CDTF">2004-09-09T18:48:39Z</dcterms:modified>
  <cp:revision>5</cp:revision>
  <dc:subject/>
  <dc:title>Presentación de PowerPoint</dc:title>
</cp:coreProperties>
</file>