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EDA5-1E93-42DF-B836-BF9AD7E6D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9E86-17D6-41D4-9F4A-B264AD54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7064-3DDB-47AF-A5DF-B1CB21245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4460-48A8-4E6B-8A96-5A647660A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0678-A107-48C0-9178-65EEAFAF9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0BBD-59FD-4DBD-8987-D952A443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E1FB-DA07-4C8E-9B6D-2118BDDA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5ECAF-902B-41A1-BDAE-DA6F4908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9C2A6-711D-4CD3-A856-1DDB56BC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80C9E-0B58-4D5A-B941-2618A932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D36F-E8D6-4906-B343-887A7E28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1F8B-95BD-4C49-A3F6-98798995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98193-EEA0-4DA8-B56C-86ADB827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B992-C24D-4B6C-9D2B-5BDEC52C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2FEE-0068-4FCC-88AC-9CA3887A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C0B8-3DDE-4315-B30A-DEFC838D4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0E66E-3CC0-470D-A7CB-87C178AFD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1028D5-1090-4B51-92DC-1B6EBC88F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1AE92B-FF60-4D7E-AF3C-D3D5CF3D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780C86-176F-438D-BD8B-6D254671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50E381-DC6B-4F7F-9E13-8863C709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308CF9-BCDA-4563-A65D-15861D03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955A-0401-41F3-929A-513F8C71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F1D270-A0EA-487C-B893-C02D7DFD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192FE0-8385-4C8F-948B-8B471D7A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CF799C-B953-4A81-8F0F-9F2A615B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244000-837A-4A2E-AFC2-1108F792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1D78B3-86E6-43DD-A0C5-0410951B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2CC821-FEB8-4D02-8F31-B68253E74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9C811B-6C7D-49AA-8D56-387D9A14C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599D91-603D-4963-ADF2-B5265F660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F3E7E8-B131-4FE9-83A0-3ACB0DA2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B32F99-EF7D-4E50-B711-F9066A4F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2006-772A-4B5B-989A-C5616B52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2D4FD1-3F41-4353-94FE-23D9A373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D82FBF-3D5B-481D-9E14-47386A06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A51C3B-58ED-4E05-A56F-7BF3AA8D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7372CC-E510-4DB2-92D7-4E5A7CE3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088441-7BF3-4959-B2E6-5F254ED4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021423-C755-44B8-8943-C069B628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2066DF-E7E8-4A72-B2B3-194198E0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EE1B9E-7795-48B8-9A2C-96E3059AC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9C8365-588B-4F71-BFF1-98BE1BCEA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3306E8-296F-4D27-BE60-10AE0EAD8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F330-1F1E-47D9-990F-C541A03B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7195BD-E97F-41DD-8198-145DB6B1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98C878-F28A-4CA4-AE9C-BACE13F7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8230CE-9D6C-41BE-A7C1-29A4EBF0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FF7F3E-B65B-4500-80F8-9E82C790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138C38-CFAD-47D2-BFD9-B9CB2880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9CDA3C-0DFB-4862-B3B5-C998186D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6FD4A7-7D47-47FE-B8F7-20C7F7A0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2E2774-1522-4ACA-93B4-669AA738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3A0D2B-DC9A-44D1-9B51-4983E1EA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61ACAB-8179-4388-BE85-89142673C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07D5-6721-4225-8E54-AA82D678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C2B3EF-5C7C-4B23-B172-B54DE7E6B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5C9CB-FD20-4C31-8FF7-06DBBD018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5BF68-7252-429D-A4A4-CC2BA7A4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0BEFF-602B-4ED0-AC50-2FC5B948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E1C73-A6A5-4DB7-B56D-5C0A175B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E47A5-0000-4E68-A5EF-12E42AA2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C7C57-EAF0-41E9-823B-4B9A3CA9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34F5D-E392-44C6-A4F0-DA4F133B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5BB5A-A5BE-4A05-B9E3-2ECB8436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80A34-14C4-4BC2-89A2-6249CB62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5BB7-48FA-430E-9C3B-60018A86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0F049-BA2C-4F0A-A3DA-438B840B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83BB7-215A-47F9-A970-9FAB35E11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9CDCC-AD72-4A87-837A-039208F1E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24E1EC-41B7-46BE-96C9-7F8FCDF9B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9A572E-9AD0-45F9-9D69-D7B0AB5F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3087F3-2DA8-422F-90EF-D163CE76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1D9226-690E-4C3A-8D78-6903FA15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49D587-A0AC-40EE-A6BE-68291B40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7AB2A4-9B2E-4753-90A6-23E69B56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A4A827-34E6-4A96-B26E-71B99474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90B4-54E5-4E44-9C62-5911B9D6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3EC5A4-9186-429B-8E3C-3D6B495B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9A3EC6-8383-43D9-982E-EB160C8C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36FBFB-E739-4C15-AA4C-9BD243E0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350B7A-4448-4625-B13B-3CFE5FE3E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0F5D20-6BD8-4338-94B2-537440241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87F76-E865-4F25-A25B-41D1C129E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6B9B5-FAF4-4AC0-AA14-F839E0CC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A66CC-C82D-4790-8B3C-AB7B29BD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C125F-7598-4D5F-AA07-FF70A7BC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5A2B5-3160-4409-96CD-4399FF2B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8269-4190-4782-BF29-2EB2C509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D62AA-2EFD-426C-9EB1-6724485A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85DE4-99D9-4C55-AA04-8FECB35E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766B6-1BEB-479C-8872-1E8A07FF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F4FA7-CE37-4CA9-A406-B58D33D8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F4C94-A688-4107-8565-FBD80481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A023B-2641-47EA-B89D-26450E694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5BE11-AFF9-4AA9-A8F8-191385AF5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1C30-85ED-4414-A169-E978362B9116}" type="slidenum">
              <a:rPr b="1" lang="es-C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AE9F-5426-493B-BF46-AD5FDF6F5948}" type="slidenum">
              <a:rPr b="1" lang="es-CL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B83F-99B3-4443-9EB4-651B00EBA1F6}" type="slidenum">
              <a:rPr b="1" lang="es-CL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30D2-97FB-4AAC-B831-A8D453B37A01}" type="slidenum">
              <a:rPr b="1" lang="es-C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88C7-DBEC-4DA5-8A5C-71E84E711D88}" type="slidenum">
              <a:rPr b="1" lang="es-C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E8BF-1FEE-4E18-81E0-FD292F098EDF}" type="slidenum">
              <a:rPr b="1" lang="es-CL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3539-E040-489B-8C44-1986A2236FF0}" type="slidenum">
              <a:rPr b="1" lang="es-CL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686D-374D-4071-AF01-04B72A82DA64}" type="slidenum">
              <a:rPr b="1" lang="es-C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Box 3"/>
          <p:cNvSpPr/>
          <p:nvPr/>
        </p:nvSpPr>
        <p:spPr>
          <a:xfrm>
            <a:off x="642960" y="214200"/>
            <a:ext cx="7929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w Cen MT"/>
              </a:rPr>
              <a:t>SD20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w Cen MT"/>
              </a:rPr>
              <a:t>Seminario de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Tw Cen MT"/>
              </a:rPr>
              <a:t>Diseño, construcción y pruebas de motor ciclo Stirling sol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w Cen MT"/>
              </a:rPr>
              <a:t>Auxiliar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775f55"/>
                </a:solidFill>
                <a:latin typeface="Tw Cen MT"/>
              </a:rPr>
              <a:t>Cálculos elementales del moto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9" name="TextBox 4"/>
          <p:cNvSpPr/>
          <p:nvPr/>
        </p:nvSpPr>
        <p:spPr>
          <a:xfrm>
            <a:off x="3929040" y="1714680"/>
            <a:ext cx="4786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Supues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w Cen MT"/>
                <a:ea typeface="Arial"/>
              </a:rPr>
              <a:t>El aire se comporta como gas id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w Cen MT"/>
                <a:ea typeface="Arial"/>
              </a:rPr>
              <a:t>La compresión y la expansión ocurren a temperatura constante (carreras 1-2 y 3-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  <a:ea typeface="Arial"/>
              </a:rPr>
              <a:t>Se puede utilizar hipótesis de que la presión máxima  ocurre en el menor volumen y mayor temperatura, y que la presión mínima ocurre en el punto de mayor volúmen y menor temperat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3" descr=""/>
          <p:cNvPicPr/>
          <p:nvPr/>
        </p:nvPicPr>
        <p:blipFill>
          <a:blip r:embed="rId1"/>
          <a:stretch/>
        </p:blipFill>
        <p:spPr>
          <a:xfrm>
            <a:off x="5357880" y="2357280"/>
            <a:ext cx="1822320" cy="500400"/>
          </a:xfrm>
          <a:prstGeom prst="rect">
            <a:avLst/>
          </a:prstGeom>
          <a:ln w="0">
            <a:noFill/>
          </a:ln>
        </p:spPr>
      </p:pic>
      <p:grpSp>
        <p:nvGrpSpPr>
          <p:cNvPr id="391" name="Group 23"/>
          <p:cNvGrpSpPr/>
          <p:nvPr/>
        </p:nvGrpSpPr>
        <p:grpSpPr>
          <a:xfrm>
            <a:off x="428760" y="2071800"/>
            <a:ext cx="3857400" cy="3354120"/>
            <a:chOff x="428760" y="2071800"/>
            <a:chExt cx="3857400" cy="3354120"/>
          </a:xfrm>
        </p:grpSpPr>
        <p:pic>
          <p:nvPicPr>
            <p:cNvPr id="392" name="Picture 2" descr=""/>
            <p:cNvPicPr/>
            <p:nvPr/>
          </p:nvPicPr>
          <p:blipFill>
            <a:blip r:embed="rId2"/>
            <a:srcRect l="61330" t="12751" r="2512" b="14392"/>
            <a:stretch/>
          </p:blipFill>
          <p:spPr>
            <a:xfrm>
              <a:off x="428760" y="2071800"/>
              <a:ext cx="3857400" cy="33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Straight Connector 7"/>
            <p:cNvSpPr/>
            <p:nvPr/>
          </p:nvSpPr>
          <p:spPr>
            <a:xfrm flipV="1">
              <a:off x="1285920" y="2714400"/>
              <a:ext cx="142560" cy="71280"/>
            </a:xfrm>
            <a:prstGeom prst="line">
              <a:avLst/>
            </a:prstGeom>
            <a:ln w="10080">
              <a:solidFill>
                <a:srgbClr val="94b6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Straight Connector 9"/>
            <p:cNvSpPr/>
            <p:nvPr/>
          </p:nvSpPr>
          <p:spPr>
            <a:xfrm flipV="1">
              <a:off x="1285920" y="2928960"/>
              <a:ext cx="214200" cy="71280"/>
            </a:xfrm>
            <a:prstGeom prst="line">
              <a:avLst/>
            </a:prstGeom>
            <a:ln w="10080">
              <a:solidFill>
                <a:srgbClr val="94b6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Straight Connector 11"/>
            <p:cNvSpPr/>
            <p:nvPr/>
          </p:nvSpPr>
          <p:spPr>
            <a:xfrm flipV="1">
              <a:off x="1214280" y="3142800"/>
              <a:ext cx="500040" cy="214200"/>
            </a:xfrm>
            <a:prstGeom prst="line">
              <a:avLst/>
            </a:prstGeom>
            <a:ln w="10080">
              <a:solidFill>
                <a:srgbClr val="94b6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Straight Connector 13"/>
            <p:cNvSpPr/>
            <p:nvPr/>
          </p:nvSpPr>
          <p:spPr>
            <a:xfrm flipV="1">
              <a:off x="1285920" y="3429000"/>
              <a:ext cx="714240" cy="357120"/>
            </a:xfrm>
            <a:prstGeom prst="line">
              <a:avLst/>
            </a:prstGeom>
            <a:ln w="10080">
              <a:solidFill>
                <a:srgbClr val="94b6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Straight Connector 15"/>
            <p:cNvSpPr/>
            <p:nvPr/>
          </p:nvSpPr>
          <p:spPr>
            <a:xfrm flipV="1">
              <a:off x="1500120" y="3643200"/>
              <a:ext cx="785520" cy="428400"/>
            </a:xfrm>
            <a:prstGeom prst="line">
              <a:avLst/>
            </a:prstGeom>
            <a:ln w="10080">
              <a:solidFill>
                <a:srgbClr val="94b6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Straight Connector 17"/>
            <p:cNvSpPr/>
            <p:nvPr/>
          </p:nvSpPr>
          <p:spPr>
            <a:xfrm flipV="1">
              <a:off x="1928880" y="3857760"/>
              <a:ext cx="571320" cy="428400"/>
            </a:xfrm>
            <a:prstGeom prst="line">
              <a:avLst/>
            </a:prstGeom>
            <a:ln w="10080">
              <a:solidFill>
                <a:srgbClr val="94b6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Straight Connector 19"/>
            <p:cNvSpPr/>
            <p:nvPr/>
          </p:nvSpPr>
          <p:spPr>
            <a:xfrm flipV="1">
              <a:off x="2357640" y="4071960"/>
              <a:ext cx="500040" cy="428400"/>
            </a:xfrm>
            <a:prstGeom prst="line">
              <a:avLst/>
            </a:prstGeom>
            <a:ln w="10080">
              <a:solidFill>
                <a:srgbClr val="94b6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Straight Connector 22"/>
            <p:cNvSpPr/>
            <p:nvPr/>
          </p:nvSpPr>
          <p:spPr>
            <a:xfrm flipV="1">
              <a:off x="2643120" y="4214880"/>
              <a:ext cx="428400" cy="428400"/>
            </a:xfrm>
            <a:prstGeom prst="line">
              <a:avLst/>
            </a:prstGeom>
            <a:ln w="10080">
              <a:solidFill>
                <a:srgbClr val="94b6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TextBox 24"/>
          <p:cNvSpPr/>
          <p:nvPr/>
        </p:nvSpPr>
        <p:spPr>
          <a:xfrm>
            <a:off x="1714680" y="357192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w Cen MT"/>
              </a:rPr>
              <a:t>Procedimiento recomendado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w Cen MT"/>
              </a:rPr>
              <a:t>Darse dimensiones básicas del motor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w Cen MT"/>
              </a:rPr>
              <a:t>Calcular los volúmenes máximo, mínimo y medio de la cámara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Tw Cen MT"/>
              </a:rPr>
              <a:t>Calcular la masa de aire para una temperatura interna media (puede ser 60°C aprox.), R=287[J/(kg°k)]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w Cen MT"/>
              </a:rPr>
              <a:t>Darse temperaturas máximas y mínimas, y calcular las presiones máximas y mínimas de acuerdo a los supuestos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w Cen MT"/>
              </a:rPr>
              <a:t>Calcular el área al interior de la curva, con lo que se obtiene el trabajo en joule [Nm]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w Cen MT"/>
              </a:rPr>
              <a:t>Hacer cálculos en hoja Excel para variar fácilmente los parámetros del motor (diámetro del pistón, largo de la carrera, dimensiones del cigüeñal, etc)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775f55"/>
                </a:solidFill>
                <a:latin typeface="Tw Cen MT"/>
              </a:rPr>
              <a:t>Cálculos elementales del moto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775f55"/>
                </a:solidFill>
                <a:latin typeface="Tw Cen MT"/>
              </a:rPr>
              <a:t>Elementos básicos del moto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52" name="Picture 3" descr="mec_ciguenal-biela01.gif"/>
          <p:cNvPicPr/>
          <p:nvPr/>
        </p:nvPicPr>
        <p:blipFill>
          <a:blip r:embed="rId1"/>
          <a:stretch/>
        </p:blipFill>
        <p:spPr>
          <a:xfrm>
            <a:off x="142920" y="1785960"/>
            <a:ext cx="5019480" cy="35002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escapedos.gif"/>
          <p:cNvPicPr/>
          <p:nvPr/>
        </p:nvPicPr>
        <p:blipFill>
          <a:blip r:embed="rId2"/>
          <a:stretch/>
        </p:blipFill>
        <p:spPr>
          <a:xfrm>
            <a:off x="5286240" y="2214720"/>
            <a:ext cx="2881440" cy="3606480"/>
          </a:xfrm>
          <a:prstGeom prst="rect">
            <a:avLst/>
          </a:prstGeom>
          <a:ln w="0">
            <a:noFill/>
          </a:ln>
        </p:spPr>
      </p:pic>
      <p:cxnSp>
        <p:nvCxnSpPr>
          <p:cNvPr id="354" name="Straight Arrow Connector 6"/>
          <p:cNvCxnSpPr/>
          <p:nvPr/>
        </p:nvCxnSpPr>
        <p:spPr>
          <a:xfrm flipV="1">
            <a:off x="5000400" y="3643200"/>
            <a:ext cx="1215000" cy="643320"/>
          </a:xfrm>
          <a:prstGeom prst="straightConnector1">
            <a:avLst/>
          </a:prstGeom>
          <a:ln w="10080">
            <a:solidFill>
              <a:srgbClr val="331aea"/>
            </a:solidFill>
            <a:miter/>
            <a:tailEnd len="med" type="arrow" w="med"/>
          </a:ln>
        </p:spPr>
      </p:cxnSp>
      <p:cxnSp>
        <p:nvCxnSpPr>
          <p:cNvPr id="355" name="Straight Arrow Connector 8"/>
          <p:cNvCxnSpPr/>
          <p:nvPr/>
        </p:nvCxnSpPr>
        <p:spPr>
          <a:xfrm flipH="1">
            <a:off x="7000560" y="2571840"/>
            <a:ext cx="714960" cy="357840"/>
          </a:xfrm>
          <a:prstGeom prst="straightConnector1">
            <a:avLst/>
          </a:prstGeom>
          <a:ln w="10080">
            <a:solidFill>
              <a:srgbClr val="331aea"/>
            </a:solidFill>
            <a:miter/>
            <a:tailEnd len="med" type="arrow" w="med"/>
          </a:ln>
        </p:spPr>
      </p:cxnSp>
      <p:sp>
        <p:nvSpPr>
          <p:cNvPr id="356" name="TextBox 11"/>
          <p:cNvSpPr/>
          <p:nvPr/>
        </p:nvSpPr>
        <p:spPr>
          <a:xfrm>
            <a:off x="4429080" y="435780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00000"/>
                </a:solidFill>
                <a:latin typeface="Tw Cen MT"/>
              </a:rPr>
              <a:t>pist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12"/>
          <p:cNvSpPr/>
          <p:nvPr/>
        </p:nvSpPr>
        <p:spPr>
          <a:xfrm>
            <a:off x="7786800" y="207180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00000"/>
                </a:solidFill>
                <a:latin typeface="Tw Cen MT"/>
              </a:rPr>
              <a:t>cilind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14"/>
          <p:cNvSpPr/>
          <p:nvPr/>
        </p:nvSpPr>
        <p:spPr>
          <a:xfrm>
            <a:off x="500040" y="5500800"/>
            <a:ext cx="421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8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 : desfase entre cigüeñ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L :  profundidad de las cigüeñ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Desplazador es un pistón que no realiza compre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775f55"/>
                </a:solidFill>
                <a:latin typeface="Tw Cen MT"/>
              </a:rPr>
              <a:t>Funcionamiento de un motor Stirling básico ideal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714240" y="1643040"/>
            <a:ext cx="7778880" cy="33577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5"/>
          <p:cNvSpPr/>
          <p:nvPr/>
        </p:nvSpPr>
        <p:spPr>
          <a:xfrm>
            <a:off x="357120" y="5786280"/>
            <a:ext cx="77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ETAPA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Desplazador quie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Pistó sube comprimiendo el gas al interior de la cáma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2" name="Straight Arrow Connector 6"/>
          <p:cNvCxnSpPr>
            <a:stCxn id="363" idx="1"/>
          </p:cNvCxnSpPr>
          <p:nvPr/>
        </p:nvCxnSpPr>
        <p:spPr>
          <a:xfrm flipH="1" flipV="1">
            <a:off x="1642320" y="2785320"/>
            <a:ext cx="857880" cy="2374200"/>
          </a:xfrm>
          <a:prstGeom prst="straightConnector1">
            <a:avLst/>
          </a:prstGeom>
          <a:ln w="10080">
            <a:solidFill>
              <a:srgbClr val="331aea"/>
            </a:solidFill>
            <a:miter/>
            <a:tailEnd len="med" type="arrow" w="med"/>
          </a:ln>
        </p:spPr>
      </p:cxnSp>
      <p:cxnSp>
        <p:nvCxnSpPr>
          <p:cNvPr id="364" name="Straight Arrow Connector 9"/>
          <p:cNvCxnSpPr>
            <a:stCxn id="365" idx="1"/>
          </p:cNvCxnSpPr>
          <p:nvPr/>
        </p:nvCxnSpPr>
        <p:spPr>
          <a:xfrm flipH="1" flipV="1">
            <a:off x="1785960" y="4000320"/>
            <a:ext cx="643320" cy="1659600"/>
          </a:xfrm>
          <a:prstGeom prst="straightConnector1">
            <a:avLst/>
          </a:prstGeom>
          <a:ln w="10080">
            <a:solidFill>
              <a:srgbClr val="331aea"/>
            </a:solidFill>
            <a:miter/>
            <a:tailEnd len="med" type="arrow" w="med"/>
          </a:ln>
        </p:spPr>
      </p:cxnSp>
      <p:sp>
        <p:nvSpPr>
          <p:cNvPr id="365" name="TextBox 12"/>
          <p:cNvSpPr/>
          <p:nvPr/>
        </p:nvSpPr>
        <p:spPr>
          <a:xfrm>
            <a:off x="2428920" y="5429160"/>
            <a:ext cx="107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00000"/>
                </a:solidFill>
                <a:latin typeface="Tw Cen MT"/>
              </a:rPr>
              <a:t>pist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3"/>
          <p:cNvSpPr/>
          <p:nvPr/>
        </p:nvSpPr>
        <p:spPr>
          <a:xfrm>
            <a:off x="2500200" y="4929120"/>
            <a:ext cx="18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00000"/>
                </a:solidFill>
                <a:latin typeface="Tw Cen MT"/>
              </a:rPr>
              <a:t>desplaz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775f55"/>
                </a:solidFill>
                <a:latin typeface="Tw Cen MT"/>
              </a:rPr>
              <a:t>Funcionamiento de un motor Stirling básico ideal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642960" y="1785960"/>
            <a:ext cx="7929720" cy="3422520"/>
          </a:xfrm>
          <a:prstGeom prst="rect">
            <a:avLst/>
          </a:prstGeom>
          <a:ln w="0">
            <a:noFill/>
          </a:ln>
        </p:spPr>
      </p:pic>
      <p:sp>
        <p:nvSpPr>
          <p:cNvPr id="368" name="TextBox 5"/>
          <p:cNvSpPr/>
          <p:nvPr/>
        </p:nvSpPr>
        <p:spPr>
          <a:xfrm>
            <a:off x="428760" y="55008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ETAPA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Pistón quie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Desplazador baja, fluido se desplaza desde zona fría a zona cal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775f55"/>
                </a:solidFill>
                <a:latin typeface="Tw Cen MT"/>
              </a:rPr>
              <a:t>Funcionamiento de un motor Stirling básico ideal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268200" y="1571760"/>
            <a:ext cx="8607600" cy="3714480"/>
          </a:xfrm>
          <a:prstGeom prst="rect">
            <a:avLst/>
          </a:prstGeom>
          <a:ln w="0">
            <a:noFill/>
          </a:ln>
        </p:spPr>
      </p:pic>
      <p:sp>
        <p:nvSpPr>
          <p:cNvPr id="371" name="TextBox 5"/>
          <p:cNvSpPr/>
          <p:nvPr/>
        </p:nvSpPr>
        <p:spPr>
          <a:xfrm>
            <a:off x="428760" y="55008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ETAPA 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Pistón y desplazador bajan, aumenta el volumen de la cámara, y baja la pre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775f55"/>
                </a:solidFill>
                <a:latin typeface="Tw Cen MT"/>
              </a:rPr>
              <a:t>Funcionamiento de un motor Stirling básico ideal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268200" y="1714680"/>
            <a:ext cx="8710560" cy="3759120"/>
          </a:xfrm>
          <a:prstGeom prst="rect">
            <a:avLst/>
          </a:prstGeom>
          <a:ln w="0">
            <a:noFill/>
          </a:ln>
        </p:spPr>
      </p:pic>
      <p:sp>
        <p:nvSpPr>
          <p:cNvPr id="374" name="TextBox 6"/>
          <p:cNvSpPr/>
          <p:nvPr/>
        </p:nvSpPr>
        <p:spPr>
          <a:xfrm>
            <a:off x="428760" y="55008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ETAPA 4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Pistón quie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Desplazador sube, y el aire pasa de la zona caliente a la zona fr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775f55"/>
                </a:solidFill>
                <a:latin typeface="Tw Cen MT"/>
              </a:rPr>
              <a:t>Funcionamiento de un motor Stirling básico ideal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rcRect l="3072" t="5026" r="3755" b="4512"/>
          <a:stretch/>
        </p:blipFill>
        <p:spPr>
          <a:xfrm>
            <a:off x="1214280" y="1571760"/>
            <a:ext cx="6500880" cy="3857400"/>
          </a:xfrm>
          <a:prstGeom prst="rect">
            <a:avLst/>
          </a:prstGeom>
          <a:ln w="0">
            <a:noFill/>
          </a:ln>
        </p:spPr>
      </p:pic>
      <p:sp>
        <p:nvSpPr>
          <p:cNvPr id="377" name="TextBox 5"/>
          <p:cNvSpPr/>
          <p:nvPr/>
        </p:nvSpPr>
        <p:spPr>
          <a:xfrm>
            <a:off x="1214280" y="171468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6"/>
          <p:cNvSpPr/>
          <p:nvPr/>
        </p:nvSpPr>
        <p:spPr>
          <a:xfrm>
            <a:off x="6500880" y="5286240"/>
            <a:ext cx="21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800" spc="-1" strike="noStrike">
                <a:solidFill>
                  <a:srgbClr val="000000"/>
                </a:solidFill>
                <a:latin typeface="Calibri"/>
              </a:rPr>
              <a:t>ѳ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 ángulo de giro del cigüeñ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7"/>
          <p:cNvSpPr/>
          <p:nvPr/>
        </p:nvSpPr>
        <p:spPr>
          <a:xfrm>
            <a:off x="428760" y="5786280"/>
            <a:ext cx="55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Movimiento discontinuo, imposible desde el punto de vista mecán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775f55"/>
                </a:solidFill>
                <a:latin typeface="Tw Cen MT"/>
              </a:rPr>
              <a:t>Funcionamiento de un motor Stirling básico ideal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1"/>
          <a:srcRect l="1959" t="12833" r="2939" b="5363"/>
          <a:stretch/>
        </p:blipFill>
        <p:spPr>
          <a:xfrm>
            <a:off x="1143000" y="1785960"/>
            <a:ext cx="6929280" cy="3643200"/>
          </a:xfrm>
          <a:prstGeom prst="rect">
            <a:avLst/>
          </a:prstGeom>
          <a:ln w="0">
            <a:noFill/>
          </a:ln>
        </p:spPr>
      </p:pic>
      <p:sp>
        <p:nvSpPr>
          <p:cNvPr id="382" name="TextBox 6"/>
          <p:cNvSpPr/>
          <p:nvPr/>
        </p:nvSpPr>
        <p:spPr>
          <a:xfrm>
            <a:off x="785880" y="16430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7"/>
          <p:cNvSpPr/>
          <p:nvPr/>
        </p:nvSpPr>
        <p:spPr>
          <a:xfrm>
            <a:off x="6715080" y="5357880"/>
            <a:ext cx="21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800" spc="-1" strike="noStrike">
                <a:solidFill>
                  <a:srgbClr val="000000"/>
                </a:solidFill>
                <a:latin typeface="Calibri"/>
              </a:rPr>
              <a:t>ѳ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 ángulo de giro del cigüeñ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8"/>
          <p:cNvSpPr/>
          <p:nvPr/>
        </p:nvSpPr>
        <p:spPr>
          <a:xfrm>
            <a:off x="428760" y="5500800"/>
            <a:ext cx="55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w Cen MT"/>
              </a:rPr>
              <a:t>Se aproxima con dos sinusoidales, desfasadas en 90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775f55"/>
                </a:solidFill>
                <a:latin typeface="Tw Cen MT"/>
              </a:rPr>
              <a:t>Funcionamiento de un motor Stirling básico ideal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4827600" cy="4254480"/>
          </a:xfrm>
          <a:prstGeom prst="rect">
            <a:avLst/>
          </a:prstGeom>
          <a:ln w="0">
            <a:noFill/>
          </a:ln>
        </p:spPr>
      </p:pic>
      <p:sp>
        <p:nvSpPr>
          <p:cNvPr id="387" name="TextBox 6"/>
          <p:cNvSpPr/>
          <p:nvPr/>
        </p:nvSpPr>
        <p:spPr>
          <a:xfrm>
            <a:off x="5357880" y="1928880"/>
            <a:ext cx="3286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w Cen MT"/>
              </a:rPr>
              <a:t>Ciclo aproximado al ide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w Cen MT"/>
              </a:rPr>
              <a:t>Área encerrada es menor, por lo que no se logra obtener el trabajo total ide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0T23:41:07Z</dcterms:created>
  <dc:creator>wodan</dc:creator>
  <dc:description/>
  <dc:language>en-US</dc:language>
  <cp:lastModifiedBy>wodan</cp:lastModifiedBy>
  <dcterms:modified xsi:type="dcterms:W3CDTF">2007-08-21T04:05:21Z</dcterms:modified>
  <cp:revision>29</cp:revision>
  <dc:subject/>
  <dc:title>Slide 1</dc:title>
</cp:coreProperties>
</file>