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089-B9EB-4602-9BC4-77DFBBC4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748-858A-40AA-A0EB-F5434DB2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201-7A5A-4960-9253-492CDA90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D89-08A3-4FB3-9DE6-D0DF420F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FAA0-C829-4130-90D2-2D1C2195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6EA1-7113-4849-B039-F7F46C0F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DEDD-F496-4D48-9C38-47B3361B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7072-E487-45B2-8216-91A71A25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869B-88AE-438D-A8D8-F37D90B8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CBE5-12C4-499A-A083-BE7E6955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4350-3A02-4AA8-9E53-51015BED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8BE-5F74-4143-B309-4758B236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065C-F3EA-4590-91A4-3A97D5AD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0108-33BC-47E2-BA97-E39D2BCB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FFAC-230F-41AE-B523-B123E084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6751-BCF6-44BA-B9A4-0F1BECF3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AAE0-21BB-42C3-8809-62F17EEC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45C73-BCE3-4D6F-8ADC-D86297F8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B56D6-58F6-41A4-B882-63129469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4D34E-5730-4D13-91A4-29B536E9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BA3B6-3B94-441A-8803-6ECF4107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940B7-BBFA-4B48-8781-02EC601B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64D-A561-4DDB-A436-D4C9A3FC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4E46F-AD5A-400F-A0FD-1FBAD2C2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346D7-EE94-474C-824C-BD8FC396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626E6-76E4-4F5C-B052-E241A82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8C068-6E95-488A-B4E6-F464240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193D0-F397-43AE-B7B5-07DF5FA5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AB962-F633-4708-864D-FCA67F18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4A603-9A9A-4406-8FAC-AB692725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F00C8-88D8-4757-8458-83E66BF4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DB26E5-8674-4C71-9EC7-CF1C1E55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CE279-C689-4218-8CEB-295DE161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381-EAE3-4F55-928B-7D1ACBC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91FF6-919E-4FD8-9050-C62F1F84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9063B-7C5A-4525-A89E-5ED01D94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9287E-D06A-455B-A365-CA23144A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58B4E-24BC-4487-BFFB-AEAB95B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D6281-435D-4BE4-8942-C2B15E1B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7A4C1-3F68-4531-848D-E3E0EDA9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20A49-4A7F-4867-AAF0-AEFCE2CB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5E349-25C7-44B5-AB10-2156504F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E2359-BC79-4072-AA1B-F5D3BD04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69AFA-3E18-483C-93AF-E3DA0DB2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EA2-F4FE-4949-A4C6-C2D886E6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17707-CF10-4487-8373-191464D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AC1CC-DF36-49E1-95FB-63619BB9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A81BA-2059-4BDA-B058-9044A0F5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BB060-74AA-4B49-BC83-549D2710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5D732-2C17-47AF-AC14-FCC456CF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0F017-0748-4548-8750-E41A830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07573-1CED-4E0A-994B-B043649E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BA576-AA6A-4934-BD65-6613483C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61D9C-052B-4F58-878D-E7A43E4F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C9F63-E786-4A19-A00E-F3B43103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5CC-FD03-4D89-9DE1-89BBB484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5938F-1DFC-42F3-B385-197EDDE6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36374-81B6-44E6-BC14-C2409FEF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3C2E4-A6DD-4C89-91C8-7A5C9A8C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C228-2344-4EC4-94E1-6CD2040F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878C2-A823-4B89-9DB2-0F163B98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CF04-D160-44C7-A2C6-2E255A85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4A95-7ACC-484C-9262-959A9FC0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D45A-A348-425C-A2E1-FB4C98DF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00214-146D-4304-A6A3-35214C2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E619-94BC-4AE0-9FF7-D5608470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605-0E60-4A9C-A6A7-181DF215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DE04D-4E31-4FCD-8F67-D243B3DB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8355-62D9-4861-A289-926CBFBF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AF09-D243-4358-A5D8-5F14820A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C614C-DB51-4CE1-8E0D-65E079BB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3A982-0B80-45D7-B9CD-E06F7E4C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65253-7CD6-4C19-9846-3C4DDA0E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DA6AD-1459-4F92-8614-1958A483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0EED3-07F7-40DB-B38A-B9CE8835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0D881-9E79-4E18-9925-D527ADBD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C6663D-E410-4FD4-ADEE-9D082A39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EF3-538C-4FFE-B38B-8F1390AA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26464-0415-4302-97E2-270FAB34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F05EF-DBCB-46CF-9D2F-1FCCC46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DC339-8424-45B2-86EB-D6D62D67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148D6-FD5E-4873-84BE-2A897A32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1B5F0-4D82-4CB3-8C2A-10BCD897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AEE76-C667-4268-BC02-C2F60C07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A9456-9B6F-4BC0-9843-1F63C605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67948-57FB-48E2-A775-015FE13B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269FC-7E56-490F-B029-293BBF72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0219-663F-45D1-83B9-47FBCFB6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B24-6622-4EC0-91AA-B475F24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28002-0DCA-451C-AD1E-EA03B737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5AA9B-E2A3-4C46-BE2C-1F9756A6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B5818-BD44-445B-BE3B-878FEC64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5A9EF-0C3E-4B2E-8A77-2102BA7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CB030-4A11-4201-8F24-5EEC69DF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0A025-63CC-45FF-BA6F-00E6042F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A62A4-F25A-4343-A641-01A38CC5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B6E4-26A6-454A-BC2F-0256400F1B93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1FE9-F2DC-400C-8AB4-794E94E3DEB3}" type="slidenum">
              <a:rPr b="1" lang="es-C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94A2-D937-4565-961F-2219D9A8C4B1}" type="slidenum">
              <a:rPr b="1" lang="es-C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DDE4-217F-42F8-9D6A-0382B1314421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73C9-CECE-4D37-ABC0-FC969F402B50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F6A5-8F52-4333-AD61-D4C2A4E65379}" type="slidenum">
              <a:rPr b="1" lang="es-C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7307-6FA0-476C-B331-4F515F751983}" type="slidenum">
              <a:rPr b="1" lang="es-C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F1E2-5B80-4C40-B25C-58D3919DFEF1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642960" y="21420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SD2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Seminari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Diseño, construcción y pruebas de motor ciclo Stirling so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Auxili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Cálculos elementale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3929040" y="1714680"/>
            <a:ext cx="47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El aire se comporta como gas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La compresión y la expansión ocurren a temperatura constante (carreras 1-2 y 3-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Se puede utilizar hipótesis de que la presión máxima  ocurre en el menor volumen y mayor temperatura, y que la presión mínima ocurre en el punto de mayor volúmen y menor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5357880" y="2357280"/>
            <a:ext cx="1822320" cy="5004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23"/>
          <p:cNvGrpSpPr/>
          <p:nvPr/>
        </p:nvGrpSpPr>
        <p:grpSpPr>
          <a:xfrm>
            <a:off x="428760" y="2071800"/>
            <a:ext cx="3857400" cy="3354120"/>
            <a:chOff x="428760" y="2071800"/>
            <a:chExt cx="3857400" cy="3354120"/>
          </a:xfrm>
        </p:grpSpPr>
        <p:pic>
          <p:nvPicPr>
            <p:cNvPr id="392" name="Picture 2" descr=""/>
            <p:cNvPicPr/>
            <p:nvPr/>
          </p:nvPicPr>
          <p:blipFill>
            <a:blip r:embed="rId2"/>
            <a:srcRect l="61330" t="12751" r="2512" b="14392"/>
            <a:stretch/>
          </p:blipFill>
          <p:spPr>
            <a:xfrm>
              <a:off x="428760" y="2071800"/>
              <a:ext cx="385740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Straight Connector 7"/>
            <p:cNvSpPr/>
            <p:nvPr/>
          </p:nvSpPr>
          <p:spPr>
            <a:xfrm flipV="1">
              <a:off x="1285920" y="2714400"/>
              <a:ext cx="142560" cy="7128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traight Connector 9"/>
            <p:cNvSpPr/>
            <p:nvPr/>
          </p:nvSpPr>
          <p:spPr>
            <a:xfrm flipV="1">
              <a:off x="1285920" y="2928960"/>
              <a:ext cx="214200" cy="7128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traight Connector 11"/>
            <p:cNvSpPr/>
            <p:nvPr/>
          </p:nvSpPr>
          <p:spPr>
            <a:xfrm flipV="1">
              <a:off x="1214280" y="3142800"/>
              <a:ext cx="500040" cy="2142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traight Connector 13"/>
            <p:cNvSpPr/>
            <p:nvPr/>
          </p:nvSpPr>
          <p:spPr>
            <a:xfrm flipV="1">
              <a:off x="1285920" y="3429000"/>
              <a:ext cx="714240" cy="35712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5"/>
            <p:cNvSpPr/>
            <p:nvPr/>
          </p:nvSpPr>
          <p:spPr>
            <a:xfrm flipV="1">
              <a:off x="1500120" y="3643200"/>
              <a:ext cx="78552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7"/>
            <p:cNvSpPr/>
            <p:nvPr/>
          </p:nvSpPr>
          <p:spPr>
            <a:xfrm flipV="1">
              <a:off x="1928880" y="3857760"/>
              <a:ext cx="57132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19"/>
            <p:cNvSpPr/>
            <p:nvPr/>
          </p:nvSpPr>
          <p:spPr>
            <a:xfrm flipV="1">
              <a:off x="2357640" y="4071960"/>
              <a:ext cx="50004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22"/>
            <p:cNvSpPr/>
            <p:nvPr/>
          </p:nvSpPr>
          <p:spPr>
            <a:xfrm flipV="1">
              <a:off x="2643120" y="4214880"/>
              <a:ext cx="42840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24"/>
          <p:cNvSpPr/>
          <p:nvPr/>
        </p:nvSpPr>
        <p:spPr>
          <a:xfrm>
            <a:off x="171468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Procedimiento recomendado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arse dimensiones básicas del moto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los volúmenes máximo, mínimo y medio de la cámar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la masa de aire para una temperatura interna media (puede ser 60°C aprox.), R=287[J/(kg°k)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arse temperaturas máximas y mínimas, y calcular las presiones máximas y mínimas de acuerdo a los supuesto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el área al interior de la curva, con lo que se obtiene el trabajo en joule [Nm]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Hacer cálculos en hoja Excel para variar fácilmente los parámetros del motor (diámetro del pistón, largo de la carrera, dimensiones del cigüeñal, etc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Cálculos elementale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Elementos básico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2" name="Picture 3" descr="mec_ciguenal-biela01.gif"/>
          <p:cNvPicPr/>
          <p:nvPr/>
        </p:nvPicPr>
        <p:blipFill>
          <a:blip r:embed="rId1"/>
          <a:stretch/>
        </p:blipFill>
        <p:spPr>
          <a:xfrm>
            <a:off x="142920" y="1785960"/>
            <a:ext cx="5019480" cy="3500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escapedos.gif"/>
          <p:cNvPicPr/>
          <p:nvPr/>
        </p:nvPicPr>
        <p:blipFill>
          <a:blip r:embed="rId2"/>
          <a:stretch/>
        </p:blipFill>
        <p:spPr>
          <a:xfrm>
            <a:off x="5286240" y="2214720"/>
            <a:ext cx="2881440" cy="3606480"/>
          </a:xfrm>
          <a:prstGeom prst="rect">
            <a:avLst/>
          </a:prstGeom>
          <a:ln w="0">
            <a:noFill/>
          </a:ln>
        </p:spPr>
      </p:pic>
      <p:cxnSp>
        <p:nvCxnSpPr>
          <p:cNvPr id="354" name="Straight Arrow Connector 6"/>
          <p:cNvCxnSpPr/>
          <p:nvPr/>
        </p:nvCxnSpPr>
        <p:spPr>
          <a:xfrm flipV="1">
            <a:off x="5000400" y="3643200"/>
            <a:ext cx="1215000" cy="64332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cxnSp>
        <p:nvCxnSpPr>
          <p:cNvPr id="355" name="Straight Arrow Connector 8"/>
          <p:cNvCxnSpPr/>
          <p:nvPr/>
        </p:nvCxnSpPr>
        <p:spPr>
          <a:xfrm flipH="1">
            <a:off x="7000560" y="2571840"/>
            <a:ext cx="714960" cy="35784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sp>
        <p:nvSpPr>
          <p:cNvPr id="356" name="TextBox 11"/>
          <p:cNvSpPr/>
          <p:nvPr/>
        </p:nvSpPr>
        <p:spPr>
          <a:xfrm>
            <a:off x="4429080" y="4357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pis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778680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cilin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500040" y="550080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: desfase entre cigüe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 :  profundidad de las cigüe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splazador es un pistón que no realiza com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7778880" cy="33577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357120" y="57862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 sube comprimiendo el gas al interior de la cám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6"/>
          <p:cNvCxnSpPr>
            <a:stCxn id="363" idx="1"/>
          </p:cNvCxnSpPr>
          <p:nvPr/>
        </p:nvCxnSpPr>
        <p:spPr>
          <a:xfrm flipH="1" flipV="1">
            <a:off x="1642320" y="2785320"/>
            <a:ext cx="857880" cy="237420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cxnSp>
        <p:nvCxnSpPr>
          <p:cNvPr id="364" name="Straight Arrow Connector 9"/>
          <p:cNvCxnSpPr>
            <a:stCxn id="365" idx="1"/>
          </p:cNvCxnSpPr>
          <p:nvPr/>
        </p:nvCxnSpPr>
        <p:spPr>
          <a:xfrm flipH="1" flipV="1">
            <a:off x="1785960" y="4000320"/>
            <a:ext cx="643320" cy="165960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sp>
        <p:nvSpPr>
          <p:cNvPr id="365" name="TextBox 12"/>
          <p:cNvSpPr/>
          <p:nvPr/>
        </p:nvSpPr>
        <p:spPr>
          <a:xfrm>
            <a:off x="2428920" y="5429160"/>
            <a:ext cx="10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pis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2500200" y="4929120"/>
            <a:ext cx="18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despla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929720" cy="34225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5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baja, fluido se desplaza desde zona fría a zona ca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68200" y="1571760"/>
            <a:ext cx="8607600" cy="37144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y desplazador bajan, aumenta el volumen de la cámara, y baja la 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68200" y="1714680"/>
            <a:ext cx="8710560" cy="37591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6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sube, y el aire pasa de la zona caliente a la zona f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3072" t="5026" r="3755" b="4512"/>
          <a:stretch/>
        </p:blipFill>
        <p:spPr>
          <a:xfrm>
            <a:off x="1214280" y="1571760"/>
            <a:ext cx="6500880" cy="38574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1214280" y="17146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6500880" y="52862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ángulo de giro del cigüeñ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428760" y="578628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Movimiento discontinuo, imposible desde el punto de vista mec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1959" t="12833" r="2939" b="5363"/>
          <a:stretch/>
        </p:blipFill>
        <p:spPr>
          <a:xfrm>
            <a:off x="1143000" y="1785960"/>
            <a:ext cx="6929280" cy="3643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785880" y="16430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6715080" y="53578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ángulo de giro del cigüeñ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428760" y="550080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Se aproxima con dos sinusoidales, desfasadas en 9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827600" cy="42544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5357880" y="192888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w Cen MT"/>
              </a:rPr>
              <a:t>Ciclo aproximado al id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w Cen MT"/>
              </a:rPr>
              <a:t>Área encerrada es menor, por lo que no se logra obtener el trabajo total id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23:41:07Z</dcterms:created>
  <dc:creator>wodan</dc:creator>
  <dc:description/>
  <dc:language>en-US</dc:language>
  <cp:lastModifiedBy>wodan</cp:lastModifiedBy>
  <dcterms:modified xsi:type="dcterms:W3CDTF">2007-08-21T04:05:21Z</dcterms:modified>
  <cp:revision>29</cp:revision>
  <dc:subject/>
  <dc:title>Slide 1</dc:title>
</cp:coreProperties>
</file>