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850-D616-48B0-B14D-64C475C1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AEC-FE36-4867-A798-9A193968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975-3AA2-4C30-8B94-BA3B606F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3E2-5B03-49C9-A1AC-7E0FE97E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4B7F-27F0-475B-BD98-767C7DB9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4D9B-6B98-48D1-B10E-10825186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2A0F-CD5A-46B7-9E93-AF25BBBC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9052-A045-4436-8069-1D64B707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CB9A-8EDB-493C-8702-2CAE824A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0032-2623-475D-A934-A96F51A3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B89E-9397-4653-8283-1A888AD1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291-354E-4C5E-8B50-3EDBC14E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1F8B-F593-4367-9539-7E0F7FD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3F03-08BB-4D1F-A6C3-FFBB4376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AAB4-9195-466C-BBA5-437D2335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2651-B74B-4FDE-8C77-C9AAA50D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E506-0FF5-4D35-9C8C-A84BD0B1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12292-5AA4-441D-A23E-1013A9BC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D9453-7F18-4BAB-96A3-148D604B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810BF-4304-4DF2-A7E6-E6A3406A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BFA36-EFB3-4449-8424-D2199021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CF2BF-B4B8-4182-A788-B1FE09ED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48E-1F70-44B4-9A85-306F8A25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94D4C-B36C-4DDD-9B49-9C07E266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4EC5D-0A35-46C5-B5BE-B3E7D131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35FFB-0C45-4110-8F6C-A787682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10ADF-63F1-44EE-97BF-FD918668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43A85-C2D7-4C9A-B906-9C1BB5C4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F7D39-382E-40BA-AE31-16D0A531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1166D-D431-45A8-8C5C-A9516A74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0FC47-F365-473E-B986-5A279D0C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E574E-D65C-48FA-87D5-879EB800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B6BF3-C04D-4105-A387-A60BE2BE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8B8-D476-48D3-8E6F-A1F94F22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7BED6-282C-4B2B-935E-1F88265F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14611-2222-4C03-A297-704D5552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2BEB1-710C-41AE-BA36-97EC3277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3F242-FDFC-48F8-90B6-F5781F78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F2696-EDB1-4126-8427-8926EE4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8F074-96AB-405C-818D-F4A5F7D0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02A39-19C2-48AD-86D7-EDAB79D2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5DD2C-00BD-472F-9C09-64416073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0856D-34E6-4F6B-9D53-280C8E2A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6A1AE-6667-4BE8-8636-FE32642C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491-1C82-4A38-8EBE-D3BDD723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669FF-1C78-48F8-8796-174431D2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D305E-0925-47C2-B9DF-F77FAE77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35F89-4BC1-4A71-B25F-1A179760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09ED4-2C88-4292-8A42-4C5B1A5A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735D6-F3AC-455A-9264-8EEDC7B2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C1455-A1F8-4512-B57B-8C01E26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13A63-B4B9-4CA5-84FB-8A4CE7D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67335-F3D5-4291-979D-F614D0F3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C3C60-CF4E-4BFB-A5B6-D5C0CCD9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85EE9-5F8C-4CED-AE8C-F3510C99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A3D-3680-4FC5-94CB-FD9F9CC5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86FB3-A10C-44B4-94ED-F6F5B85B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FEDA8-B2E5-47BC-98A7-85C1E3E6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9A82-69DD-4FAB-8CF8-6BC32F8C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F517-2449-42F8-9609-7376C78F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3C0E7-1D1B-4386-BFF4-FF6C9794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1C01F-80EF-4867-9E27-55A044CB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3BA4-C258-4620-824E-544D1A4C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A24F-CE9E-46DC-B3FE-9EE838E6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E8EF8-BA94-4674-AD98-E6D9E385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ACFC-B4D5-484F-AE36-C339C4A1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EE1-C751-4ED6-BCB1-9EEBFD9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C41D-3231-4899-AD58-63606D5E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CF71E-61C7-4440-92ED-5F7D433B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03190-E079-42AA-A9D8-A93E654D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6FA47-3337-4990-A649-E9B18B97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4EB29-BD8B-4C4E-A206-254CBED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F85FE-D33A-4FCF-9D6E-239B896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A627C-E408-4EDB-A482-3CA4A313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BAFA0-8FCA-4F0E-AF8B-42F89F15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88585-2EE2-43E4-BE6A-21826307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7F618-2F31-402E-B806-049E2A90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22F-0628-406A-BF24-A46F4E8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7677F-6208-472B-A226-18D5A3D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710F5-6975-4BB1-A357-D02B1ECF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E0E9A-DA4E-4E2F-AC2A-7E91964D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F64CC-B496-4CAE-B928-1F5EE5F9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76939-8732-4BC4-8659-632BA866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2BC0B-4A18-4AB4-8DCA-FE386537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A1D3A-FCA0-418B-8530-C817F20F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8C89-056F-4443-AB0A-3852D5DA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72139-3EBD-46FC-BB00-480EBC47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CEA06-F707-4ED9-B42E-2E0DB8F7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43D-5756-4D23-9889-CC8077BF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A04CA-A7FE-46FF-A698-925873E7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6F826-FAA4-4733-9082-A4D5076E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8A960-B224-4ABD-8E38-CBF8751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E549F-6FAD-42B9-A2AC-A0DD577C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AA17A-9B7D-478A-BC02-4EB38AE0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73CDD-12BE-4817-9EF0-CF7E531B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4AABE-96FA-442E-BE63-02AC798A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1B09-ED09-458B-9306-B4DDCEBDEAF8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E99C-69D5-43C2-B7EA-B82009386D8B}" type="slidenum">
              <a:rPr b="1" lang="es-C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626F-A7E4-426E-93D7-132A4FD3A3F4}" type="slidenum">
              <a:rPr b="1" lang="es-C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0ACC-D2DA-49B3-A96C-04DE01B8FF1D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2C84-B0DB-4133-AC54-3D3730A8ACBE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8C78-66A8-4194-B25E-6D8B1B5DDF92}" type="slidenum">
              <a:rPr b="1" lang="es-C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EBD-A5C9-4B53-843B-04EFF1094A4E}" type="slidenum">
              <a:rPr b="1" lang="es-C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E31A-2E42-48F0-B02F-ADA5DF11597B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642960" y="21420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SD2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Seminari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Diseño, construcción y pruebas de motor ciclo Stirling so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Auxili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Cálculos elementale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3929040" y="1714680"/>
            <a:ext cx="47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El aire se comporta como gas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La compresión y la expansión ocurren a temperatura constante (carreras 1-2 y 3-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Se puede utilizar hipótesis de que la presión máxima  ocurre en el menor volumen y mayor temperatura, y que la presión mínima ocurre en el punto de mayor volúmen y menor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5357880" y="2357280"/>
            <a:ext cx="1822320" cy="5004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23"/>
          <p:cNvGrpSpPr/>
          <p:nvPr/>
        </p:nvGrpSpPr>
        <p:grpSpPr>
          <a:xfrm>
            <a:off x="428760" y="2071800"/>
            <a:ext cx="3857400" cy="3354120"/>
            <a:chOff x="428760" y="2071800"/>
            <a:chExt cx="3857400" cy="3354120"/>
          </a:xfrm>
        </p:grpSpPr>
        <p:pic>
          <p:nvPicPr>
            <p:cNvPr id="392" name="Picture 2" descr=""/>
            <p:cNvPicPr/>
            <p:nvPr/>
          </p:nvPicPr>
          <p:blipFill>
            <a:blip r:embed="rId2"/>
            <a:srcRect l="61330" t="12751" r="2512" b="14392"/>
            <a:stretch/>
          </p:blipFill>
          <p:spPr>
            <a:xfrm>
              <a:off x="428760" y="2071800"/>
              <a:ext cx="385740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Straight Connector 7"/>
            <p:cNvSpPr/>
            <p:nvPr/>
          </p:nvSpPr>
          <p:spPr>
            <a:xfrm flipV="1">
              <a:off x="1285920" y="2714400"/>
              <a:ext cx="142560" cy="7128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traight Connector 9"/>
            <p:cNvSpPr/>
            <p:nvPr/>
          </p:nvSpPr>
          <p:spPr>
            <a:xfrm flipV="1">
              <a:off x="1285920" y="2928960"/>
              <a:ext cx="214200" cy="7128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traight Connector 11"/>
            <p:cNvSpPr/>
            <p:nvPr/>
          </p:nvSpPr>
          <p:spPr>
            <a:xfrm flipV="1">
              <a:off x="1214280" y="3142800"/>
              <a:ext cx="500040" cy="2142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traight Connector 13"/>
            <p:cNvSpPr/>
            <p:nvPr/>
          </p:nvSpPr>
          <p:spPr>
            <a:xfrm flipV="1">
              <a:off x="1285920" y="3429000"/>
              <a:ext cx="714240" cy="35712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5"/>
            <p:cNvSpPr/>
            <p:nvPr/>
          </p:nvSpPr>
          <p:spPr>
            <a:xfrm flipV="1">
              <a:off x="1500120" y="3643200"/>
              <a:ext cx="78552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7"/>
            <p:cNvSpPr/>
            <p:nvPr/>
          </p:nvSpPr>
          <p:spPr>
            <a:xfrm flipV="1">
              <a:off x="1928880" y="3857760"/>
              <a:ext cx="57132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19"/>
            <p:cNvSpPr/>
            <p:nvPr/>
          </p:nvSpPr>
          <p:spPr>
            <a:xfrm flipV="1">
              <a:off x="2357640" y="4071960"/>
              <a:ext cx="50004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22"/>
            <p:cNvSpPr/>
            <p:nvPr/>
          </p:nvSpPr>
          <p:spPr>
            <a:xfrm flipV="1">
              <a:off x="2643120" y="4214880"/>
              <a:ext cx="42840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24"/>
          <p:cNvSpPr/>
          <p:nvPr/>
        </p:nvSpPr>
        <p:spPr>
          <a:xfrm>
            <a:off x="171468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Procedimiento recomendado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arse dimensiones básicas del moto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los volúmenes máximo, mínimo y medio de la cámar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la masa de aire para una temperatura interna media (puede ser 60°C aprox.), R=287[J/(kg°k)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arse temperaturas máximas y mínimas, y calcular las presiones máximas y mínimas de acuerdo a los supuesto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el área al interior de la curva, con lo que se obtiene el trabajo en joule [Nm]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Hacer cálculos en hoja Excel para variar fácilmente los parámetros del motor (diámetro del pistón, largo de la carrera, dimensiones del cigüeñal, etc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Cálculos elementale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Elementos básico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2" name="Picture 3" descr="mec_ciguenal-biela01.gif"/>
          <p:cNvPicPr/>
          <p:nvPr/>
        </p:nvPicPr>
        <p:blipFill>
          <a:blip r:embed="rId1"/>
          <a:stretch/>
        </p:blipFill>
        <p:spPr>
          <a:xfrm>
            <a:off x="142920" y="1785960"/>
            <a:ext cx="5019480" cy="3500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escapedos.gif"/>
          <p:cNvPicPr/>
          <p:nvPr/>
        </p:nvPicPr>
        <p:blipFill>
          <a:blip r:embed="rId2"/>
          <a:stretch/>
        </p:blipFill>
        <p:spPr>
          <a:xfrm>
            <a:off x="5286240" y="2214720"/>
            <a:ext cx="2881440" cy="3606480"/>
          </a:xfrm>
          <a:prstGeom prst="rect">
            <a:avLst/>
          </a:prstGeom>
          <a:ln w="0">
            <a:noFill/>
          </a:ln>
        </p:spPr>
      </p:pic>
      <p:cxnSp>
        <p:nvCxnSpPr>
          <p:cNvPr id="354" name="Straight Arrow Connector 6"/>
          <p:cNvCxnSpPr/>
          <p:nvPr/>
        </p:nvCxnSpPr>
        <p:spPr>
          <a:xfrm flipV="1">
            <a:off x="5000400" y="3643200"/>
            <a:ext cx="1215000" cy="64332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cxnSp>
        <p:nvCxnSpPr>
          <p:cNvPr id="355" name="Straight Arrow Connector 8"/>
          <p:cNvCxnSpPr/>
          <p:nvPr/>
        </p:nvCxnSpPr>
        <p:spPr>
          <a:xfrm flipH="1">
            <a:off x="7000560" y="2571840"/>
            <a:ext cx="714960" cy="35784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sp>
        <p:nvSpPr>
          <p:cNvPr id="356" name="TextBox 11"/>
          <p:cNvSpPr/>
          <p:nvPr/>
        </p:nvSpPr>
        <p:spPr>
          <a:xfrm>
            <a:off x="4429080" y="4357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pis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778680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cilin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500040" y="550080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: desfase entre cigüe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 :  profundidad de las cigüe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splazador es un pistón que no realiza com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7778880" cy="33577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357120" y="57862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 sube comprimiendo el gas al interior de la cám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6"/>
          <p:cNvCxnSpPr>
            <a:stCxn id="363" idx="1"/>
          </p:cNvCxnSpPr>
          <p:nvPr/>
        </p:nvCxnSpPr>
        <p:spPr>
          <a:xfrm flipH="1" flipV="1">
            <a:off x="1642320" y="2785320"/>
            <a:ext cx="857880" cy="237420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cxnSp>
        <p:nvCxnSpPr>
          <p:cNvPr id="364" name="Straight Arrow Connector 9"/>
          <p:cNvCxnSpPr>
            <a:stCxn id="365" idx="1"/>
          </p:cNvCxnSpPr>
          <p:nvPr/>
        </p:nvCxnSpPr>
        <p:spPr>
          <a:xfrm flipH="1" flipV="1">
            <a:off x="1785960" y="4000320"/>
            <a:ext cx="643320" cy="165960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sp>
        <p:nvSpPr>
          <p:cNvPr id="365" name="TextBox 12"/>
          <p:cNvSpPr/>
          <p:nvPr/>
        </p:nvSpPr>
        <p:spPr>
          <a:xfrm>
            <a:off x="2428920" y="5429160"/>
            <a:ext cx="10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pis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2500200" y="4929120"/>
            <a:ext cx="18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despla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929720" cy="34225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5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baja, fluido se desplaza desde zona fría a zona ca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68200" y="1571760"/>
            <a:ext cx="8607600" cy="37144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y desplazador bajan, aumenta el volumen de la cámara, y baja la 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68200" y="1714680"/>
            <a:ext cx="8710560" cy="37591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6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sube, y el aire pasa de la zona caliente a la zona f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3072" t="5026" r="3755" b="4512"/>
          <a:stretch/>
        </p:blipFill>
        <p:spPr>
          <a:xfrm>
            <a:off x="1214280" y="1571760"/>
            <a:ext cx="6500880" cy="38574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1214280" y="17146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6500880" y="52862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ángulo de giro del cigüeñ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428760" y="578628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Movimiento discontinuo, imposible desde el punto de vista mec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1959" t="12833" r="2939" b="5363"/>
          <a:stretch/>
        </p:blipFill>
        <p:spPr>
          <a:xfrm>
            <a:off x="1143000" y="1785960"/>
            <a:ext cx="6929280" cy="3643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785880" y="16430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6715080" y="53578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ángulo de giro del cigüeñ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428760" y="550080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Se aproxima con dos sinusoidales, desfasadas en 9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827600" cy="42544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5357880" y="192888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w Cen MT"/>
              </a:rPr>
              <a:t>Ciclo aproximado al id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w Cen MT"/>
              </a:rPr>
              <a:t>Área encerrada es menor, por lo que no se logra obtener el trabajo total id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23:41:07Z</dcterms:created>
  <dc:creator>wodan</dc:creator>
  <dc:description/>
  <dc:language>en-US</dc:language>
  <cp:lastModifiedBy>wodan</cp:lastModifiedBy>
  <dcterms:modified xsi:type="dcterms:W3CDTF">2007-08-21T04:05:21Z</dcterms:modified>
  <cp:revision>29</cp:revision>
  <dc:subject/>
  <dc:title>Slide 1</dc:title>
</cp:coreProperties>
</file>