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531-3C72-4DF0-A1D8-5BAD60B6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F14-F767-4B88-97A1-6C650F2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893-B056-47EB-BA50-CDECD061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650-38C4-498D-AC1C-BACF5DEF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56E1-55B1-40BA-BEAB-D188284B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FA92-078C-4C7D-9FFA-03B3CC9C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5B3F-7C0E-414E-A024-129465AE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148-57F9-4120-8DFB-7C6B17B4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D715-FA14-492C-B0FF-FD89C35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39DC-4990-4AE7-A1E7-4E08FDDC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608E-21F3-449E-8DED-7B6B69A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956-0D73-4ACA-932B-DB42577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47A9-991C-4CCE-BF2B-2D8AD20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14B1-01A0-4ECA-861A-28F3813E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D498-0F4F-4091-949A-0B76454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A0FB-EEFA-41B5-AD3D-3092C2E8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C1F7-227B-4D47-AE41-C95A8403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0AB3-E2F4-45E0-B6C0-15B29C56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0C984-32B1-45B4-BAC5-7F93C6A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429D2-DDD7-4A2F-8586-6B46C4E6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903DA-D53B-4BF0-BFC3-7E7E9CD5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D329A-8380-40B1-92CD-9DA21FA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870-475F-4759-8295-DA909EB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BFF25-CD26-4C6B-BB7A-C5F670BC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296CA-B43A-4656-A3E3-061C129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39419-69C6-40AA-BC10-58A8E6C1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175BB-DAD8-4AB3-80A8-EF10017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0384D-813C-4E2F-A64C-E7E3D4A9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07287-476A-4D0C-B2E0-993580DD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E7160-66D4-4588-9A7C-9A9B98DE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B5E97-ECEF-4095-B3B0-EBC4E955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6B89C-6507-4D89-9935-2600AA4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E0B07-658C-4EED-832D-6193CAEC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C0B-10FA-4323-BA69-0966132A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38203-C87B-4F69-88CF-55A6C56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9339C-3EE1-423A-845C-08B13AD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E02F5-8E2F-4ACF-8A01-6E97D18E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93E38-38B5-43E7-8C81-9A7C518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B176E-09A7-4573-BA97-6EE14F2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9C8AA-0933-4842-9BF5-DA89D3B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7BF3F-CBEF-4574-A43D-0C30F2F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E5610-ED0A-4817-BCA4-343528A3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E9200-0A31-492F-BE4C-707B761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65D07-FF9B-454E-8CB3-05FB6B14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408-F4B4-4065-8E8F-7D91A904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D3124-CEAC-4E06-A809-DCCB931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D1B38-958F-4FAB-B8A5-12CD7C53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C3D9C-33FC-4F50-8BC1-189EAB1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4CC86-155D-4DF0-AE7E-744E019A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94444-4E02-42DE-884A-BD2EB505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F2BAB-4FB7-4C46-8E31-342FB88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6F63B-7A47-4697-9F01-AD54D2B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BF347-E227-44FF-96FA-C848986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C6716-D674-4E8F-9ED8-A67670E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13D0A-8682-40D7-84E1-554F588E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665-9F4A-4CA1-97E0-2170123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2022D-191E-47BA-A0D7-69395E9B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D7493-8A35-401E-AC16-E908F853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A68B-4EBF-4DFF-985A-DAF50FA1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5B7D8-6C07-4CFC-92CA-112CB1D4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5A478-CA0D-4578-BEEC-A5EED28C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2DA4-7013-44CB-A9BB-2EDC8ABF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4A03-FCF3-4CF1-99A0-CB3D32F7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55F1-045B-463B-81D2-C34B985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086D-8294-4AB7-9ECD-7BAB9EF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9610-1AAD-4EC7-B551-61B4A10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CD4-995F-4C4F-9B8A-9BA1917D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EF1C-F9BF-4701-9366-96BB3085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88CC-AC58-4933-91CE-A6FE3CC3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A282A-DCF1-4CB3-A102-A043FF09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487B2-E7AD-4F17-B794-72FD75EB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6E9C3-B9EB-4032-8377-8D0409C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A17519-01E0-4C4F-9A20-C772310D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64794-2859-4B50-85BC-A75339A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50292-88EB-4A61-93EE-6C19D2D8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65EBD-5588-4FF3-A3F1-ABD5B79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1C698-70D1-4535-B830-050AAB9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43D-E11D-4BAB-9D8A-4A9FBE24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698C0-C2DC-4F80-B159-825C525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B0FE9-4D45-4488-9719-AB3470A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84D96-964A-44C4-B54A-03BBFEB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4B4CC-505A-4ED7-8A5A-122148B6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1E22E-60B1-47A4-B136-F3DFD606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5CEEC-731C-4E6F-AA27-19C74EBB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567E-4826-42AF-B703-8A016AAF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F9EB6-E634-448A-8F23-FED5746C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EDFB5-AC10-4657-9C5B-B135AF12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B744-9788-43E1-9DBD-82E9D47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F0D-A137-4CED-977D-15E2AE6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7722-BE30-4A58-9752-4B88AF6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1FD79-D168-443D-AD5F-F89B6B9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9BB7-947E-4F1B-BE1B-5694C55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E772-C9FB-46B8-96D4-5777C0C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4347B-AEE8-4D1B-BB5A-4171731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B4118-974E-44A6-AA5A-6D0B2790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F5D1C-5172-43A9-8668-9B7FC822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FCAC-D50A-43A5-A0FB-1AC293950434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9E16-C878-4127-8228-FFE83DB01402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1024-97EB-4EB6-A0CA-49409ED1D91A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F102-4474-499F-AFE8-1DED68C3CF19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425-229B-49D1-9CEE-33A2A6CC75A5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40A-3030-4F24-920D-2D34AC883AF1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B887-78AB-4975-A731-26EEEB0BDCCB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DBC-16D7-40CA-8C8D-2A4EEA3F2AB9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642960" y="21420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D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eminari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Diseño, construcción y pruebas de motor ciclo Stirling so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Auxili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929040" y="1714680"/>
            <a:ext cx="47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El aire se comporta como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La compresión y la expansión ocurren a temperatura constante (carreras 1-2 y 3-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Se puede utilizar hipótesis de que la presión máxima  ocurre en el menor volumen y mayor temperatura, y que la presión mínima ocurre en el punto de mayor volúmen y menor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1822320" cy="5004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23"/>
          <p:cNvGrpSpPr/>
          <p:nvPr/>
        </p:nvGrpSpPr>
        <p:grpSpPr>
          <a:xfrm>
            <a:off x="428760" y="2071800"/>
            <a:ext cx="3857400" cy="3354120"/>
            <a:chOff x="428760" y="2071800"/>
            <a:chExt cx="3857400" cy="3354120"/>
          </a:xfrm>
        </p:grpSpPr>
        <p:pic>
          <p:nvPicPr>
            <p:cNvPr id="392" name="Picture 2" descr=""/>
            <p:cNvPicPr/>
            <p:nvPr/>
          </p:nvPicPr>
          <p:blipFill>
            <a:blip r:embed="rId2"/>
            <a:srcRect l="61330" t="12751" r="2512" b="14392"/>
            <a:stretch/>
          </p:blipFill>
          <p:spPr>
            <a:xfrm>
              <a:off x="428760" y="2071800"/>
              <a:ext cx="385740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Straight Connector 7"/>
            <p:cNvSpPr/>
            <p:nvPr/>
          </p:nvSpPr>
          <p:spPr>
            <a:xfrm flipV="1">
              <a:off x="1285920" y="2714400"/>
              <a:ext cx="14256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9"/>
            <p:cNvSpPr/>
            <p:nvPr/>
          </p:nvSpPr>
          <p:spPr>
            <a:xfrm flipV="1">
              <a:off x="1285920" y="2928960"/>
              <a:ext cx="21420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11"/>
            <p:cNvSpPr/>
            <p:nvPr/>
          </p:nvSpPr>
          <p:spPr>
            <a:xfrm flipV="1">
              <a:off x="1214280" y="3142800"/>
              <a:ext cx="500040" cy="2142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3"/>
            <p:cNvSpPr/>
            <p:nvPr/>
          </p:nvSpPr>
          <p:spPr>
            <a:xfrm flipV="1">
              <a:off x="1285920" y="3429000"/>
              <a:ext cx="714240" cy="35712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5"/>
            <p:cNvSpPr/>
            <p:nvPr/>
          </p:nvSpPr>
          <p:spPr>
            <a:xfrm flipV="1">
              <a:off x="1500120" y="3643200"/>
              <a:ext cx="7855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7"/>
            <p:cNvSpPr/>
            <p:nvPr/>
          </p:nvSpPr>
          <p:spPr>
            <a:xfrm flipV="1">
              <a:off x="1928880" y="3857760"/>
              <a:ext cx="5713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9"/>
            <p:cNvSpPr/>
            <p:nvPr/>
          </p:nvSpPr>
          <p:spPr>
            <a:xfrm flipV="1">
              <a:off x="2357640" y="4071960"/>
              <a:ext cx="50004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22"/>
            <p:cNvSpPr/>
            <p:nvPr/>
          </p:nvSpPr>
          <p:spPr>
            <a:xfrm flipV="1">
              <a:off x="2643120" y="4214880"/>
              <a:ext cx="42840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24"/>
          <p:cNvSpPr/>
          <p:nvPr/>
        </p:nvSpPr>
        <p:spPr>
          <a:xfrm>
            <a:off x="171468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Procedimiento recomendado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dimensiones básicas del moto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os volúmenes máximo, mínimo y medio de la cámar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a masa de aire para una temperatura interna media (puede ser 60°C aprox.), R=287[J/(kg°k)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temperaturas máximas y mínimas, y calcular las presiones máximas y mínimas de acuerdo a los supuesto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el área al interior de la curva, con lo que se obtiene el trabajo en joule [Nm]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Hacer cálculos en hoja Excel para variar fácilmente los parámetros del motor (diámetro del pistón, largo de la carrera, dimensiones del cigüeñal, etc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Elementos básico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2" name="Picture 3" descr="mec_ciguenal-biela01.gif"/>
          <p:cNvPicPr/>
          <p:nvPr/>
        </p:nvPicPr>
        <p:blipFill>
          <a:blip r:embed="rId1"/>
          <a:stretch/>
        </p:blipFill>
        <p:spPr>
          <a:xfrm>
            <a:off x="142920" y="1785960"/>
            <a:ext cx="5019480" cy="3500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escapedos.gif"/>
          <p:cNvPicPr/>
          <p:nvPr/>
        </p:nvPicPr>
        <p:blipFill>
          <a:blip r:embed="rId2"/>
          <a:stretch/>
        </p:blipFill>
        <p:spPr>
          <a:xfrm>
            <a:off x="5286240" y="2214720"/>
            <a:ext cx="2881440" cy="3606480"/>
          </a:xfrm>
          <a:prstGeom prst="rect">
            <a:avLst/>
          </a:prstGeom>
          <a:ln w="0">
            <a:noFill/>
          </a:ln>
        </p:spPr>
      </p:pic>
      <p:cxnSp>
        <p:nvCxnSpPr>
          <p:cNvPr id="354" name="Straight Arrow Connector 6"/>
          <p:cNvCxnSpPr/>
          <p:nvPr/>
        </p:nvCxnSpPr>
        <p:spPr>
          <a:xfrm flipV="1">
            <a:off x="5000400" y="3643200"/>
            <a:ext cx="1215000" cy="64332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55" name="Straight Arrow Connector 8"/>
          <p:cNvCxnSpPr/>
          <p:nvPr/>
        </p:nvCxnSpPr>
        <p:spPr>
          <a:xfrm flipH="1">
            <a:off x="7000560" y="2571840"/>
            <a:ext cx="714960" cy="35784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56" name="TextBox 11"/>
          <p:cNvSpPr/>
          <p:nvPr/>
        </p:nvSpPr>
        <p:spPr>
          <a:xfrm>
            <a:off x="4429080" y="4357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778680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cilin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00040" y="550080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: desfase entre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 :  profundidad de las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splazador es un pistón que no realiza com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7778880" cy="33577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357120" y="57862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 sube comprimiendo el gas al interior de la cám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>
            <a:stCxn id="363" idx="1"/>
          </p:cNvCxnSpPr>
          <p:nvPr/>
        </p:nvCxnSpPr>
        <p:spPr>
          <a:xfrm flipH="1" flipV="1">
            <a:off x="1642320" y="2785320"/>
            <a:ext cx="857880" cy="23742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64" name="Straight Arrow Connector 9"/>
          <p:cNvCxnSpPr>
            <a:stCxn id="365" idx="1"/>
          </p:cNvCxnSpPr>
          <p:nvPr/>
        </p:nvCxnSpPr>
        <p:spPr>
          <a:xfrm flipH="1" flipV="1">
            <a:off x="1785960" y="4000320"/>
            <a:ext cx="643320" cy="16596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65" name="TextBox 12"/>
          <p:cNvSpPr/>
          <p:nvPr/>
        </p:nvSpPr>
        <p:spPr>
          <a:xfrm>
            <a:off x="2428920" y="542916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2500200" y="492912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despla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929720" cy="34225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baja, fluido se desplaza desde zona fría a zona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68200" y="1571760"/>
            <a:ext cx="8607600" cy="37144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y desplazador bajan, aumenta el volumen de la cámara, y baja la 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68200" y="1714680"/>
            <a:ext cx="8710560" cy="3759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sube, y el aire pasa de la zona caliente a la zona f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3072" t="5026" r="3755" b="4512"/>
          <a:stretch/>
        </p:blipFill>
        <p:spPr>
          <a:xfrm>
            <a:off x="1214280" y="1571760"/>
            <a:ext cx="6500880" cy="3857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214280" y="1714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650088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428760" y="5786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Movimiento discontinuo, imposible desde el punto de vista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959" t="12833" r="2939" b="5363"/>
          <a:stretch/>
        </p:blipFill>
        <p:spPr>
          <a:xfrm>
            <a:off x="1143000" y="1785960"/>
            <a:ext cx="6929280" cy="3643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785880" y="1643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715080" y="53578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428760" y="550080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e aproxima con dos sinusoidales, desfasadas en 9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827600" cy="42544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5357880" y="192888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Ciclo aproximado 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Área encerrada es menor, por lo que no se logra obtener el trabajo tot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23:41:07Z</dcterms:created>
  <dc:creator>wodan</dc:creator>
  <dc:description/>
  <dc:language>en-US</dc:language>
  <cp:lastModifiedBy>wodan</cp:lastModifiedBy>
  <dcterms:modified xsi:type="dcterms:W3CDTF">2007-08-21T04:05:21Z</dcterms:modified>
  <cp:revision>29</cp:revision>
  <dc:subject/>
  <dc:title>Slide 1</dc:title>
</cp:coreProperties>
</file>