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5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8BC-270C-4E6E-B2C9-D116BAC6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D739-CFFA-4E81-BFC3-466C27C0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FF7-3E80-4388-8FF1-C2EF9341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98A-7691-4A0D-A6B5-2296AAE8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030-FFC4-453D-A288-C80C173B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8BF-C8B4-461C-AD89-E24E54C2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88E-323B-4A52-8662-536CB236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336-F8F2-45E6-96A4-B4127F3E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B34F-1070-4DA2-8566-30B95AE2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EC7-F8AD-45DF-908F-CFD51F94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D48-3F35-4C3F-8C9A-03FBC1EA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A7D-C69A-4367-9DF9-45BFA8FF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8DA1-DDA7-4B79-A179-E7D7FE256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 optimizad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 Primavera 2007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mlienque@ing.uchile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1: Modos de operar una fer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ar una forma de optimizarl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-4 Clases Expos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6-7 Sesiones de labo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 Presentaciones de los alum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Trabajo en Equipo de 3 perso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ntregas de Informes escr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In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sentaciones Orales por cada In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Present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arrollo del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= 20%*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+2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3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0%*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i : Nota Infor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: Nota Presentaciones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219640" y="836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189000"/>
            <a:ext cx="6480360" cy="13816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eta del proye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ultivo de S. cerevisiae Biomasa X &gt; 25 g/L a las 40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859280" y="3213000"/>
            <a:ext cx="1720800" cy="223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Prototipos diseñados en semestres anteri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0000" y="573408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Células inmovi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566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86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 PREGUNTAS 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8120" y="30481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oducto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Biotecnológico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2133720" cy="1595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flipH="1" rot="10800000">
            <a:off x="3124080" y="2361960"/>
            <a:ext cx="2895840" cy="78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28600" y="1371600"/>
            <a:ext cx="2306520" cy="127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04920" y="762120"/>
            <a:ext cx="2152440" cy="133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781680" y="533520"/>
            <a:ext cx="1390680" cy="213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04920" y="3429000"/>
            <a:ext cx="198432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1676520" y="4952880"/>
            <a:ext cx="1447560" cy="1352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35280" y="6021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6588000" y="3789360"/>
            <a:ext cx="1459080" cy="2313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Productos Biotecnológic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os productos biotecnológicos pueden ser utilizados en diversas área: alimentos, farmacéutica, biocombustibles, compuestos para uso industrial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Tienen como característica en común su proceso de producción, en los cuales una de las principales etapas en la fermen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n este curso nos centraremos en diseñar un prototipo de fermentador que produzca una gran cantidad de bioma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129520" cy="603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68360" y="2421000"/>
            <a:ext cx="936720" cy="7207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8600" y="2133720"/>
          <a:ext cx="8915400" cy="34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25360"/>
            <a:ext cx="87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seño e implementación un proceso de producción de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421000"/>
            <a:ext cx="1440000" cy="2592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 Qué es un FERMENTADO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s aquel lugar donde ocurre la fermentación bajo condiciones controladas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a fermentación es un proceso mediante el cual ocurren reacciones químicas debido a la presencia de microorganismos o enzimas de éstos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Contenedor en el que se mantiene un medio ambiente favorable para la operación de un proceso biológico deseado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446200" y="27468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4046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squema de un fermen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572000" cy="2973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4038480" cy="3390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616572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173640" y="3141720"/>
            <a:ext cx="2605320" cy="3475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04000" y="602136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il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692280"/>
            <a:ext cx="24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jemplo de fermentadores a diferentes esca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 del diseñ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Que formas hay de operar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2557800" y="3106080"/>
            <a:ext cx="2621520" cy="2941200"/>
            <a:chOff x="2557800" y="3106080"/>
            <a:chExt cx="2621520" cy="2941200"/>
          </a:xfrm>
        </p:grpSpPr>
        <p:sp>
          <p:nvSpPr>
            <p:cNvPr id="78" name=""/>
            <p:cNvSpPr/>
            <p:nvPr/>
          </p:nvSpPr>
          <p:spPr>
            <a:xfrm rot="20403600">
              <a:off x="2916360" y="3357360"/>
              <a:ext cx="1904400" cy="24379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3002760" y="3357720"/>
              <a:ext cx="1818000" cy="243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Maria Elena Lienqueo</cp:lastModifiedBy>
  <dcterms:modified xsi:type="dcterms:W3CDTF">2007-07-24T21:14:52Z</dcterms:modified>
  <cp:revision>142</cp:revision>
  <dc:subject/>
  <dc:title>Sin título de diapositiva</dc:title>
</cp:coreProperties>
</file>