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279-DB30-48BA-AC34-4936BEE1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429-4098-4685-8013-9B3CACB3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C4A-6BAA-4C8C-94B1-EB0AC3AB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755-44D3-4611-9A1D-754E7764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EB1-0EE2-46A0-81A5-F3BC8E28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EC6-7FC8-4150-82F7-5A4B415F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E14-5604-4855-8F23-381CA8F0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C0B-0C2D-4AB7-BF48-F0E318F1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F29-2BE3-40B2-8574-5654D7C8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996-EC9A-4CDB-AC8B-781CCD3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AAA-6875-41D5-B165-188C0E5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13F-7BCF-49C7-8A77-50C1DA3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7FC5-5668-4FAA-AF1F-DDD276B24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PREGUNTAS 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6588000" y="3789360"/>
            <a:ext cx="1459080" cy="231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7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Maria Elena Lienqueo</cp:lastModifiedBy>
  <dcterms:modified xsi:type="dcterms:W3CDTF">2007-07-24T21:14:52Z</dcterms:modified>
  <cp:revision>142</cp:revision>
  <dc:subject/>
  <dc:title>Sin título de diapositiva</dc:title>
</cp:coreProperties>
</file>