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20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5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075-EC2B-4C8F-8536-23148D56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73B2-7AE7-4A36-A548-0D63439E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BF99-9DA1-4D38-B304-C2417C49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ABDC-248E-4A58-B08F-E2F0F7DC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3AA7-1315-4C69-B569-F4BE7551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E3F-8148-4CCF-B9DD-811000E8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173-377E-434D-8A36-313925F7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3DF-6580-41E5-BEA2-04F48B3E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AC6-8C74-4A14-A1DA-D909B5CD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272-5448-4239-8DF6-7ED633AB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98B-95C7-4E6B-B040-D1CCAAE9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F194-166C-4794-ACCD-C7C548AB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4352-104C-4FFD-9B37-CE607E2AE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 optimizad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SD20A- Primavera 2007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mlienque@ing.uchile.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1: Modos de operar una ferm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ar una forma de optimizarl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308720" y="2852640"/>
            <a:ext cx="1630440" cy="172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-4 Clases Expos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6-7 Sesiones de laborato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 Presentaciones de los alum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Trabajo en Equipo de 3 perso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ntregas de Informes escr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Infor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esentaciones Orales por cada Infor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Present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sarrollo del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= 20%*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+2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3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20%*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i : Nota Infor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: Nota Presentaciones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219640" y="8366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: x&gt;25 g/L a las 40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0"/>
          <a:ext cx="8064360" cy="652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0"/>
                    <a:ext cx="8064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 flipV="1">
            <a:off x="716436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184464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47640" y="189000"/>
            <a:ext cx="6480360" cy="13816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eta del proyec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ultivo de S. cerevisiae Biomasa X &gt; 25 g/L a las 40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859280" y="3213000"/>
            <a:ext cx="1720800" cy="223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Prototipos diseñados en semestres anteri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00000" y="573408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Células inmovi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48360" y="5661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86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 PREGUNTAS 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8120" y="304812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roducto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Biotecnológico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2133720" cy="1595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5760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flipH="1" rot="10800000">
            <a:off x="3124080" y="2361960"/>
            <a:ext cx="2895840" cy="787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28600" y="1371600"/>
            <a:ext cx="2306520" cy="1276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04920" y="762120"/>
            <a:ext cx="2152440" cy="1330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781680" y="533520"/>
            <a:ext cx="1390680" cy="2135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04920" y="3429000"/>
            <a:ext cx="198432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1676520" y="4952880"/>
            <a:ext cx="1447560" cy="1352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35280" y="6021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6588000" y="3789360"/>
            <a:ext cx="1459080" cy="2313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Productos Biotecnológic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os productos biotecnológicos pueden ser utilizados en diversas área: alimentos, farmacéutica, biocombustibles, compuestos para uso industrial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Tienen como característica en común su proceso de producción, en los cuales una de las principales etapas en la ferment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n este curso nos centraremos en diseñar un prototipo de fermentador que produzca una gran cantidad de bioma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129520" cy="6032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68360" y="2421000"/>
            <a:ext cx="936720" cy="7207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28600" y="2133720"/>
          <a:ext cx="8915400" cy="34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133720"/>
                    <a:ext cx="891540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25360"/>
            <a:ext cx="87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iseño e implementación un proceso de producción de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421000"/>
            <a:ext cx="1440000" cy="2592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 Qué es un FERMENTADOR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s aquel lugar donde ocurre la fermentación bajo condiciones controladas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a fermentación es un proceso mediante el cual ocurren reacciones químicas debido a la presencia de microorganismos o enzimas de éstos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Contenedor en el que se mantiene un medio ambiente favorable para la operación de un proceso biológico deseado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446200" y="27468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40464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Esquema de un fermen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572000" cy="2973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28600" y="3429000"/>
            <a:ext cx="4038480" cy="3390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56000" y="616572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173640" y="3141720"/>
            <a:ext cx="2605320" cy="3475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04000" y="602136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il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692280"/>
            <a:ext cx="244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Ejemplo de fermentadores a diferentes esca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 del diseñ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Que formas hay de operar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 bat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2557800" y="3106080"/>
            <a:ext cx="2621520" cy="2941200"/>
            <a:chOff x="2557800" y="3106080"/>
            <a:chExt cx="2621520" cy="2941200"/>
          </a:xfrm>
        </p:grpSpPr>
        <p:sp>
          <p:nvSpPr>
            <p:cNvPr id="78" name=""/>
            <p:cNvSpPr/>
            <p:nvPr/>
          </p:nvSpPr>
          <p:spPr>
            <a:xfrm rot="20403600">
              <a:off x="2916360" y="3357360"/>
              <a:ext cx="1904400" cy="24379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3002760" y="3357720"/>
              <a:ext cx="1818000" cy="2437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Maria Elena Lienqueo</cp:lastModifiedBy>
  <dcterms:modified xsi:type="dcterms:W3CDTF">2007-07-24T21:14:52Z</dcterms:modified>
  <cp:revision>142</cp:revision>
  <dc:subject/>
  <dc:title>Sin título de diapositiva</dc:title>
</cp:coreProperties>
</file>