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0DA-93A8-458B-9136-6E5B0C20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C4D-8A3F-4CE3-B2C3-8CFF6D47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77C-463D-4569-B25E-A01A1DB2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833-6126-40CD-9DC1-01CD1967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642-BE12-4947-83AC-CAC31F38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878-4BFB-43C2-9969-9B148F03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4A0-3258-4219-BA7B-0A6266D8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A96-8287-4228-8419-F9EBD247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891-4376-4C3F-B7AD-AF5168F4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B4F-9AB7-4FA0-A642-65A96342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18A-3C09-4A0C-8594-0529F35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786-9E55-467B-8A96-99938EA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2C1-6060-4F1E-B68A-C1CDCE7D2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PREGUNTAS 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6588000" y="3789360"/>
            <a:ext cx="1459080" cy="231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7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Maria Elena Lienqueo</cp:lastModifiedBy>
  <dcterms:modified xsi:type="dcterms:W3CDTF">2007-07-24T21:14:52Z</dcterms:modified>
  <cp:revision>142</cp:revision>
  <dc:subject/>
  <dc:title>Sin título de diapositiva</dc:title>
</cp:coreProperties>
</file>