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wmf" ContentType="image/x-wmf"/>
  <Override PartName="/ppt/media/image3.png" ContentType="image/pn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jpeg" ContentType="image/jpeg"/>
  <Override PartName="/ppt/media/image6.png" ContentType="image/png"/>
  <Override PartName="/ppt/media/image21.jpeg" ContentType="image/jpeg"/>
  <Override PartName="/ppt/media/image16.png" ContentType="image/png"/>
  <Override PartName="/ppt/media/image20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wmf" ContentType="image/x-wmf"/>
  <Override PartName="/ppt/media/image15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35FE-6B98-4581-8045-D97F03C79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A93D-86E1-4254-ADA9-9D8131DE6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86CD-EB99-405D-91CB-4062CEA5B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03AA-6D55-45F1-B8B5-14D20F07B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A0D-E7AF-4777-91A3-5F23B2140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FDCB-16C3-4324-B628-ED8BF45F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27D5-CE04-4971-A287-94BB99D5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3140-9FEC-4E66-81A5-0E758DF2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E50E-6666-4035-AA3E-232E709D2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DC60-0C13-4AF7-9080-19650E7B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5268-4674-485F-B681-A1F536E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81F0-786C-4727-B246-C0B0AF8F9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86D87-0884-4EAF-B44F-57162A197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36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SD20A- Primavera 2007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8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1: Modos de operar una fermentació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d-b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élulas inmoviliz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de perfus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Cultivos en seri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38080" indent="-380880">
              <a:lnSpc>
                <a:spcPct val="100000"/>
              </a:lnSpc>
              <a:spcBef>
                <a:spcPts val="451"/>
              </a:spcBef>
              <a:buClr>
                <a:srgbClr val="ffff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Fermentación en estado sóli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señar una forma de optimizarl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2: Propuestas de forma de optimizar una ferment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HACER UN PROTOTIPO DE LA FORMA OPTIMIZAD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 3: EL PROTOTIP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308720" y="2852640"/>
            <a:ext cx="1630440" cy="17272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4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-4 Clases Expositiv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6-7 Sesiones de laborator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3 Presentaciones de los alumn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Trabajo en Equipo de 3 person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ntregas de Informes escrit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Inform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Presentaciones Orales por cada Infor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3 Presenta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Desarrollo del prototip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f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= 20%*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1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+2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35% Ni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3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 + 20%*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i : Nota Infor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N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p</a:t>
            </a:r>
            <a:r>
              <a:rPr b="0" lang="es-ES_tradnl" sz="2400" spc="-1" strike="noStrike" baseline="-25000">
                <a:solidFill>
                  <a:srgbClr val="ffff00"/>
                </a:solidFill>
                <a:latin typeface="Tahoma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ffff00"/>
                </a:solidFill>
                <a:latin typeface="Tahoma"/>
                <a:ea typeface="Times New Roman"/>
              </a:rPr>
              <a:t>: Nota Presentaciones</a:t>
            </a:r>
            <a:r>
              <a:rPr b="0" lang="es-E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30492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Forma de trabaj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219640" y="836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ta: x&gt;25 g/L a las 40 h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0"/>
          <a:ext cx="8064360" cy="6524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0"/>
                    <a:ext cx="806436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 flipV="1">
            <a:off x="7164360" y="1844640"/>
            <a:ext cx="0" cy="388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42920" y="1844640"/>
            <a:ext cx="61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47640" y="189000"/>
            <a:ext cx="6480360" cy="138168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eta del proyec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ultivo de S. cerevisiae Biomasa X &gt; 25 g/L a las 40 h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4859280" y="3213000"/>
            <a:ext cx="1720800" cy="2239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Arial Black"/>
              </a:rPr>
              <a:t>Prototipos diseñados en semestres anterio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900000" y="5734080"/>
            <a:ext cx="302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Células inmovi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48360" y="566100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Fed-Ba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862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PREGUNTAS 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8120" y="3048120"/>
            <a:ext cx="3200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roducto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 Biotecnológico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352680" y="457200"/>
            <a:ext cx="2133720" cy="1595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657600" y="41911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flipH="1" rot="10800000">
            <a:off x="3124080" y="2361960"/>
            <a:ext cx="2895840" cy="787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2306520" cy="12762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304920" y="762120"/>
            <a:ext cx="2152440" cy="1330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781680" y="533520"/>
            <a:ext cx="1390680" cy="21351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304920" y="3429000"/>
            <a:ext cx="1984320" cy="3124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1676520" y="4952880"/>
            <a:ext cx="1447560" cy="1352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635280" y="60213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88000" y="3789360"/>
            <a:ext cx="1459080" cy="2313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Productos Biotecnológic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os productos biotecnológicos pueden ser utilizados en diversas área: alimentos, farmacéutica, biocombustibles, compuestos para uso industrial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Tienen como característica en común su proceso de producción, en los cuales una de las principales etapas en la ferment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n este curso nos centraremos en diseñar un prototipo de fermentador que produzca una gran cantidad de bioma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8360" y="476280"/>
            <a:ext cx="8129520" cy="60325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2421000"/>
            <a:ext cx="936720" cy="72072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228600" y="2133720"/>
          <a:ext cx="8915400" cy="340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2133720"/>
                    <a:ext cx="8915400" cy="34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125360"/>
            <a:ext cx="879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iseño e implementación un proceso de producción de bio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1000"/>
            <a:ext cx="1440000" cy="2592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¿ Qué es un FERMENTADOR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Es aquel lugar donde ocurre la fermentación bajo condiciones controladas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la fermentación es un proceso mediante el cual ocurren reacciones químicas debido a la presencia de microorganismos o enzimas de ést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tenedor en el que se mantiene un medio ambiente favorable para la operación de un proceso biológico deseado.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446200" y="274680"/>
            <a:ext cx="6697800" cy="658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404640"/>
            <a:ext cx="280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squema de un 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572000" cy="2973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038480" cy="33908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56000" y="616572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173640" y="3141720"/>
            <a:ext cx="2605320" cy="3475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804000" y="6021360"/>
            <a:ext cx="1828800" cy="459720"/>
          </a:xfrm>
          <a:prstGeom prst="rect">
            <a:avLst/>
          </a:pr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il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80000" y="692280"/>
            <a:ext cx="24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Ejemplo de fermentadores a diferentes esca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Etapas del diseñ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70675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Comprender en que consiste una ferment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Que formas hay de operarl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Comic Sans MS"/>
              </a:rPr>
              <a:t>Laboratorio para hacer una fermentación batc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775640" y="0"/>
            <a:ext cx="993600" cy="16286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2557800" y="3106080"/>
            <a:ext cx="2621520" cy="2941200"/>
            <a:chOff x="2557800" y="3106080"/>
            <a:chExt cx="2621520" cy="2941200"/>
          </a:xfrm>
        </p:grpSpPr>
        <p:sp>
          <p:nvSpPr>
            <p:cNvPr id="78" name=""/>
            <p:cNvSpPr/>
            <p:nvPr/>
          </p:nvSpPr>
          <p:spPr>
            <a:xfrm rot="20403600">
              <a:off x="2916360" y="3357360"/>
              <a:ext cx="1904400" cy="2437920"/>
            </a:xfrm>
            <a:prstGeom prst="rect">
              <a:avLst/>
            </a:prstGeom>
            <a:solidFill>
              <a:srgbClr val="cc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3"/>
            <a:stretch/>
          </p:blipFill>
          <p:spPr>
            <a:xfrm>
              <a:off x="3002760" y="3357720"/>
              <a:ext cx="1818000" cy="24379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Maria Elena Lienqueo</cp:lastModifiedBy>
  <dcterms:modified xsi:type="dcterms:W3CDTF">2007-07-24T21:14:52Z</dcterms:modified>
  <cp:revision>142</cp:revision>
  <dc:subject/>
  <dc:title>Sin título de diapositiva</dc:title>
</cp:coreProperties>
</file>