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26F9-1898-4D90-86C9-41B524A1B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DF2D-1BC9-4A61-A01D-D161D9D74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FC6E-5253-4439-B559-BB01462D6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735B-526A-45BA-B5AC-05FF04435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561A-5497-48DF-9917-3F593FAB6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5C8F-7304-468D-8A58-E523493AE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210C-E40D-4A5F-BB33-71D002B19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5F4D-59F2-428E-85D5-8C695D4DD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9C1A-10F3-4755-B4BF-240BDA8D4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5BAC-34A3-4779-8876-AAF2A75B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9E61-AAD2-4E1C-8B69-56DDC286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2E39-BE88-48C5-826C-D64379D6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17CBB-3B64-4EDE-978D-F2CF6B638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SICOQUIMICA DE PROCESOS METALURG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lase Nº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- Estructura de Silicatos Líqu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Óxidos básicos: rompedor de red, depolimeriz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, Mg, Na, K, Li, 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Óxido ácido: formador de red, polimeriz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, Pb, B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alta razón entre carga/radi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nfótero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l, Ti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hacen lo opuesto al amb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rcRect l="0" t="0" r="0" b="6245"/>
          <a:stretch/>
        </p:blipFill>
        <p:spPr>
          <a:xfrm>
            <a:off x="755640" y="136440"/>
            <a:ext cx="5559480" cy="61722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826920" y="6237360"/>
            <a:ext cx="7201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erficies de saturación para algunos sistemas binarios de silic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195640" y="4653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95640" y="4149720"/>
            <a:ext cx="14414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os eficiente en romper la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5084640"/>
            <a:ext cx="11527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Óxidos monoval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71640" y="3500280"/>
            <a:ext cx="11527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Óxidos dival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os de oxígeno en escor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-enlazado, carga doble, “libre”. 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lace simple, carga unitaria, “terminal” o “non-bridging”, 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blemente enlazado, sin carga, “bridging”, 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371016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tres tipos de oxígeno deben estar en equilibr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11280" y="4381560"/>
                <a:ext cx="191772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111640" y="4137120"/>
                <a:ext cx="161316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O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O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−</m:t>
                                </m:r>
                              </m:sup>
                            </m:sSup>
                          </m:e>
                        </m:d>
                      </m:num>
                      <m:den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t xml:space="preserve">O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565360" y="5183280"/>
                <a:ext cx="40132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ΔG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5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539640" y="579924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valor d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depende de los cationes presentes en el líquido y en la temperatura. Para óxidos altamente básicos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Para óxidos menos básicos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iene valores may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865160" y="1339920"/>
            <a:ext cx="5413680" cy="46814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39640" y="5956200"/>
            <a:ext cx="7993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centraciones de equilibrio de (O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), (O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) y (O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) en función de N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SiO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para k=0 (modelo de Toops &amp; Sam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35194" t="0" r="0" b="6571"/>
          <a:stretch/>
        </p:blipFill>
        <p:spPr>
          <a:xfrm>
            <a:off x="1403280" y="1728720"/>
            <a:ext cx="6134040" cy="32353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39640" y="5084640"/>
            <a:ext cx="7993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centraciones de equilibrio de (O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), (O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) y (O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) en función de N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SiO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para k=0.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rcRect l="3148" t="4075" r="33829" b="5137"/>
          <a:stretch/>
        </p:blipFill>
        <p:spPr>
          <a:xfrm>
            <a:off x="468360" y="1544760"/>
            <a:ext cx="5111640" cy="45147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580000" y="1773360"/>
            <a:ext cx="2952720" cy="37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ergía libre de mezcla de silicatos calculada para varios valores de 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írculos abiertos corresponden a valores medidos de energía libre de mezcla integral para PbO y Si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a 1100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írculos cerrados, corresponden a valores calculados para CaO-SiO2 a 1600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os Termodinámico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75076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o de solución reg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o de mezcla id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os relacionados a estruc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40440" y="1171440"/>
            <a:ext cx="634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idades calculadas en base a modelos de so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5300640"/>
            <a:ext cx="813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f: E. T. Turkdogan, “Physicochemical properties of molten slags and glasses”, The Metal Society, London, 1983, capítulo 3, pp. 142-1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ructura de Silic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unidad fundamental: tetraedro de síl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e de 4 átomos (o iones) de O alrededor de un pequeño átomo de S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da oxígeno en los vértices del tetraedro tiene una valencia resid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da grupo (tetraedro) tiene 4 cargas negati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tetraedros pueden compartir vértices, pero no lados con ot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52080" y="17208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4+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: 0.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68280" y="249228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: 1.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86200" y="2205000"/>
            <a:ext cx="1461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4140000" y="1557360"/>
            <a:ext cx="718920" cy="79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59280" y="1557360"/>
            <a:ext cx="720720" cy="79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140360" y="2349360"/>
            <a:ext cx="718920" cy="64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4859280" y="2349360"/>
            <a:ext cx="719280" cy="719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140360" y="234936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859280" y="155736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43280" y="1341360"/>
            <a:ext cx="4334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24360" y="2131920"/>
            <a:ext cx="4334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64000" y="2131920"/>
            <a:ext cx="4334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43280" y="2781360"/>
            <a:ext cx="4334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71640" y="372420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s átomos de O forman una red casi cerrada (close packed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43280" y="5013360"/>
            <a:ext cx="1461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00360" y="4581360"/>
            <a:ext cx="4334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411280" y="5013360"/>
            <a:ext cx="4334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86200" y="5013360"/>
            <a:ext cx="4334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16360" y="4797360"/>
            <a:ext cx="287280" cy="43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27280" y="5229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626920" y="4797360"/>
            <a:ext cx="289080" cy="43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quema del tetraedr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5013360"/>
            <a:ext cx="1461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3440" y="4581360"/>
            <a:ext cx="4334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84720" y="5013360"/>
            <a:ext cx="4334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59280" y="5013360"/>
            <a:ext cx="4334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789440" y="4797360"/>
            <a:ext cx="287280" cy="43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00720" y="5229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500720" y="4797360"/>
            <a:ext cx="288720" cy="43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4870440"/>
            <a:ext cx="4334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ructura de Silic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Si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cristalina, los grupos de tetraedros se distribuyen en arreglos regulares, compartiendo todos sus vért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6360" y="6021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. 1a: vista en 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0" t="0" r="0" b="5693"/>
          <a:stretch/>
        </p:blipFill>
        <p:spPr>
          <a:xfrm>
            <a:off x="1692360" y="3284640"/>
            <a:ext cx="2146320" cy="23907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724360" y="3573360"/>
            <a:ext cx="280836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sustancia formada tiene la formula estequimétrica Si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ructura de Silic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Si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fundida o vítrea, todas o casi todas las esquinas permanecen compartidas. Sin embargo, con alguna distors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76360" y="6021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. 1b: vista en 2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475080" y="3022560"/>
            <a:ext cx="2193840" cy="29988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724360" y="3573360"/>
            <a:ext cx="2808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a viscos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orden de corto rango no se ha roto. A largo rango se ha desordenado o desaparec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rcRect l="7515" t="4675" r="9180" b="9228"/>
          <a:stretch/>
        </p:blipFill>
        <p:spPr>
          <a:xfrm>
            <a:off x="1258920" y="3284640"/>
            <a:ext cx="15843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ructura de Silic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 agregar un óxido bás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71640" y="602136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. 2: vista en 2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71640" y="558972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a2O </a:t>
            </a: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monoval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24228" t="0" r="22557" b="14578"/>
          <a:stretch/>
        </p:blipFill>
        <p:spPr>
          <a:xfrm>
            <a:off x="1042920" y="2133720"/>
            <a:ext cx="2374920" cy="3311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564000" y="2205000"/>
            <a:ext cx="4824360" cy="24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uando un óxido metálico se agrega a Si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fundido, los iones de oxígeno desde el óxido agregado se unen al tetraedro de sílice, por lo que una esquina compartida se libera en cada punto en que se agrega oxíge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da átomo de O agregado, tiene una carga negativa, por lo que el catión metálico permanece cerca del quieb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ructura de Silic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 agregar un óxido bás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6021360"/>
            <a:ext cx="41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. 3: rompimiento parcial de la 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58920" y="5157720"/>
            <a:ext cx="280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isminuye viscos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O </a:t>
            </a: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dival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0" t="5482" r="1579" b="7054"/>
          <a:stretch/>
        </p:blipFill>
        <p:spPr>
          <a:xfrm>
            <a:off x="539640" y="2565360"/>
            <a:ext cx="3456000" cy="2303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067280" y="2205000"/>
            <a:ext cx="432108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 este caso, un óxido divalente es agregado, por lo que debe compartir dos vértices en la 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fuerte enlace covalente es reemplazado por un enlace iónico menos fuer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-O-Si + CaO = Si-O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Si + Ca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9280" y="2205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-polimeriza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ructura de Silic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 aumentar aún más la cantidad de un óxido bás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42920" y="602136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. 3: rompimiento total de la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24360" y="2349360"/>
            <a:ext cx="280836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minuye drásticamente la viscos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red se rompe casi total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arecen tetraedros individu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arecen oxígenos “libr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4472"/>
          <a:stretch/>
        </p:blipFill>
        <p:spPr>
          <a:xfrm>
            <a:off x="1187280" y="2492280"/>
            <a:ext cx="387684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: en siderurgia, en procesos de desulfurización y defosforización, se requiere la presencia de oxígenos libres en la red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escorias bás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debe aumentar la capacidad de S y P (capacidad de retener S o P en la escor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a que los iones de S y P son muy grandes, no se van a introducir en la red, necesitan los oxígenos libre (para reemplaz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3T13:53:09Z</dcterms:created>
  <dc:creator>Tanai Marin</dc:creator>
  <dc:description/>
  <dc:language>en-US</dc:language>
  <cp:lastModifiedBy>Tanai Marin</cp:lastModifiedBy>
  <dcterms:modified xsi:type="dcterms:W3CDTF">2006-11-21T13:43:31Z</dcterms:modified>
  <cp:revision>16</cp:revision>
  <dc:subject/>
  <dc:title>FISICOQUIMICA DE PROCESOS METALURGICOS</dc:title>
</cp:coreProperties>
</file>