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8AF-6240-4C8D-9BBE-3D263186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7BD-F699-459B-B5E1-4ED089BD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29D-3071-4BAB-84D8-788AEACE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0FA-B6CB-4B1D-A52A-790A3185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D7F-FC73-4F67-9692-765AB4D6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613-00AF-4274-A0B1-D9B8BAE0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EBD-65F4-4BFA-8631-67F4409B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033-4E3A-4EB0-A34A-8B90CC4E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9B0-CD08-4C84-A67F-234E5103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3B3E-67A1-44EC-B2D7-1CBDF0F2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936-EE94-453A-A4A9-0FB173DE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EA8-8050-4662-BD40-F00D4D54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BCC4-F0F3-4240-92B1-B15CBC518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SICOQUIMICA DE PROCESOS METALUR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Nº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- Estructura de Silicatos Líqu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xidos básicos: rompedor de red, depolimer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, Mg, Na, K, Li, 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xido ácido: formador de red, polimer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, Pb, B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alta razón entre carga/rad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fóter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, Ti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hacen lo opuesto al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6245"/>
          <a:stretch/>
        </p:blipFill>
        <p:spPr>
          <a:xfrm>
            <a:off x="755640" y="136440"/>
            <a:ext cx="5559480" cy="617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6237360"/>
            <a:ext cx="720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ficies de saturación para algunos sistemas binarios de sil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95640" y="465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4149720"/>
            <a:ext cx="14414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os eficiente en romper la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5084640"/>
            <a:ext cx="1152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xidos mono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3500280"/>
            <a:ext cx="1152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xidos d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oxígeno en esc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enlazado, carga doble, “libre”.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ace simple, carga unitaria, “terminal” o “non-bridging”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lemente enlazado, sin carga, “bridging”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710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tres tipos de oxígeno deben estar en equilib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11280" y="4381560"/>
                <a:ext cx="1917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11640" y="4137120"/>
                <a:ext cx="161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65360" y="5183280"/>
                <a:ext cx="401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5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39640" y="57992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valor 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pende de los cationes presentes en el líquido y en la temperatura. Para óxidos altamente básico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Para óxidos menos básico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ene valores may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65160" y="1339920"/>
            <a:ext cx="5413680" cy="4681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9640" y="5956200"/>
            <a:ext cx="79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entraciones de equilibrio de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,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y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en función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iO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k=0 (modelo de Toops &amp; Sam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35194" t="0" r="0" b="6571"/>
          <a:stretch/>
        </p:blipFill>
        <p:spPr>
          <a:xfrm>
            <a:off x="1403280" y="1728720"/>
            <a:ext cx="6134040" cy="3235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5084640"/>
            <a:ext cx="79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entraciones de equilibrio de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,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y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en función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iO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k=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148" t="4075" r="33829" b="5137"/>
          <a:stretch/>
        </p:blipFill>
        <p:spPr>
          <a:xfrm>
            <a:off x="468360" y="1544760"/>
            <a:ext cx="5111640" cy="4514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80000" y="1773360"/>
            <a:ext cx="29527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ergía libre de mezcla de silicatos calculada para varios valores de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abiertos corresponden a valores medidos de energía libre de mezcla integral para PbO y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 110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cerrados, corresponden a valores calculados para CaO-SiO2 a 160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s Termodinámic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7507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solución re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mezcla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s relacionados a estru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0440" y="1171440"/>
            <a:ext cx="634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dades calculadas en base a modelos de 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530064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: E. T. Turkdogan, “Physicochemical properties of molten slags and glasses”, The Metal Society, London, 1983, capítulo 3, pp. 142-1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nidad fundamental: tetraedro de sí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 de 4 átomos (o iones) de O alrededor de un pequeño átomo de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oxígeno en los vértices del tetraedro tiene una valencia res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grupo (tetraedro) tiene 4 cargas neg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tetraedros pueden compartir vértices, pero no lados con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2080" y="1720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0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68280" y="2492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1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6200" y="220500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140000" y="1557360"/>
            <a:ext cx="71892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55736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2349360"/>
            <a:ext cx="71892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859280" y="234936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349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155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134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213192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213192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781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7242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átomos de O forman una red casi cerrada (close pack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458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620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4797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626920" y="479736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quema del tetraedr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3440" y="458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9440" y="4797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522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500720" y="479736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87044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Si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ristalina, los grupos de tetraedros se distribuyen en arreglos regulares, compartiendo todos sus vér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1a: vista en 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0" b="5693"/>
          <a:stretch/>
        </p:blipFill>
        <p:spPr>
          <a:xfrm>
            <a:off x="1692360" y="3284640"/>
            <a:ext cx="2146320" cy="2390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24360" y="3573360"/>
            <a:ext cx="2808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ustancia formada tiene la formula estequimétrica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Si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dida o vítrea, todas o casi todas las esquinas permanecen compartidas. Sin embargo, con alguna disto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1b: vista e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75080" y="3022560"/>
            <a:ext cx="2193840" cy="299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24360" y="3573360"/>
            <a:ext cx="280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orden de corto rango no se ha roto. A largo rango se ha desordenado o desapare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7515" t="4675" r="9180" b="9228"/>
          <a:stretch/>
        </p:blipFill>
        <p:spPr>
          <a:xfrm>
            <a:off x="1258920" y="3284640"/>
            <a:ext cx="1584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gregar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6021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2: vista e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5589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2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mono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24228" t="0" r="22557" b="14578"/>
          <a:stretch/>
        </p:blipFill>
        <p:spPr>
          <a:xfrm>
            <a:off x="1042920" y="2133720"/>
            <a:ext cx="2374920" cy="3311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64000" y="2205000"/>
            <a:ext cx="482436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un óxido metálico se agrega a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fundido, los iones de oxígeno desde el óxido agregado se unen al tetraedro de sílice, por lo que una esquina compartida se libera en cada punto en que se agrega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átomo de O agregado, tiene una carga negativa, por lo que el catión metálico permanece cerca del quie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gregar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602136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3: rompimiento parcial de l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515772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minuye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i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5482" r="1579" b="7054"/>
          <a:stretch/>
        </p:blipFill>
        <p:spPr>
          <a:xfrm>
            <a:off x="539640" y="256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67280" y="2205000"/>
            <a:ext cx="432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este caso, un óxido divalente es agregado, por lo que debe compartir dos vértices en l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fuerte enlace covalente es reemplazado por un enlace iónico menos fue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-O-Si + CaO = Si-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Si + 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20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-polimer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umentar aún más la cantidad de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602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3: rompimiento total de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2349360"/>
            <a:ext cx="2808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ye drásticamente la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d se rompe casi tot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ecen tetraedros indiv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ecen oxígenos “lib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4472"/>
          <a:stretch/>
        </p:blipFill>
        <p:spPr>
          <a:xfrm>
            <a:off x="1187280" y="2492280"/>
            <a:ext cx="3876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: en siderurgia, en procesos de desulfurización y defosforización, se requiere la presencia de oxígenos libres en la red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corias bás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be aumentar la capacidad de S y P (capacidad de retener S o P en la esco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a que los iones de S y P son muy grandes, no se van a introducir en la red, necesitan los oxígenos libre (para reempla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3:53:09Z</dcterms:created>
  <dc:creator>Tanai Marin</dc:creator>
  <dc:description/>
  <dc:language>en-US</dc:language>
  <cp:lastModifiedBy>Tanai Marin</cp:lastModifiedBy>
  <dcterms:modified xsi:type="dcterms:W3CDTF">2006-11-21T13:43:31Z</dcterms:modified>
  <cp:revision>16</cp:revision>
  <dc:subject/>
  <dc:title>FISICOQUIMICA DE PROCESOS METALURGICOS</dc:title>
</cp:coreProperties>
</file>